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2D9A92-1439-495C-9086-DE0F40EFB2C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2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38BC4C-B1A6-4C42-9948-B25D84B4866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3327" name="PlaceHolder 2"/>
          <p:cNvSpPr>
            <a:spLocks noGrp="1"/>
          </p:cNvSpPr>
          <p:nvPr>
            <p:ph type="body"/>
          </p:nvPr>
        </p:nvSpPr>
        <p:spPr>
          <a:xfrm>
            <a:off x="659880" y="4722480"/>
            <a:ext cx="5551560" cy="39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8A43F2-2A6F-41BB-AF94-EC1C1FFAE00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PlaceHolder 1"/>
          <p:cNvSpPr>
            <a:spLocks noGrp="1"/>
          </p:cNvSpPr>
          <p:nvPr>
            <p:ph type="sldImg"/>
          </p:nvPr>
        </p:nvSpPr>
        <p:spPr>
          <a:xfrm>
            <a:off x="1155600" y="70488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3333" name="PlaceHolder 2"/>
          <p:cNvSpPr>
            <a:spLocks noGrp="1"/>
          </p:cNvSpPr>
          <p:nvPr>
            <p:ph type="body"/>
          </p:nvPr>
        </p:nvSpPr>
        <p:spPr>
          <a:xfrm>
            <a:off x="659880" y="4722480"/>
            <a:ext cx="5551560" cy="39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sldImg"/>
          </p:nvPr>
        </p:nvSpPr>
        <p:spPr>
          <a:xfrm>
            <a:off x="1122480" y="67788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3319" name="PlaceHolder 2"/>
          <p:cNvSpPr>
            <a:spLocks noGrp="1"/>
          </p:cNvSpPr>
          <p:nvPr>
            <p:ph type="body"/>
          </p:nvPr>
        </p:nvSpPr>
        <p:spPr>
          <a:xfrm>
            <a:off x="893880" y="4363920"/>
            <a:ext cx="507024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categorization means better search, cross-link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ter search, cross-linkages means increased user value, vis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visits and better categorization/search (I.e., mapping to what is appropriate and finding what is appropriate) means more and more accurate sales l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f the above means more actual transactions and then satisfied custom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6D6D-37D6-4900-A87F-3D8F07075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60" y="384804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83EA-0840-41B5-A90B-D9CD3C5D5A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840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D67E-936E-4257-BA5D-3DF637BA2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9572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5856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9572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C53D-CAE9-43B3-A461-2901E7739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93A3-97CF-4AC0-8D3A-A4684F1828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6382-9ECC-4A5E-B8BD-1E08C7CF30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6C9FC-E675-4BC2-9872-A5EBA60FEE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25B6-D6DE-435D-9ABB-88C6100E78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2689E-37EE-4060-89BA-8F8762ECB8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CC999-2C48-4D34-913B-14A118C34C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E352-B7B8-404F-83D6-1C8AE57E3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6090-E37C-4F93-B4FA-BEAF54D69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5840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66C76-3CD4-45D0-A441-312C5FC44D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D09F-F265-4838-8C34-F4BAC520DD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8560" y="384804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40B5-9128-4208-8EE7-3FFD92A2B5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5840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CBEA-FDC5-444D-9E3E-02BBE2F3D4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9572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3240" y="158256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856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9572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3240" y="3848040"/>
            <a:ext cx="270180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1E95-FF30-4BFA-95FA-CFA0F374C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BE6C-1B0A-45C4-8BC7-4DC89CDDA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934C3-54B0-4453-9071-52AC6FDFA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4FBE-CF95-4292-99B6-7BFEF2BE7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880" y="75960"/>
            <a:ext cx="8420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67A9-4ABE-433F-8F7B-B6A818C00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D451-A137-4E57-B673-DA6701333C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8400" y="384804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0A22-1935-4340-8E61-ED6AA8BF3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8400" y="1582560"/>
            <a:ext cx="40946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8560" y="3848040"/>
            <a:ext cx="8391240" cy="2068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C766-7A0B-4849-83DB-12FC31E57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4000"/>
          </a:bodyPr>
          <a:p>
            <a:pPr marL="292320" indent="-2923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3960" indent="-2340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75600" indent="-193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66560" indent="-1951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757880" indent="-195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757880" indent="-195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757880" indent="-195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91520" y="6523200"/>
            <a:ext cx="1751040" cy="334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fld id="{C3A8C8DF-453A-484C-8782-F5E5D742F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880" y="1371600"/>
            <a:ext cx="838224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259840" y="142920"/>
            <a:ext cx="709200" cy="185760"/>
            <a:chOff x="8259840" y="142920"/>
            <a:chExt cx="709200" cy="185760"/>
          </a:xfrm>
        </p:grpSpPr>
        <p:sp>
          <p:nvSpPr>
            <p:cNvPr id="5" name=""/>
            <p:cNvSpPr/>
            <p:nvPr/>
          </p:nvSpPr>
          <p:spPr>
            <a:xfrm>
              <a:off x="8259840" y="142920"/>
              <a:ext cx="247320" cy="185760"/>
            </a:xfrm>
            <a:custGeom>
              <a:avLst/>
              <a:gdLst/>
              <a:ahLst/>
              <a:rect l="l" t="t" r="r" b="b"/>
              <a:pathLst>
                <a:path w="1875" h="1403">
                  <a:moveTo>
                    <a:pt x="298" y="1403"/>
                  </a:moveTo>
                  <a:lnTo>
                    <a:pt x="475" y="520"/>
                  </a:lnTo>
                  <a:lnTo>
                    <a:pt x="820" y="1403"/>
                  </a:lnTo>
                  <a:lnTo>
                    <a:pt x="1045" y="1403"/>
                  </a:lnTo>
                  <a:lnTo>
                    <a:pt x="1390" y="520"/>
                  </a:lnTo>
                  <a:lnTo>
                    <a:pt x="1567" y="1403"/>
                  </a:lnTo>
                  <a:lnTo>
                    <a:pt x="1875" y="1403"/>
                  </a:lnTo>
                  <a:lnTo>
                    <a:pt x="1585" y="0"/>
                  </a:lnTo>
                  <a:lnTo>
                    <a:pt x="1296" y="0"/>
                  </a:lnTo>
                  <a:lnTo>
                    <a:pt x="934" y="874"/>
                  </a:lnTo>
                  <a:lnTo>
                    <a:pt x="568" y="0"/>
                  </a:lnTo>
                  <a:lnTo>
                    <a:pt x="280" y="0"/>
                  </a:lnTo>
                  <a:lnTo>
                    <a:pt x="0" y="1403"/>
                  </a:lnTo>
                  <a:lnTo>
                    <a:pt x="298" y="14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518320" y="142920"/>
              <a:ext cx="36360" cy="185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569080" y="142920"/>
              <a:ext cx="122040" cy="185760"/>
            </a:xfrm>
            <a:custGeom>
              <a:avLst/>
              <a:gdLst/>
              <a:ahLst/>
              <a:rect l="l" t="t" r="r" b="b"/>
              <a:pathLst>
                <a:path w="933" h="1403">
                  <a:moveTo>
                    <a:pt x="335" y="1403"/>
                  </a:moveTo>
                  <a:lnTo>
                    <a:pt x="614" y="1403"/>
                  </a:lnTo>
                  <a:lnTo>
                    <a:pt x="614" y="233"/>
                  </a:lnTo>
                  <a:lnTo>
                    <a:pt x="933" y="233"/>
                  </a:lnTo>
                  <a:lnTo>
                    <a:pt x="933" y="0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335" y="233"/>
                  </a:lnTo>
                  <a:lnTo>
                    <a:pt x="335" y="14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04080" y="142920"/>
              <a:ext cx="149040" cy="185760"/>
            </a:xfrm>
            <a:custGeom>
              <a:avLst/>
              <a:gdLst/>
              <a:ahLst/>
              <a:rect l="l" t="t" r="r" b="b"/>
              <a:pathLst>
                <a:path w="1125" h="1403">
                  <a:moveTo>
                    <a:pt x="278" y="247"/>
                  </a:moveTo>
                  <a:lnTo>
                    <a:pt x="609" y="247"/>
                  </a:lnTo>
                  <a:lnTo>
                    <a:pt x="631" y="248"/>
                  </a:lnTo>
                  <a:lnTo>
                    <a:pt x="651" y="250"/>
                  </a:lnTo>
                  <a:lnTo>
                    <a:pt x="670" y="253"/>
                  </a:lnTo>
                  <a:lnTo>
                    <a:pt x="689" y="258"/>
                  </a:lnTo>
                  <a:lnTo>
                    <a:pt x="706" y="265"/>
                  </a:lnTo>
                  <a:lnTo>
                    <a:pt x="723" y="273"/>
                  </a:lnTo>
                  <a:lnTo>
                    <a:pt x="738" y="282"/>
                  </a:lnTo>
                  <a:lnTo>
                    <a:pt x="752" y="293"/>
                  </a:lnTo>
                  <a:lnTo>
                    <a:pt x="764" y="305"/>
                  </a:lnTo>
                  <a:lnTo>
                    <a:pt x="776" y="318"/>
                  </a:lnTo>
                  <a:lnTo>
                    <a:pt x="784" y="331"/>
                  </a:lnTo>
                  <a:lnTo>
                    <a:pt x="792" y="346"/>
                  </a:lnTo>
                  <a:lnTo>
                    <a:pt x="798" y="361"/>
                  </a:lnTo>
                  <a:lnTo>
                    <a:pt x="802" y="377"/>
                  </a:lnTo>
                  <a:lnTo>
                    <a:pt x="804" y="394"/>
                  </a:lnTo>
                  <a:lnTo>
                    <a:pt x="806" y="413"/>
                  </a:lnTo>
                  <a:lnTo>
                    <a:pt x="804" y="432"/>
                  </a:lnTo>
                  <a:lnTo>
                    <a:pt x="801" y="450"/>
                  </a:lnTo>
                  <a:lnTo>
                    <a:pt x="796" y="468"/>
                  </a:lnTo>
                  <a:lnTo>
                    <a:pt x="789" y="484"/>
                  </a:lnTo>
                  <a:lnTo>
                    <a:pt x="780" y="498"/>
                  </a:lnTo>
                  <a:lnTo>
                    <a:pt x="769" y="513"/>
                  </a:lnTo>
                  <a:lnTo>
                    <a:pt x="755" y="525"/>
                  </a:lnTo>
                  <a:lnTo>
                    <a:pt x="741" y="537"/>
                  </a:lnTo>
                  <a:lnTo>
                    <a:pt x="726" y="547"/>
                  </a:lnTo>
                  <a:lnTo>
                    <a:pt x="712" y="555"/>
                  </a:lnTo>
                  <a:lnTo>
                    <a:pt x="697" y="562"/>
                  </a:lnTo>
                  <a:lnTo>
                    <a:pt x="682" y="567"/>
                  </a:lnTo>
                  <a:lnTo>
                    <a:pt x="668" y="571"/>
                  </a:lnTo>
                  <a:lnTo>
                    <a:pt x="653" y="574"/>
                  </a:lnTo>
                  <a:lnTo>
                    <a:pt x="638" y="576"/>
                  </a:lnTo>
                  <a:lnTo>
                    <a:pt x="624" y="577"/>
                  </a:lnTo>
                  <a:lnTo>
                    <a:pt x="622" y="577"/>
                  </a:lnTo>
                  <a:lnTo>
                    <a:pt x="620" y="577"/>
                  </a:lnTo>
                  <a:lnTo>
                    <a:pt x="618" y="577"/>
                  </a:lnTo>
                  <a:lnTo>
                    <a:pt x="617" y="577"/>
                  </a:lnTo>
                  <a:lnTo>
                    <a:pt x="615" y="577"/>
                  </a:lnTo>
                  <a:lnTo>
                    <a:pt x="612" y="577"/>
                  </a:lnTo>
                  <a:lnTo>
                    <a:pt x="610" y="577"/>
                  </a:lnTo>
                  <a:lnTo>
                    <a:pt x="609" y="577"/>
                  </a:lnTo>
                  <a:lnTo>
                    <a:pt x="327" y="579"/>
                  </a:lnTo>
                  <a:lnTo>
                    <a:pt x="327" y="829"/>
                  </a:lnTo>
                  <a:lnTo>
                    <a:pt x="788" y="1403"/>
                  </a:lnTo>
                  <a:lnTo>
                    <a:pt x="1125" y="1403"/>
                  </a:lnTo>
                  <a:lnTo>
                    <a:pt x="628" y="817"/>
                  </a:lnTo>
                  <a:lnTo>
                    <a:pt x="640" y="817"/>
                  </a:lnTo>
                  <a:lnTo>
                    <a:pt x="655" y="816"/>
                  </a:lnTo>
                  <a:lnTo>
                    <a:pt x="671" y="814"/>
                  </a:lnTo>
                  <a:lnTo>
                    <a:pt x="690" y="811"/>
                  </a:lnTo>
                  <a:lnTo>
                    <a:pt x="709" y="806"/>
                  </a:lnTo>
                  <a:lnTo>
                    <a:pt x="730" y="802"/>
                  </a:lnTo>
                  <a:lnTo>
                    <a:pt x="754" y="796"/>
                  </a:lnTo>
                  <a:lnTo>
                    <a:pt x="779" y="790"/>
                  </a:lnTo>
                  <a:lnTo>
                    <a:pt x="804" y="783"/>
                  </a:lnTo>
                  <a:lnTo>
                    <a:pt x="830" y="774"/>
                  </a:lnTo>
                  <a:lnTo>
                    <a:pt x="856" y="763"/>
                  </a:lnTo>
                  <a:lnTo>
                    <a:pt x="881" y="749"/>
                  </a:lnTo>
                  <a:lnTo>
                    <a:pt x="906" y="734"/>
                  </a:lnTo>
                  <a:lnTo>
                    <a:pt x="932" y="716"/>
                  </a:lnTo>
                  <a:lnTo>
                    <a:pt x="957" y="696"/>
                  </a:lnTo>
                  <a:lnTo>
                    <a:pt x="982" y="674"/>
                  </a:lnTo>
                  <a:lnTo>
                    <a:pt x="1006" y="649"/>
                  </a:lnTo>
                  <a:lnTo>
                    <a:pt x="1026" y="622"/>
                  </a:lnTo>
                  <a:lnTo>
                    <a:pt x="1044" y="593"/>
                  </a:lnTo>
                  <a:lnTo>
                    <a:pt x="1058" y="561"/>
                  </a:lnTo>
                  <a:lnTo>
                    <a:pt x="1069" y="525"/>
                  </a:lnTo>
                  <a:lnTo>
                    <a:pt x="1077" y="487"/>
                  </a:lnTo>
                  <a:lnTo>
                    <a:pt x="1081" y="447"/>
                  </a:lnTo>
                  <a:lnTo>
                    <a:pt x="1083" y="404"/>
                  </a:lnTo>
                  <a:lnTo>
                    <a:pt x="1081" y="362"/>
                  </a:lnTo>
                  <a:lnTo>
                    <a:pt x="1077" y="323"/>
                  </a:lnTo>
                  <a:lnTo>
                    <a:pt x="1070" y="287"/>
                  </a:lnTo>
                  <a:lnTo>
                    <a:pt x="1060" y="252"/>
                  </a:lnTo>
                  <a:lnTo>
                    <a:pt x="1047" y="221"/>
                  </a:lnTo>
                  <a:lnTo>
                    <a:pt x="1031" y="192"/>
                  </a:lnTo>
                  <a:lnTo>
                    <a:pt x="1011" y="165"/>
                  </a:lnTo>
                  <a:lnTo>
                    <a:pt x="990" y="141"/>
                  </a:lnTo>
                  <a:lnTo>
                    <a:pt x="966" y="119"/>
                  </a:lnTo>
                  <a:lnTo>
                    <a:pt x="944" y="100"/>
                  </a:lnTo>
                  <a:lnTo>
                    <a:pt x="920" y="83"/>
                  </a:lnTo>
                  <a:lnTo>
                    <a:pt x="897" y="68"/>
                  </a:lnTo>
                  <a:lnTo>
                    <a:pt x="873" y="54"/>
                  </a:lnTo>
                  <a:lnTo>
                    <a:pt x="850" y="43"/>
                  </a:lnTo>
                  <a:lnTo>
                    <a:pt x="827" y="34"/>
                  </a:lnTo>
                  <a:lnTo>
                    <a:pt x="803" y="26"/>
                  </a:lnTo>
                  <a:lnTo>
                    <a:pt x="781" y="20"/>
                  </a:lnTo>
                  <a:lnTo>
                    <a:pt x="759" y="15"/>
                  </a:lnTo>
                  <a:lnTo>
                    <a:pt x="740" y="10"/>
                  </a:lnTo>
                  <a:lnTo>
                    <a:pt x="723" y="7"/>
                  </a:lnTo>
                  <a:lnTo>
                    <a:pt x="706" y="4"/>
                  </a:lnTo>
                  <a:lnTo>
                    <a:pt x="692" y="2"/>
                  </a:lnTo>
                  <a:lnTo>
                    <a:pt x="679" y="1"/>
                  </a:lnTo>
                  <a:lnTo>
                    <a:pt x="668" y="0"/>
                  </a:lnTo>
                  <a:lnTo>
                    <a:pt x="0" y="0"/>
                  </a:lnTo>
                  <a:lnTo>
                    <a:pt x="0" y="1403"/>
                  </a:lnTo>
                  <a:lnTo>
                    <a:pt x="278" y="1403"/>
                  </a:lnTo>
                  <a:lnTo>
                    <a:pt x="278" y="24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53480" y="142920"/>
              <a:ext cx="115560" cy="185760"/>
            </a:xfrm>
            <a:custGeom>
              <a:avLst/>
              <a:gdLst/>
              <a:ahLst/>
              <a:rect l="l" t="t" r="r" b="b"/>
              <a:pathLst>
                <a:path w="873" h="1403">
                  <a:moveTo>
                    <a:pt x="0" y="1403"/>
                  </a:moveTo>
                  <a:lnTo>
                    <a:pt x="873" y="1403"/>
                  </a:lnTo>
                  <a:lnTo>
                    <a:pt x="873" y="1168"/>
                  </a:lnTo>
                  <a:lnTo>
                    <a:pt x="279" y="1168"/>
                  </a:lnTo>
                  <a:lnTo>
                    <a:pt x="279" y="811"/>
                  </a:lnTo>
                  <a:lnTo>
                    <a:pt x="868" y="811"/>
                  </a:lnTo>
                  <a:lnTo>
                    <a:pt x="868" y="577"/>
                  </a:lnTo>
                  <a:lnTo>
                    <a:pt x="279" y="577"/>
                  </a:lnTo>
                  <a:lnTo>
                    <a:pt x="279" y="233"/>
                  </a:lnTo>
                  <a:lnTo>
                    <a:pt x="873" y="233"/>
                  </a:lnTo>
                  <a:lnTo>
                    <a:pt x="873" y="0"/>
                  </a:lnTo>
                  <a:lnTo>
                    <a:pt x="0" y="0"/>
                  </a:lnTo>
                  <a:lnTo>
                    <a:pt x="0" y="14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933640" y="7920"/>
            <a:ext cx="522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RE Internal Only -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7170840" y="6432120"/>
            <a:ext cx="1751040" cy="3351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ctr">
            <a:noAutofit/>
          </a:bodyPr>
          <a:lstStyle>
            <a:lvl1pPr marL="216000"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fld id="{7DC87664-8710-4951-89D9-96712D58C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793800"/>
            <a:ext cx="7772400" cy="35496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  <a:effectLst>
            <a:outerShdw dist="153753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026560" y="6389640"/>
            <a:ext cx="709200" cy="185760"/>
            <a:chOff x="8026560" y="6389640"/>
            <a:chExt cx="709200" cy="185760"/>
          </a:xfrm>
        </p:grpSpPr>
        <p:sp>
          <p:nvSpPr>
            <p:cNvPr id="50" name=""/>
            <p:cNvSpPr/>
            <p:nvPr/>
          </p:nvSpPr>
          <p:spPr>
            <a:xfrm>
              <a:off x="8026560" y="6389640"/>
              <a:ext cx="247320" cy="185760"/>
            </a:xfrm>
            <a:custGeom>
              <a:avLst/>
              <a:gdLst/>
              <a:ahLst/>
              <a:rect l="l" t="t" r="r" b="b"/>
              <a:pathLst>
                <a:path w="1875" h="1403">
                  <a:moveTo>
                    <a:pt x="298" y="1403"/>
                  </a:moveTo>
                  <a:lnTo>
                    <a:pt x="475" y="520"/>
                  </a:lnTo>
                  <a:lnTo>
                    <a:pt x="820" y="1403"/>
                  </a:lnTo>
                  <a:lnTo>
                    <a:pt x="1045" y="1403"/>
                  </a:lnTo>
                  <a:lnTo>
                    <a:pt x="1390" y="520"/>
                  </a:lnTo>
                  <a:lnTo>
                    <a:pt x="1567" y="1403"/>
                  </a:lnTo>
                  <a:lnTo>
                    <a:pt x="1875" y="1403"/>
                  </a:lnTo>
                  <a:lnTo>
                    <a:pt x="1585" y="0"/>
                  </a:lnTo>
                  <a:lnTo>
                    <a:pt x="1296" y="0"/>
                  </a:lnTo>
                  <a:lnTo>
                    <a:pt x="934" y="874"/>
                  </a:lnTo>
                  <a:lnTo>
                    <a:pt x="568" y="0"/>
                  </a:lnTo>
                  <a:lnTo>
                    <a:pt x="280" y="0"/>
                  </a:lnTo>
                  <a:lnTo>
                    <a:pt x="0" y="1403"/>
                  </a:lnTo>
                  <a:lnTo>
                    <a:pt x="298" y="14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85040" y="6389640"/>
              <a:ext cx="36360" cy="185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35800" y="6389640"/>
              <a:ext cx="122040" cy="185760"/>
            </a:xfrm>
            <a:custGeom>
              <a:avLst/>
              <a:gdLst/>
              <a:ahLst/>
              <a:rect l="l" t="t" r="r" b="b"/>
              <a:pathLst>
                <a:path w="933" h="1403">
                  <a:moveTo>
                    <a:pt x="335" y="1403"/>
                  </a:moveTo>
                  <a:lnTo>
                    <a:pt x="614" y="1403"/>
                  </a:lnTo>
                  <a:lnTo>
                    <a:pt x="614" y="233"/>
                  </a:lnTo>
                  <a:lnTo>
                    <a:pt x="933" y="233"/>
                  </a:lnTo>
                  <a:lnTo>
                    <a:pt x="933" y="0"/>
                  </a:lnTo>
                  <a:lnTo>
                    <a:pt x="0" y="0"/>
                  </a:lnTo>
                  <a:lnTo>
                    <a:pt x="0" y="233"/>
                  </a:lnTo>
                  <a:lnTo>
                    <a:pt x="335" y="233"/>
                  </a:lnTo>
                  <a:lnTo>
                    <a:pt x="335" y="14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470800" y="6389640"/>
              <a:ext cx="149040" cy="185760"/>
            </a:xfrm>
            <a:custGeom>
              <a:avLst/>
              <a:gdLst/>
              <a:ahLst/>
              <a:rect l="l" t="t" r="r" b="b"/>
              <a:pathLst>
                <a:path w="1125" h="1403">
                  <a:moveTo>
                    <a:pt x="278" y="247"/>
                  </a:moveTo>
                  <a:lnTo>
                    <a:pt x="609" y="247"/>
                  </a:lnTo>
                  <a:lnTo>
                    <a:pt x="631" y="248"/>
                  </a:lnTo>
                  <a:lnTo>
                    <a:pt x="651" y="250"/>
                  </a:lnTo>
                  <a:lnTo>
                    <a:pt x="670" y="253"/>
                  </a:lnTo>
                  <a:lnTo>
                    <a:pt x="689" y="258"/>
                  </a:lnTo>
                  <a:lnTo>
                    <a:pt x="706" y="265"/>
                  </a:lnTo>
                  <a:lnTo>
                    <a:pt x="723" y="273"/>
                  </a:lnTo>
                  <a:lnTo>
                    <a:pt x="738" y="282"/>
                  </a:lnTo>
                  <a:lnTo>
                    <a:pt x="752" y="293"/>
                  </a:lnTo>
                  <a:lnTo>
                    <a:pt x="764" y="305"/>
                  </a:lnTo>
                  <a:lnTo>
                    <a:pt x="776" y="318"/>
                  </a:lnTo>
                  <a:lnTo>
                    <a:pt x="784" y="331"/>
                  </a:lnTo>
                  <a:lnTo>
                    <a:pt x="792" y="346"/>
                  </a:lnTo>
                  <a:lnTo>
                    <a:pt x="798" y="361"/>
                  </a:lnTo>
                  <a:lnTo>
                    <a:pt x="802" y="377"/>
                  </a:lnTo>
                  <a:lnTo>
                    <a:pt x="804" y="394"/>
                  </a:lnTo>
                  <a:lnTo>
                    <a:pt x="806" y="413"/>
                  </a:lnTo>
                  <a:lnTo>
                    <a:pt x="804" y="432"/>
                  </a:lnTo>
                  <a:lnTo>
                    <a:pt x="801" y="450"/>
                  </a:lnTo>
                  <a:lnTo>
                    <a:pt x="796" y="468"/>
                  </a:lnTo>
                  <a:lnTo>
                    <a:pt x="789" y="484"/>
                  </a:lnTo>
                  <a:lnTo>
                    <a:pt x="780" y="498"/>
                  </a:lnTo>
                  <a:lnTo>
                    <a:pt x="769" y="513"/>
                  </a:lnTo>
                  <a:lnTo>
                    <a:pt x="755" y="525"/>
                  </a:lnTo>
                  <a:lnTo>
                    <a:pt x="741" y="537"/>
                  </a:lnTo>
                  <a:lnTo>
                    <a:pt x="726" y="547"/>
                  </a:lnTo>
                  <a:lnTo>
                    <a:pt x="712" y="555"/>
                  </a:lnTo>
                  <a:lnTo>
                    <a:pt x="697" y="562"/>
                  </a:lnTo>
                  <a:lnTo>
                    <a:pt x="682" y="567"/>
                  </a:lnTo>
                  <a:lnTo>
                    <a:pt x="668" y="571"/>
                  </a:lnTo>
                  <a:lnTo>
                    <a:pt x="653" y="574"/>
                  </a:lnTo>
                  <a:lnTo>
                    <a:pt x="638" y="576"/>
                  </a:lnTo>
                  <a:lnTo>
                    <a:pt x="624" y="577"/>
                  </a:lnTo>
                  <a:lnTo>
                    <a:pt x="622" y="577"/>
                  </a:lnTo>
                  <a:lnTo>
                    <a:pt x="620" y="577"/>
                  </a:lnTo>
                  <a:lnTo>
                    <a:pt x="618" y="577"/>
                  </a:lnTo>
                  <a:lnTo>
                    <a:pt x="617" y="577"/>
                  </a:lnTo>
                  <a:lnTo>
                    <a:pt x="615" y="577"/>
                  </a:lnTo>
                  <a:lnTo>
                    <a:pt x="612" y="577"/>
                  </a:lnTo>
                  <a:lnTo>
                    <a:pt x="610" y="577"/>
                  </a:lnTo>
                  <a:lnTo>
                    <a:pt x="609" y="577"/>
                  </a:lnTo>
                  <a:lnTo>
                    <a:pt x="327" y="579"/>
                  </a:lnTo>
                  <a:lnTo>
                    <a:pt x="327" y="829"/>
                  </a:lnTo>
                  <a:lnTo>
                    <a:pt x="788" y="1403"/>
                  </a:lnTo>
                  <a:lnTo>
                    <a:pt x="1125" y="1403"/>
                  </a:lnTo>
                  <a:lnTo>
                    <a:pt x="628" y="817"/>
                  </a:lnTo>
                  <a:lnTo>
                    <a:pt x="640" y="817"/>
                  </a:lnTo>
                  <a:lnTo>
                    <a:pt x="655" y="816"/>
                  </a:lnTo>
                  <a:lnTo>
                    <a:pt x="671" y="814"/>
                  </a:lnTo>
                  <a:lnTo>
                    <a:pt x="690" y="811"/>
                  </a:lnTo>
                  <a:lnTo>
                    <a:pt x="709" y="806"/>
                  </a:lnTo>
                  <a:lnTo>
                    <a:pt x="730" y="802"/>
                  </a:lnTo>
                  <a:lnTo>
                    <a:pt x="754" y="796"/>
                  </a:lnTo>
                  <a:lnTo>
                    <a:pt x="779" y="790"/>
                  </a:lnTo>
                  <a:lnTo>
                    <a:pt x="804" y="783"/>
                  </a:lnTo>
                  <a:lnTo>
                    <a:pt x="830" y="774"/>
                  </a:lnTo>
                  <a:lnTo>
                    <a:pt x="856" y="763"/>
                  </a:lnTo>
                  <a:lnTo>
                    <a:pt x="881" y="749"/>
                  </a:lnTo>
                  <a:lnTo>
                    <a:pt x="906" y="734"/>
                  </a:lnTo>
                  <a:lnTo>
                    <a:pt x="932" y="716"/>
                  </a:lnTo>
                  <a:lnTo>
                    <a:pt x="957" y="696"/>
                  </a:lnTo>
                  <a:lnTo>
                    <a:pt x="982" y="674"/>
                  </a:lnTo>
                  <a:lnTo>
                    <a:pt x="1006" y="649"/>
                  </a:lnTo>
                  <a:lnTo>
                    <a:pt x="1026" y="622"/>
                  </a:lnTo>
                  <a:lnTo>
                    <a:pt x="1044" y="593"/>
                  </a:lnTo>
                  <a:lnTo>
                    <a:pt x="1058" y="561"/>
                  </a:lnTo>
                  <a:lnTo>
                    <a:pt x="1069" y="525"/>
                  </a:lnTo>
                  <a:lnTo>
                    <a:pt x="1077" y="487"/>
                  </a:lnTo>
                  <a:lnTo>
                    <a:pt x="1081" y="447"/>
                  </a:lnTo>
                  <a:lnTo>
                    <a:pt x="1083" y="404"/>
                  </a:lnTo>
                  <a:lnTo>
                    <a:pt x="1081" y="362"/>
                  </a:lnTo>
                  <a:lnTo>
                    <a:pt x="1077" y="323"/>
                  </a:lnTo>
                  <a:lnTo>
                    <a:pt x="1070" y="287"/>
                  </a:lnTo>
                  <a:lnTo>
                    <a:pt x="1060" y="252"/>
                  </a:lnTo>
                  <a:lnTo>
                    <a:pt x="1047" y="221"/>
                  </a:lnTo>
                  <a:lnTo>
                    <a:pt x="1031" y="192"/>
                  </a:lnTo>
                  <a:lnTo>
                    <a:pt x="1011" y="165"/>
                  </a:lnTo>
                  <a:lnTo>
                    <a:pt x="990" y="141"/>
                  </a:lnTo>
                  <a:lnTo>
                    <a:pt x="966" y="119"/>
                  </a:lnTo>
                  <a:lnTo>
                    <a:pt x="944" y="100"/>
                  </a:lnTo>
                  <a:lnTo>
                    <a:pt x="920" y="83"/>
                  </a:lnTo>
                  <a:lnTo>
                    <a:pt x="897" y="68"/>
                  </a:lnTo>
                  <a:lnTo>
                    <a:pt x="873" y="54"/>
                  </a:lnTo>
                  <a:lnTo>
                    <a:pt x="850" y="43"/>
                  </a:lnTo>
                  <a:lnTo>
                    <a:pt x="827" y="34"/>
                  </a:lnTo>
                  <a:lnTo>
                    <a:pt x="803" y="26"/>
                  </a:lnTo>
                  <a:lnTo>
                    <a:pt x="781" y="20"/>
                  </a:lnTo>
                  <a:lnTo>
                    <a:pt x="759" y="15"/>
                  </a:lnTo>
                  <a:lnTo>
                    <a:pt x="740" y="10"/>
                  </a:lnTo>
                  <a:lnTo>
                    <a:pt x="723" y="7"/>
                  </a:lnTo>
                  <a:lnTo>
                    <a:pt x="706" y="4"/>
                  </a:lnTo>
                  <a:lnTo>
                    <a:pt x="692" y="2"/>
                  </a:lnTo>
                  <a:lnTo>
                    <a:pt x="679" y="1"/>
                  </a:lnTo>
                  <a:lnTo>
                    <a:pt x="668" y="0"/>
                  </a:lnTo>
                  <a:lnTo>
                    <a:pt x="0" y="0"/>
                  </a:lnTo>
                  <a:lnTo>
                    <a:pt x="0" y="1403"/>
                  </a:lnTo>
                  <a:lnTo>
                    <a:pt x="278" y="1403"/>
                  </a:lnTo>
                  <a:lnTo>
                    <a:pt x="278" y="24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620200" y="6389640"/>
              <a:ext cx="115560" cy="185760"/>
            </a:xfrm>
            <a:custGeom>
              <a:avLst/>
              <a:gdLst/>
              <a:ahLst/>
              <a:rect l="l" t="t" r="r" b="b"/>
              <a:pathLst>
                <a:path w="873" h="1403">
                  <a:moveTo>
                    <a:pt x="0" y="1403"/>
                  </a:moveTo>
                  <a:lnTo>
                    <a:pt x="873" y="1403"/>
                  </a:lnTo>
                  <a:lnTo>
                    <a:pt x="873" y="1168"/>
                  </a:lnTo>
                  <a:lnTo>
                    <a:pt x="279" y="1168"/>
                  </a:lnTo>
                  <a:lnTo>
                    <a:pt x="279" y="811"/>
                  </a:lnTo>
                  <a:lnTo>
                    <a:pt x="868" y="811"/>
                  </a:lnTo>
                  <a:lnTo>
                    <a:pt x="868" y="577"/>
                  </a:lnTo>
                  <a:lnTo>
                    <a:pt x="279" y="577"/>
                  </a:lnTo>
                  <a:lnTo>
                    <a:pt x="279" y="233"/>
                  </a:lnTo>
                  <a:lnTo>
                    <a:pt x="873" y="233"/>
                  </a:lnTo>
                  <a:lnTo>
                    <a:pt x="873" y="0"/>
                  </a:lnTo>
                  <a:lnTo>
                    <a:pt x="0" y="0"/>
                  </a:lnTo>
                  <a:lnTo>
                    <a:pt x="0" y="140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6360" y="6240600"/>
            <a:ext cx="33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RE Internal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not dis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7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319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463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21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6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6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95280" y="459756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 Ob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brst@mitr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IS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gunquit, M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fld id="{D30649F0-B191-46BA-8CA4-1B396EA71B84}" type="datetime3">
              <a:rPr b="0" lang="en-US" sz="18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18972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Ontological Engineering </a:t>
            </a:r>
            <a:br>
              <a:rPr sz="4000"/>
            </a:b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for B2B E-Comme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Some Problems &amp; Issues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58560" y="13539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78000"/>
          </a:bodyPr>
          <a:p>
            <a:pPr marL="242280" indent="-242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vs.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contexts (“views),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role) modeling: technical vs. Non-techn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1605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EquivalentTerm(OntologyConcept, Application(Term/s, UserRole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Languages, Cultures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Representation/Ontology language: frame,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interface: support ontologists &amp; domain experts, cross-reference concepts, relations (domains, ranges), graphical dis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distribute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ing: major, incremental, module,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/Export formatt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y integration, merging, application/data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y services: name/aliasing, 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01AD-048D-479E-B7BB-7768BEC7497C}" type="slidenum">
              <a:t>10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Some Problems &amp; Issues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8560" y="13539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, scoping,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, t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&amp;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ists, domain experts, sw developmen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managers, executive officers, sales/industry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consortia, external contractors, sellers, bu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1D98-C25E-4CE0-A302-50DA6B457C11}" type="slidenum">
              <a:t>11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A Simple Common Picture*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51400" y="6324480"/>
            <a:ext cx="770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Guarino, N. 1998. Formal Ontology in Information Systems, p. 7.  In Formal Ontology in Information Systems, 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ino, ed. Amsterdam.: IOS Press. Proceedings of the First International Conference (FOIS’98), June 6-8, Trent, Italy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162080" y="1790640"/>
            <a:ext cx="670572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451520" y="188928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ptualizatio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67000" y="2960640"/>
            <a:ext cx="4606560" cy="2754360"/>
            <a:chOff x="1467000" y="2960640"/>
            <a:chExt cx="4606560" cy="2754360"/>
          </a:xfrm>
        </p:grpSpPr>
        <p:sp>
          <p:nvSpPr>
            <p:cNvPr id="402" name=""/>
            <p:cNvSpPr/>
            <p:nvPr/>
          </p:nvSpPr>
          <p:spPr>
            <a:xfrm>
              <a:off x="1467000" y="3657600"/>
              <a:ext cx="2377800" cy="2057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72400" y="296064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dels M(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277800" y="3273480"/>
              <a:ext cx="870120" cy="55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924200" y="3905280"/>
            <a:ext cx="5505480" cy="1600200"/>
            <a:chOff x="1924200" y="3905280"/>
            <a:chExt cx="5505480" cy="1600200"/>
          </a:xfrm>
        </p:grpSpPr>
        <p:sp>
          <p:nvSpPr>
            <p:cNvPr id="406" name=""/>
            <p:cNvSpPr/>
            <p:nvPr/>
          </p:nvSpPr>
          <p:spPr>
            <a:xfrm>
              <a:off x="5829480" y="3905280"/>
              <a:ext cx="1600200" cy="16002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24200" y="3924360"/>
              <a:ext cx="1508040" cy="1560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37000" y="3909960"/>
              <a:ext cx="3213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35200" y="5486400"/>
              <a:ext cx="3213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683720" y="2346480"/>
            <a:ext cx="1746000" cy="1284120"/>
            <a:chOff x="1683720" y="2346480"/>
            <a:chExt cx="1746000" cy="1284120"/>
          </a:xfrm>
        </p:grpSpPr>
        <p:sp>
          <p:nvSpPr>
            <p:cNvPr id="411" name=""/>
            <p:cNvSpPr/>
            <p:nvPr/>
          </p:nvSpPr>
          <p:spPr>
            <a:xfrm>
              <a:off x="1683720" y="278136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nguage 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10000" y="3233880"/>
              <a:ext cx="0" cy="3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2610000" y="2346480"/>
              <a:ext cx="0" cy="3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228760" y="4114800"/>
            <a:ext cx="5383080" cy="1967400"/>
            <a:chOff x="2228760" y="4114800"/>
            <a:chExt cx="5383080" cy="1967400"/>
          </a:xfrm>
        </p:grpSpPr>
        <p:sp>
          <p:nvSpPr>
            <p:cNvPr id="415" name=""/>
            <p:cNvSpPr/>
            <p:nvPr/>
          </p:nvSpPr>
          <p:spPr>
            <a:xfrm>
              <a:off x="2228760" y="4114800"/>
              <a:ext cx="914400" cy="11430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02160" y="5572080"/>
              <a:ext cx="3109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tended models I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3060720" y="5065200"/>
              <a:ext cx="1326960" cy="76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55AA-B589-404C-AFC0-E93E4439707F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A More Complex Actual Common Picture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1040" y="1790640"/>
            <a:ext cx="8445600" cy="468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36600" y="3286080"/>
            <a:ext cx="6607440" cy="3089160"/>
            <a:chOff x="336600" y="3286080"/>
            <a:chExt cx="6607440" cy="3089160"/>
          </a:xfrm>
        </p:grpSpPr>
        <p:sp>
          <p:nvSpPr>
            <p:cNvPr id="421" name=""/>
            <p:cNvSpPr/>
            <p:nvPr/>
          </p:nvSpPr>
          <p:spPr>
            <a:xfrm>
              <a:off x="336600" y="3886200"/>
              <a:ext cx="2876400" cy="2489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625400" y="3286080"/>
              <a:ext cx="5318640" cy="606600"/>
              <a:chOff x="1625400" y="3286080"/>
              <a:chExt cx="5318640" cy="606600"/>
            </a:xfrm>
          </p:grpSpPr>
          <p:sp>
            <p:nvSpPr>
              <p:cNvPr id="423" name=""/>
              <p:cNvSpPr/>
              <p:nvPr/>
            </p:nvSpPr>
            <p:spPr>
              <a:xfrm>
                <a:off x="5344560" y="3286080"/>
                <a:ext cx="1599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odels M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1625400" y="3603600"/>
                <a:ext cx="37782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5" name=""/>
          <p:cNvSpPr/>
          <p:nvPr/>
        </p:nvSpPr>
        <p:spPr>
          <a:xfrm>
            <a:off x="261360" y="1801800"/>
            <a:ext cx="25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ceptualization B: Bu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58960" y="1801800"/>
            <a:ext cx="253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ceptualization S: S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78440" y="2370240"/>
            <a:ext cx="4019760" cy="1412640"/>
            <a:chOff x="478440" y="2370240"/>
            <a:chExt cx="4019760" cy="1412640"/>
          </a:xfrm>
        </p:grpSpPr>
        <p:grpSp>
          <p:nvGrpSpPr>
            <p:cNvPr id="428" name=""/>
            <p:cNvGrpSpPr/>
            <p:nvPr/>
          </p:nvGrpSpPr>
          <p:grpSpPr>
            <a:xfrm>
              <a:off x="1466280" y="2676600"/>
              <a:ext cx="1363320" cy="1106280"/>
              <a:chOff x="1466280" y="2676600"/>
              <a:chExt cx="1363320" cy="1106280"/>
            </a:xfrm>
          </p:grpSpPr>
          <p:sp>
            <p:nvSpPr>
              <p:cNvPr id="429" name=""/>
              <p:cNvSpPr/>
              <p:nvPr/>
            </p:nvSpPr>
            <p:spPr>
              <a:xfrm>
                <a:off x="1466280" y="3094200"/>
                <a:ext cx="13633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anguage 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305080" y="3386160"/>
                <a:ext cx="0" cy="39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2317680" y="2676600"/>
                <a:ext cx="63720" cy="51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478440" y="2370240"/>
              <a:ext cx="401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ceptualization B2: Non-Technical Bu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310680" y="2049480"/>
            <a:ext cx="3771720" cy="1733400"/>
            <a:chOff x="310680" y="2049480"/>
            <a:chExt cx="3771720" cy="1733400"/>
          </a:xfrm>
        </p:grpSpPr>
        <p:sp>
          <p:nvSpPr>
            <p:cNvPr id="434" name=""/>
            <p:cNvSpPr/>
            <p:nvPr/>
          </p:nvSpPr>
          <p:spPr>
            <a:xfrm>
              <a:off x="491040" y="2049480"/>
              <a:ext cx="359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ceptualization B1: Technical Buy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10680" y="2612880"/>
              <a:ext cx="1363320" cy="1170000"/>
              <a:chOff x="310680" y="2612880"/>
              <a:chExt cx="1363320" cy="1170000"/>
            </a:xfrm>
          </p:grpSpPr>
          <p:sp>
            <p:nvSpPr>
              <p:cNvPr id="436" name=""/>
              <p:cNvSpPr/>
              <p:nvPr/>
            </p:nvSpPr>
            <p:spPr>
              <a:xfrm>
                <a:off x="310680" y="2878200"/>
                <a:ext cx="13633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anguage 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62080" y="3182760"/>
                <a:ext cx="63360" cy="600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1149480" y="2612880"/>
                <a:ext cx="75960" cy="38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2417040" y="2089080"/>
            <a:ext cx="4393440" cy="1579680"/>
            <a:chOff x="2417040" y="2089080"/>
            <a:chExt cx="4393440" cy="1579680"/>
          </a:xfrm>
        </p:grpSpPr>
        <p:sp>
          <p:nvSpPr>
            <p:cNvPr id="440" name=""/>
            <p:cNvSpPr/>
            <p:nvPr/>
          </p:nvSpPr>
          <p:spPr>
            <a:xfrm>
              <a:off x="4668480" y="2089080"/>
              <a:ext cx="2142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ceptualization S1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ufacturer Se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2417040" y="2701800"/>
              <a:ext cx="1830960" cy="966960"/>
              <a:chOff x="2417040" y="2701800"/>
              <a:chExt cx="1830960" cy="966960"/>
            </a:xfrm>
          </p:grpSpPr>
          <p:sp>
            <p:nvSpPr>
              <p:cNvPr id="442" name=""/>
              <p:cNvSpPr/>
              <p:nvPr/>
            </p:nvSpPr>
            <p:spPr>
              <a:xfrm>
                <a:off x="2417040" y="2916360"/>
                <a:ext cx="1351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anguage 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270240" y="3220920"/>
                <a:ext cx="12600" cy="447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3524400" y="2701800"/>
                <a:ext cx="723600" cy="231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5" name=""/>
          <p:cNvGrpSpPr/>
          <p:nvPr/>
        </p:nvGrpSpPr>
        <p:grpSpPr>
          <a:xfrm>
            <a:off x="3385080" y="2635200"/>
            <a:ext cx="3425400" cy="1033560"/>
            <a:chOff x="3385080" y="2635200"/>
            <a:chExt cx="3425400" cy="1033560"/>
          </a:xfrm>
        </p:grpSpPr>
        <p:sp>
          <p:nvSpPr>
            <p:cNvPr id="446" name=""/>
            <p:cNvSpPr/>
            <p:nvPr/>
          </p:nvSpPr>
          <p:spPr>
            <a:xfrm>
              <a:off x="4668480" y="2635200"/>
              <a:ext cx="21420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ceptualization S1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or Sell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3385080" y="2955960"/>
              <a:ext cx="1351080" cy="712800"/>
              <a:chOff x="3385080" y="2955960"/>
              <a:chExt cx="1351080" cy="712800"/>
            </a:xfrm>
          </p:grpSpPr>
          <p:sp>
            <p:nvSpPr>
              <p:cNvPr id="448" name=""/>
              <p:cNvSpPr/>
              <p:nvPr/>
            </p:nvSpPr>
            <p:spPr>
              <a:xfrm>
                <a:off x="3385080" y="3157560"/>
                <a:ext cx="13510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anguage 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4289040" y="3462480"/>
                <a:ext cx="12600" cy="20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251240" y="2955960"/>
                <a:ext cx="295200" cy="25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654120" y="3552840"/>
            <a:ext cx="6531120" cy="2695680"/>
            <a:chOff x="654120" y="3552840"/>
            <a:chExt cx="6531120" cy="2695680"/>
          </a:xfrm>
        </p:grpSpPr>
        <p:sp>
          <p:nvSpPr>
            <p:cNvPr id="452" name=""/>
            <p:cNvSpPr/>
            <p:nvPr/>
          </p:nvSpPr>
          <p:spPr>
            <a:xfrm>
              <a:off x="654120" y="4191120"/>
              <a:ext cx="2378160" cy="2057400"/>
            </a:xfrm>
            <a:prstGeom prst="ellipse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665360" y="3552840"/>
              <a:ext cx="5519880" cy="631800"/>
              <a:chOff x="1665360" y="3552840"/>
              <a:chExt cx="5519880" cy="631800"/>
            </a:xfrm>
          </p:grpSpPr>
          <p:sp>
            <p:nvSpPr>
              <p:cNvPr id="454" name=""/>
              <p:cNvSpPr/>
              <p:nvPr/>
            </p:nvSpPr>
            <p:spPr>
              <a:xfrm>
                <a:off x="5585760" y="3552840"/>
                <a:ext cx="159948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odels M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665360" y="3718080"/>
                <a:ext cx="3892320" cy="46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1746360" y="4051440"/>
            <a:ext cx="5931360" cy="2354040"/>
            <a:chOff x="1746360" y="4051440"/>
            <a:chExt cx="5931360" cy="2354040"/>
          </a:xfrm>
        </p:grpSpPr>
        <p:grpSp>
          <p:nvGrpSpPr>
            <p:cNvPr id="457" name=""/>
            <p:cNvGrpSpPr/>
            <p:nvPr/>
          </p:nvGrpSpPr>
          <p:grpSpPr>
            <a:xfrm>
              <a:off x="4040280" y="4137120"/>
              <a:ext cx="3637440" cy="370800"/>
              <a:chOff x="4040280" y="4137120"/>
              <a:chExt cx="3637440" cy="370800"/>
            </a:xfrm>
          </p:grpSpPr>
          <p:sp>
            <p:nvSpPr>
              <p:cNvPr id="458" name=""/>
              <p:cNvSpPr/>
              <p:nvPr/>
            </p:nvSpPr>
            <p:spPr>
              <a:xfrm>
                <a:off x="6102720" y="4137120"/>
                <a:ext cx="1575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odels M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4040280" y="4289400"/>
                <a:ext cx="206352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>
              <a:off x="1746360" y="4051440"/>
              <a:ext cx="2720880" cy="2354040"/>
            </a:xfrm>
            <a:prstGeom prst="ellipse">
              <a:avLst/>
            </a:prstGeom>
            <a:solidFill>
              <a:srgbClr val="9900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149480" y="3857760"/>
            <a:ext cx="6261840" cy="2415600"/>
            <a:chOff x="1149480" y="3857760"/>
            <a:chExt cx="6261840" cy="2415600"/>
          </a:xfrm>
        </p:grpSpPr>
        <p:grpSp>
          <p:nvGrpSpPr>
            <p:cNvPr id="462" name=""/>
            <p:cNvGrpSpPr/>
            <p:nvPr/>
          </p:nvGrpSpPr>
          <p:grpSpPr>
            <a:xfrm>
              <a:off x="2693880" y="3857760"/>
              <a:ext cx="4717440" cy="370800"/>
              <a:chOff x="2693880" y="3857760"/>
              <a:chExt cx="4717440" cy="370800"/>
            </a:xfrm>
          </p:grpSpPr>
          <p:sp>
            <p:nvSpPr>
              <p:cNvPr id="463" name=""/>
              <p:cNvSpPr/>
              <p:nvPr/>
            </p:nvSpPr>
            <p:spPr>
              <a:xfrm flipH="1">
                <a:off x="2693880" y="4022640"/>
                <a:ext cx="3105360" cy="19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36320" y="3857760"/>
                <a:ext cx="1575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odels M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S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"/>
            <p:cNvSpPr/>
            <p:nvPr/>
          </p:nvSpPr>
          <p:spPr>
            <a:xfrm>
              <a:off x="1149480" y="4216320"/>
              <a:ext cx="2377800" cy="2057040"/>
            </a:xfrm>
            <a:prstGeom prst="ellipse">
              <a:avLst/>
            </a:prstGeom>
            <a:solidFill>
              <a:srgbClr val="ff66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755640" y="4476600"/>
            <a:ext cx="6674040" cy="1600200"/>
            <a:chOff x="755640" y="4476600"/>
            <a:chExt cx="6674040" cy="1600200"/>
          </a:xfrm>
        </p:grpSpPr>
        <p:sp>
          <p:nvSpPr>
            <p:cNvPr id="467" name=""/>
            <p:cNvSpPr/>
            <p:nvPr/>
          </p:nvSpPr>
          <p:spPr>
            <a:xfrm>
              <a:off x="755640" y="4495680"/>
              <a:ext cx="3009960" cy="1560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617840" y="4476600"/>
              <a:ext cx="5811840" cy="1600200"/>
              <a:chOff x="1617840" y="4476600"/>
              <a:chExt cx="5811840" cy="1600200"/>
            </a:xfrm>
          </p:grpSpPr>
          <p:sp>
            <p:nvSpPr>
              <p:cNvPr id="469" name=""/>
              <p:cNvSpPr/>
              <p:nvPr/>
            </p:nvSpPr>
            <p:spPr>
              <a:xfrm>
                <a:off x="5489640" y="4476600"/>
                <a:ext cx="1940040" cy="16002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Ontolog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619280" y="4481640"/>
                <a:ext cx="389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17840" y="6058080"/>
                <a:ext cx="3895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2" name=""/>
          <p:cNvGrpSpPr/>
          <p:nvPr/>
        </p:nvGrpSpPr>
        <p:grpSpPr>
          <a:xfrm>
            <a:off x="41760" y="4692600"/>
            <a:ext cx="2402640" cy="2206080"/>
            <a:chOff x="41760" y="4692600"/>
            <a:chExt cx="2402640" cy="2206080"/>
          </a:xfrm>
        </p:grpSpPr>
        <p:sp>
          <p:nvSpPr>
            <p:cNvPr id="473" name=""/>
            <p:cNvSpPr/>
            <p:nvPr/>
          </p:nvSpPr>
          <p:spPr>
            <a:xfrm>
              <a:off x="1225440" y="4692600"/>
              <a:ext cx="914400" cy="11430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1760" y="5629320"/>
              <a:ext cx="2402640" cy="1269360"/>
              <a:chOff x="41760" y="5629320"/>
              <a:chExt cx="2402640" cy="1269360"/>
            </a:xfrm>
          </p:grpSpPr>
          <p:sp>
            <p:nvSpPr>
              <p:cNvPr id="475" name=""/>
              <p:cNvSpPr/>
              <p:nvPr/>
            </p:nvSpPr>
            <p:spPr>
              <a:xfrm>
                <a:off x="41760" y="6477120"/>
                <a:ext cx="2402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tended models 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1600" spc="-1" strike="noStrike" baseline="-50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374760" y="5629320"/>
                <a:ext cx="1028520" cy="905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1479600" y="4692600"/>
            <a:ext cx="3395160" cy="2237760"/>
            <a:chOff x="1479600" y="4692600"/>
            <a:chExt cx="3395160" cy="2237760"/>
          </a:xfrm>
        </p:grpSpPr>
        <p:sp>
          <p:nvSpPr>
            <p:cNvPr id="478" name=""/>
            <p:cNvSpPr/>
            <p:nvPr/>
          </p:nvSpPr>
          <p:spPr>
            <a:xfrm>
              <a:off x="1479600" y="4692600"/>
              <a:ext cx="914400" cy="11430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1797120" y="5730840"/>
              <a:ext cx="3077640" cy="1199520"/>
              <a:chOff x="1797120" y="5730840"/>
              <a:chExt cx="3077640" cy="1199520"/>
            </a:xfrm>
          </p:grpSpPr>
          <p:sp>
            <p:nvSpPr>
              <p:cNvPr id="480" name=""/>
              <p:cNvSpPr/>
              <p:nvPr/>
            </p:nvSpPr>
            <p:spPr>
              <a:xfrm>
                <a:off x="2472120" y="6508800"/>
                <a:ext cx="2402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tended models 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1600" spc="-1" strike="noStrike" baseline="-50000">
                    <a:solidFill>
                      <a:srgbClr val="000000"/>
                    </a:solidFill>
                    <a:latin typeface="Times New Roman"/>
                  </a:rPr>
                  <a:t>B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2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1797120" y="5730840"/>
                <a:ext cx="952560" cy="82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2" name=""/>
          <p:cNvGrpSpPr/>
          <p:nvPr/>
        </p:nvGrpSpPr>
        <p:grpSpPr>
          <a:xfrm>
            <a:off x="1771560" y="4673520"/>
            <a:ext cx="5668560" cy="2256840"/>
            <a:chOff x="1771560" y="4673520"/>
            <a:chExt cx="5668560" cy="2256840"/>
          </a:xfrm>
        </p:grpSpPr>
        <p:sp>
          <p:nvSpPr>
            <p:cNvPr id="483" name=""/>
            <p:cNvSpPr/>
            <p:nvPr/>
          </p:nvSpPr>
          <p:spPr>
            <a:xfrm>
              <a:off x="1771560" y="4673520"/>
              <a:ext cx="914400" cy="11430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114640" y="5736960"/>
              <a:ext cx="5325480" cy="1193400"/>
              <a:chOff x="2114640" y="5736960"/>
              <a:chExt cx="5325480" cy="1193400"/>
            </a:xfrm>
          </p:grpSpPr>
          <p:sp>
            <p:nvSpPr>
              <p:cNvPr id="485" name=""/>
              <p:cNvSpPr/>
              <p:nvPr/>
            </p:nvSpPr>
            <p:spPr>
              <a:xfrm>
                <a:off x="5037480" y="6508800"/>
                <a:ext cx="2402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tended models 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1600" spc="-1" strike="noStrike" baseline="-50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2114640" y="5736960"/>
                <a:ext cx="2908080" cy="86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7" name=""/>
          <p:cNvGrpSpPr/>
          <p:nvPr/>
        </p:nvGrpSpPr>
        <p:grpSpPr>
          <a:xfrm>
            <a:off x="2063880" y="4673520"/>
            <a:ext cx="5376240" cy="1964520"/>
            <a:chOff x="2063880" y="4673520"/>
            <a:chExt cx="5376240" cy="1964520"/>
          </a:xfrm>
        </p:grpSpPr>
        <p:sp>
          <p:nvSpPr>
            <p:cNvPr id="488" name=""/>
            <p:cNvSpPr/>
            <p:nvPr/>
          </p:nvSpPr>
          <p:spPr>
            <a:xfrm>
              <a:off x="2063880" y="4673520"/>
              <a:ext cx="914400" cy="11430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2749320" y="5648400"/>
              <a:ext cx="4690800" cy="989640"/>
              <a:chOff x="2749320" y="5648400"/>
              <a:chExt cx="4690800" cy="989640"/>
            </a:xfrm>
          </p:grpSpPr>
          <p:sp>
            <p:nvSpPr>
              <p:cNvPr id="490" name=""/>
              <p:cNvSpPr/>
              <p:nvPr/>
            </p:nvSpPr>
            <p:spPr>
              <a:xfrm>
                <a:off x="5037480" y="6216480"/>
                <a:ext cx="2402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tended models I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1" lang="en-US" sz="1600" spc="-1" strike="noStrike" baseline="-50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(L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</a:rPr>
                  <a:t>B1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2749320" y="5648400"/>
                <a:ext cx="2616120" cy="65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47A0F-A32B-4A38-A3B1-DC85851AFBA7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6184800" y="2413080"/>
            <a:ext cx="351000" cy="350640"/>
          </a:xfrm>
          <a:custGeom>
            <a:avLst/>
            <a:gdLst/>
            <a:ahLst/>
            <a:rect l="l" t="t" r="r" b="b"/>
            <a:pathLst>
              <a:path w="221" h="221">
                <a:moveTo>
                  <a:pt x="221" y="111"/>
                </a:moveTo>
                <a:lnTo>
                  <a:pt x="218" y="85"/>
                </a:lnTo>
                <a:lnTo>
                  <a:pt x="211" y="62"/>
                </a:lnTo>
                <a:lnTo>
                  <a:pt x="197" y="41"/>
                </a:lnTo>
                <a:lnTo>
                  <a:pt x="180" y="24"/>
                </a:lnTo>
                <a:lnTo>
                  <a:pt x="159" y="10"/>
                </a:lnTo>
                <a:lnTo>
                  <a:pt x="136" y="3"/>
                </a:lnTo>
                <a:lnTo>
                  <a:pt x="110" y="0"/>
                </a:lnTo>
                <a:lnTo>
                  <a:pt x="85" y="3"/>
                </a:lnTo>
                <a:lnTo>
                  <a:pt x="63" y="10"/>
                </a:lnTo>
                <a:lnTo>
                  <a:pt x="41" y="24"/>
                </a:lnTo>
                <a:lnTo>
                  <a:pt x="23" y="41"/>
                </a:lnTo>
                <a:lnTo>
                  <a:pt x="12" y="62"/>
                </a:lnTo>
                <a:lnTo>
                  <a:pt x="3" y="85"/>
                </a:lnTo>
                <a:lnTo>
                  <a:pt x="0" y="111"/>
                </a:lnTo>
                <a:lnTo>
                  <a:pt x="3" y="134"/>
                </a:lnTo>
                <a:lnTo>
                  <a:pt x="12" y="158"/>
                </a:lnTo>
                <a:lnTo>
                  <a:pt x="23" y="178"/>
                </a:lnTo>
                <a:lnTo>
                  <a:pt x="41" y="196"/>
                </a:lnTo>
                <a:lnTo>
                  <a:pt x="63" y="209"/>
                </a:lnTo>
                <a:lnTo>
                  <a:pt x="85" y="218"/>
                </a:lnTo>
                <a:lnTo>
                  <a:pt x="110" y="221"/>
                </a:lnTo>
                <a:lnTo>
                  <a:pt x="136" y="218"/>
                </a:lnTo>
                <a:lnTo>
                  <a:pt x="159" y="209"/>
                </a:lnTo>
                <a:lnTo>
                  <a:pt x="180" y="196"/>
                </a:lnTo>
                <a:lnTo>
                  <a:pt x="197" y="178"/>
                </a:lnTo>
                <a:lnTo>
                  <a:pt x="211" y="158"/>
                </a:lnTo>
                <a:lnTo>
                  <a:pt x="218" y="134"/>
                </a:lnTo>
                <a:lnTo>
                  <a:pt x="221" y="11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69920" y="2413080"/>
            <a:ext cx="352440" cy="350640"/>
          </a:xfrm>
          <a:custGeom>
            <a:avLst/>
            <a:gdLst/>
            <a:ahLst/>
            <a:rect l="l" t="t" r="r" b="b"/>
            <a:pathLst>
              <a:path w="222" h="221">
                <a:moveTo>
                  <a:pt x="222" y="111"/>
                </a:moveTo>
                <a:lnTo>
                  <a:pt x="219" y="85"/>
                </a:lnTo>
                <a:lnTo>
                  <a:pt x="210" y="62"/>
                </a:lnTo>
                <a:lnTo>
                  <a:pt x="198" y="41"/>
                </a:lnTo>
                <a:lnTo>
                  <a:pt x="180" y="24"/>
                </a:lnTo>
                <a:lnTo>
                  <a:pt x="158" y="10"/>
                </a:lnTo>
                <a:lnTo>
                  <a:pt x="136" y="3"/>
                </a:lnTo>
                <a:lnTo>
                  <a:pt x="111" y="0"/>
                </a:lnTo>
                <a:lnTo>
                  <a:pt x="86" y="3"/>
                </a:lnTo>
                <a:lnTo>
                  <a:pt x="62" y="10"/>
                </a:lnTo>
                <a:lnTo>
                  <a:pt x="42" y="24"/>
                </a:lnTo>
                <a:lnTo>
                  <a:pt x="24" y="41"/>
                </a:lnTo>
                <a:lnTo>
                  <a:pt x="11" y="62"/>
                </a:lnTo>
                <a:lnTo>
                  <a:pt x="3" y="85"/>
                </a:lnTo>
                <a:lnTo>
                  <a:pt x="0" y="111"/>
                </a:lnTo>
                <a:lnTo>
                  <a:pt x="3" y="134"/>
                </a:lnTo>
                <a:lnTo>
                  <a:pt x="11" y="158"/>
                </a:lnTo>
                <a:lnTo>
                  <a:pt x="24" y="178"/>
                </a:lnTo>
                <a:lnTo>
                  <a:pt x="42" y="196"/>
                </a:lnTo>
                <a:lnTo>
                  <a:pt x="62" y="209"/>
                </a:lnTo>
                <a:lnTo>
                  <a:pt x="86" y="218"/>
                </a:lnTo>
                <a:lnTo>
                  <a:pt x="111" y="221"/>
                </a:lnTo>
                <a:lnTo>
                  <a:pt x="136" y="218"/>
                </a:lnTo>
                <a:lnTo>
                  <a:pt x="158" y="209"/>
                </a:lnTo>
                <a:lnTo>
                  <a:pt x="180" y="196"/>
                </a:lnTo>
                <a:lnTo>
                  <a:pt x="198" y="178"/>
                </a:lnTo>
                <a:lnTo>
                  <a:pt x="210" y="158"/>
                </a:lnTo>
                <a:lnTo>
                  <a:pt x="219" y="134"/>
                </a:lnTo>
                <a:lnTo>
                  <a:pt x="222" y="111"/>
                </a:lnTo>
                <a:close/>
              </a:path>
            </a:pathLst>
          </a:custGeom>
          <a:solidFill>
            <a:srgbClr val="00ffff"/>
          </a:solidFill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118960" y="246204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268280" y="3114720"/>
            <a:ext cx="351000" cy="352440"/>
          </a:xfrm>
          <a:custGeom>
            <a:avLst/>
            <a:gdLst/>
            <a:ahLst/>
            <a:rect l="l" t="t" r="r" b="b"/>
            <a:pathLst>
              <a:path w="221" h="222">
                <a:moveTo>
                  <a:pt x="221" y="111"/>
                </a:moveTo>
                <a:lnTo>
                  <a:pt x="218" y="86"/>
                </a:lnTo>
                <a:lnTo>
                  <a:pt x="209" y="62"/>
                </a:lnTo>
                <a:lnTo>
                  <a:pt x="196" y="42"/>
                </a:lnTo>
                <a:lnTo>
                  <a:pt x="180" y="24"/>
                </a:lnTo>
                <a:lnTo>
                  <a:pt x="158" y="11"/>
                </a:lnTo>
                <a:lnTo>
                  <a:pt x="136" y="3"/>
                </a:lnTo>
                <a:lnTo>
                  <a:pt x="111" y="0"/>
                </a:lnTo>
                <a:lnTo>
                  <a:pt x="86" y="3"/>
                </a:lnTo>
                <a:lnTo>
                  <a:pt x="62" y="11"/>
                </a:lnTo>
                <a:lnTo>
                  <a:pt x="41" y="24"/>
                </a:lnTo>
                <a:lnTo>
                  <a:pt x="24" y="42"/>
                </a:lnTo>
                <a:lnTo>
                  <a:pt x="10" y="62"/>
                </a:lnTo>
                <a:lnTo>
                  <a:pt x="3" y="86"/>
                </a:lnTo>
                <a:lnTo>
                  <a:pt x="0" y="111"/>
                </a:lnTo>
                <a:lnTo>
                  <a:pt x="3" y="135"/>
                </a:lnTo>
                <a:lnTo>
                  <a:pt x="10" y="158"/>
                </a:lnTo>
                <a:lnTo>
                  <a:pt x="24" y="179"/>
                </a:lnTo>
                <a:lnTo>
                  <a:pt x="41" y="197"/>
                </a:lnTo>
                <a:lnTo>
                  <a:pt x="62" y="210"/>
                </a:lnTo>
                <a:lnTo>
                  <a:pt x="86" y="219"/>
                </a:lnTo>
                <a:lnTo>
                  <a:pt x="111" y="222"/>
                </a:lnTo>
                <a:lnTo>
                  <a:pt x="136" y="219"/>
                </a:lnTo>
                <a:lnTo>
                  <a:pt x="158" y="210"/>
                </a:lnTo>
                <a:lnTo>
                  <a:pt x="180" y="197"/>
                </a:lnTo>
                <a:lnTo>
                  <a:pt x="196" y="179"/>
                </a:lnTo>
                <a:lnTo>
                  <a:pt x="209" y="158"/>
                </a:lnTo>
                <a:lnTo>
                  <a:pt x="218" y="135"/>
                </a:lnTo>
                <a:lnTo>
                  <a:pt x="221" y="111"/>
                </a:lnTo>
                <a:close/>
              </a:path>
            </a:pathLst>
          </a:custGeom>
          <a:solidFill>
            <a:srgbClr val="00ffff"/>
          </a:solidFill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22360" y="3114720"/>
            <a:ext cx="351000" cy="352440"/>
          </a:xfrm>
          <a:custGeom>
            <a:avLst/>
            <a:gdLst/>
            <a:ahLst/>
            <a:rect l="l" t="t" r="r" b="b"/>
            <a:pathLst>
              <a:path w="221" h="222">
                <a:moveTo>
                  <a:pt x="221" y="111"/>
                </a:moveTo>
                <a:lnTo>
                  <a:pt x="218" y="86"/>
                </a:lnTo>
                <a:lnTo>
                  <a:pt x="209" y="62"/>
                </a:lnTo>
                <a:lnTo>
                  <a:pt x="197" y="42"/>
                </a:lnTo>
                <a:lnTo>
                  <a:pt x="180" y="24"/>
                </a:lnTo>
                <a:lnTo>
                  <a:pt x="157" y="11"/>
                </a:lnTo>
                <a:lnTo>
                  <a:pt x="135" y="3"/>
                </a:lnTo>
                <a:lnTo>
                  <a:pt x="110" y="0"/>
                </a:lnTo>
                <a:lnTo>
                  <a:pt x="85" y="3"/>
                </a:lnTo>
                <a:lnTo>
                  <a:pt x="62" y="11"/>
                </a:lnTo>
                <a:lnTo>
                  <a:pt x="41" y="24"/>
                </a:lnTo>
                <a:lnTo>
                  <a:pt x="23" y="42"/>
                </a:lnTo>
                <a:lnTo>
                  <a:pt x="10" y="62"/>
                </a:lnTo>
                <a:lnTo>
                  <a:pt x="3" y="86"/>
                </a:lnTo>
                <a:lnTo>
                  <a:pt x="0" y="111"/>
                </a:lnTo>
                <a:lnTo>
                  <a:pt x="3" y="135"/>
                </a:lnTo>
                <a:lnTo>
                  <a:pt x="10" y="158"/>
                </a:lnTo>
                <a:lnTo>
                  <a:pt x="23" y="179"/>
                </a:lnTo>
                <a:lnTo>
                  <a:pt x="41" y="197"/>
                </a:lnTo>
                <a:lnTo>
                  <a:pt x="62" y="210"/>
                </a:lnTo>
                <a:lnTo>
                  <a:pt x="85" y="219"/>
                </a:lnTo>
                <a:lnTo>
                  <a:pt x="110" y="222"/>
                </a:lnTo>
                <a:lnTo>
                  <a:pt x="135" y="219"/>
                </a:lnTo>
                <a:lnTo>
                  <a:pt x="157" y="210"/>
                </a:lnTo>
                <a:lnTo>
                  <a:pt x="180" y="197"/>
                </a:lnTo>
                <a:lnTo>
                  <a:pt x="197" y="179"/>
                </a:lnTo>
                <a:lnTo>
                  <a:pt x="209" y="158"/>
                </a:lnTo>
                <a:lnTo>
                  <a:pt x="218" y="135"/>
                </a:lnTo>
                <a:lnTo>
                  <a:pt x="221" y="111"/>
                </a:lnTo>
                <a:close/>
              </a:path>
            </a:pathLst>
          </a:custGeom>
          <a:solidFill>
            <a:srgbClr val="00ffff"/>
          </a:solidFill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40000" y="3462480"/>
            <a:ext cx="4680" cy="36036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024360" y="3114720"/>
            <a:ext cx="350640" cy="352440"/>
          </a:xfrm>
          <a:custGeom>
            <a:avLst/>
            <a:gdLst/>
            <a:ahLst/>
            <a:rect l="l" t="t" r="r" b="b"/>
            <a:pathLst>
              <a:path w="221" h="222">
                <a:moveTo>
                  <a:pt x="221" y="111"/>
                </a:moveTo>
                <a:lnTo>
                  <a:pt x="218" y="86"/>
                </a:lnTo>
                <a:lnTo>
                  <a:pt x="211" y="62"/>
                </a:lnTo>
                <a:lnTo>
                  <a:pt x="198" y="42"/>
                </a:lnTo>
                <a:lnTo>
                  <a:pt x="180" y="24"/>
                </a:lnTo>
                <a:lnTo>
                  <a:pt x="158" y="11"/>
                </a:lnTo>
                <a:lnTo>
                  <a:pt x="136" y="3"/>
                </a:lnTo>
                <a:lnTo>
                  <a:pt x="111" y="0"/>
                </a:lnTo>
                <a:lnTo>
                  <a:pt x="86" y="3"/>
                </a:lnTo>
                <a:lnTo>
                  <a:pt x="62" y="11"/>
                </a:lnTo>
                <a:lnTo>
                  <a:pt x="41" y="24"/>
                </a:lnTo>
                <a:lnTo>
                  <a:pt x="24" y="42"/>
                </a:lnTo>
                <a:lnTo>
                  <a:pt x="10" y="62"/>
                </a:lnTo>
                <a:lnTo>
                  <a:pt x="3" y="86"/>
                </a:lnTo>
                <a:lnTo>
                  <a:pt x="0" y="111"/>
                </a:lnTo>
                <a:lnTo>
                  <a:pt x="3" y="135"/>
                </a:lnTo>
                <a:lnTo>
                  <a:pt x="10" y="158"/>
                </a:lnTo>
                <a:lnTo>
                  <a:pt x="24" y="179"/>
                </a:lnTo>
                <a:lnTo>
                  <a:pt x="41" y="197"/>
                </a:lnTo>
                <a:lnTo>
                  <a:pt x="62" y="210"/>
                </a:lnTo>
                <a:lnTo>
                  <a:pt x="86" y="219"/>
                </a:lnTo>
                <a:lnTo>
                  <a:pt x="111" y="222"/>
                </a:lnTo>
                <a:lnTo>
                  <a:pt x="136" y="219"/>
                </a:lnTo>
                <a:lnTo>
                  <a:pt x="158" y="210"/>
                </a:lnTo>
                <a:lnTo>
                  <a:pt x="180" y="197"/>
                </a:lnTo>
                <a:lnTo>
                  <a:pt x="198" y="179"/>
                </a:lnTo>
                <a:lnTo>
                  <a:pt x="211" y="158"/>
                </a:lnTo>
                <a:lnTo>
                  <a:pt x="218" y="135"/>
                </a:lnTo>
                <a:lnTo>
                  <a:pt x="221" y="111"/>
                </a:lnTo>
                <a:close/>
              </a:path>
            </a:pathLst>
          </a:custGeom>
          <a:solidFill>
            <a:srgbClr val="00ffff"/>
          </a:solidFill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6640" y="3817800"/>
            <a:ext cx="351000" cy="351000"/>
          </a:xfrm>
          <a:custGeom>
            <a:avLst/>
            <a:gdLst/>
            <a:ahLst/>
            <a:rect l="l" t="t" r="r" b="b"/>
            <a:pathLst>
              <a:path w="221" h="221">
                <a:moveTo>
                  <a:pt x="221" y="111"/>
                </a:moveTo>
                <a:lnTo>
                  <a:pt x="218" y="86"/>
                </a:lnTo>
                <a:lnTo>
                  <a:pt x="209" y="62"/>
                </a:lnTo>
                <a:lnTo>
                  <a:pt x="196" y="41"/>
                </a:lnTo>
                <a:lnTo>
                  <a:pt x="180" y="24"/>
                </a:lnTo>
                <a:lnTo>
                  <a:pt x="157" y="10"/>
                </a:lnTo>
                <a:lnTo>
                  <a:pt x="134" y="3"/>
                </a:lnTo>
                <a:lnTo>
                  <a:pt x="110" y="0"/>
                </a:lnTo>
                <a:lnTo>
                  <a:pt x="85" y="3"/>
                </a:lnTo>
                <a:lnTo>
                  <a:pt x="62" y="10"/>
                </a:lnTo>
                <a:lnTo>
                  <a:pt x="41" y="24"/>
                </a:lnTo>
                <a:lnTo>
                  <a:pt x="23" y="41"/>
                </a:lnTo>
                <a:lnTo>
                  <a:pt x="10" y="62"/>
                </a:lnTo>
                <a:lnTo>
                  <a:pt x="3" y="86"/>
                </a:lnTo>
                <a:lnTo>
                  <a:pt x="0" y="111"/>
                </a:lnTo>
                <a:lnTo>
                  <a:pt x="3" y="134"/>
                </a:lnTo>
                <a:lnTo>
                  <a:pt x="10" y="158"/>
                </a:lnTo>
                <a:lnTo>
                  <a:pt x="23" y="180"/>
                </a:lnTo>
                <a:lnTo>
                  <a:pt x="41" y="196"/>
                </a:lnTo>
                <a:lnTo>
                  <a:pt x="62" y="209"/>
                </a:lnTo>
                <a:lnTo>
                  <a:pt x="85" y="218"/>
                </a:lnTo>
                <a:lnTo>
                  <a:pt x="110" y="221"/>
                </a:lnTo>
                <a:lnTo>
                  <a:pt x="134" y="218"/>
                </a:lnTo>
                <a:lnTo>
                  <a:pt x="157" y="209"/>
                </a:lnTo>
                <a:lnTo>
                  <a:pt x="180" y="196"/>
                </a:lnTo>
                <a:lnTo>
                  <a:pt x="196" y="180"/>
                </a:lnTo>
                <a:lnTo>
                  <a:pt x="209" y="158"/>
                </a:lnTo>
                <a:lnTo>
                  <a:pt x="218" y="134"/>
                </a:lnTo>
                <a:lnTo>
                  <a:pt x="221" y="111"/>
                </a:lnTo>
                <a:close/>
              </a:path>
            </a:pathLst>
          </a:custGeom>
          <a:solidFill>
            <a:srgbClr val="00ffff"/>
          </a:solidFill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68280" y="3817800"/>
            <a:ext cx="351000" cy="351000"/>
          </a:xfrm>
          <a:custGeom>
            <a:avLst/>
            <a:gdLst/>
            <a:ahLst/>
            <a:rect l="l" t="t" r="r" b="b"/>
            <a:pathLst>
              <a:path w="221" h="221">
                <a:moveTo>
                  <a:pt x="221" y="111"/>
                </a:moveTo>
                <a:lnTo>
                  <a:pt x="218" y="86"/>
                </a:lnTo>
                <a:lnTo>
                  <a:pt x="209" y="62"/>
                </a:lnTo>
                <a:lnTo>
                  <a:pt x="196" y="41"/>
                </a:lnTo>
                <a:lnTo>
                  <a:pt x="180" y="24"/>
                </a:lnTo>
                <a:lnTo>
                  <a:pt x="158" y="10"/>
                </a:lnTo>
                <a:lnTo>
                  <a:pt x="136" y="3"/>
                </a:lnTo>
                <a:lnTo>
                  <a:pt x="111" y="0"/>
                </a:lnTo>
                <a:lnTo>
                  <a:pt x="86" y="3"/>
                </a:lnTo>
                <a:lnTo>
                  <a:pt x="62" y="10"/>
                </a:lnTo>
                <a:lnTo>
                  <a:pt x="41" y="24"/>
                </a:lnTo>
                <a:lnTo>
                  <a:pt x="24" y="41"/>
                </a:lnTo>
                <a:lnTo>
                  <a:pt x="10" y="62"/>
                </a:lnTo>
                <a:lnTo>
                  <a:pt x="3" y="86"/>
                </a:lnTo>
                <a:lnTo>
                  <a:pt x="0" y="111"/>
                </a:lnTo>
                <a:lnTo>
                  <a:pt x="3" y="134"/>
                </a:lnTo>
                <a:lnTo>
                  <a:pt x="10" y="158"/>
                </a:lnTo>
                <a:lnTo>
                  <a:pt x="24" y="180"/>
                </a:lnTo>
                <a:lnTo>
                  <a:pt x="41" y="196"/>
                </a:lnTo>
                <a:lnTo>
                  <a:pt x="62" y="209"/>
                </a:lnTo>
                <a:lnTo>
                  <a:pt x="86" y="218"/>
                </a:lnTo>
                <a:lnTo>
                  <a:pt x="111" y="221"/>
                </a:lnTo>
                <a:lnTo>
                  <a:pt x="136" y="218"/>
                </a:lnTo>
                <a:lnTo>
                  <a:pt x="158" y="209"/>
                </a:lnTo>
                <a:lnTo>
                  <a:pt x="180" y="196"/>
                </a:lnTo>
                <a:lnTo>
                  <a:pt x="196" y="180"/>
                </a:lnTo>
                <a:lnTo>
                  <a:pt x="209" y="158"/>
                </a:lnTo>
                <a:lnTo>
                  <a:pt x="218" y="134"/>
                </a:lnTo>
                <a:lnTo>
                  <a:pt x="221" y="111"/>
                </a:lnTo>
                <a:close/>
              </a:path>
            </a:pathLst>
          </a:custGeom>
          <a:solidFill>
            <a:srgbClr val="00ffff"/>
          </a:solidFill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69920" y="3817800"/>
            <a:ext cx="352440" cy="351000"/>
          </a:xfrm>
          <a:custGeom>
            <a:avLst/>
            <a:gdLst/>
            <a:ahLst/>
            <a:rect l="l" t="t" r="r" b="b"/>
            <a:pathLst>
              <a:path w="222" h="221">
                <a:moveTo>
                  <a:pt x="222" y="111"/>
                </a:moveTo>
                <a:lnTo>
                  <a:pt x="219" y="86"/>
                </a:lnTo>
                <a:lnTo>
                  <a:pt x="210" y="62"/>
                </a:lnTo>
                <a:lnTo>
                  <a:pt x="198" y="41"/>
                </a:lnTo>
                <a:lnTo>
                  <a:pt x="180" y="24"/>
                </a:lnTo>
                <a:lnTo>
                  <a:pt x="158" y="10"/>
                </a:lnTo>
                <a:lnTo>
                  <a:pt x="136" y="3"/>
                </a:lnTo>
                <a:lnTo>
                  <a:pt x="111" y="0"/>
                </a:lnTo>
                <a:lnTo>
                  <a:pt x="86" y="3"/>
                </a:lnTo>
                <a:lnTo>
                  <a:pt x="62" y="10"/>
                </a:lnTo>
                <a:lnTo>
                  <a:pt x="42" y="24"/>
                </a:lnTo>
                <a:lnTo>
                  <a:pt x="24" y="41"/>
                </a:lnTo>
                <a:lnTo>
                  <a:pt x="11" y="62"/>
                </a:lnTo>
                <a:lnTo>
                  <a:pt x="3" y="86"/>
                </a:lnTo>
                <a:lnTo>
                  <a:pt x="0" y="111"/>
                </a:lnTo>
                <a:lnTo>
                  <a:pt x="3" y="134"/>
                </a:lnTo>
                <a:lnTo>
                  <a:pt x="11" y="158"/>
                </a:lnTo>
                <a:lnTo>
                  <a:pt x="24" y="180"/>
                </a:lnTo>
                <a:lnTo>
                  <a:pt x="42" y="196"/>
                </a:lnTo>
                <a:lnTo>
                  <a:pt x="62" y="209"/>
                </a:lnTo>
                <a:lnTo>
                  <a:pt x="86" y="218"/>
                </a:lnTo>
                <a:lnTo>
                  <a:pt x="111" y="221"/>
                </a:lnTo>
                <a:lnTo>
                  <a:pt x="136" y="218"/>
                </a:lnTo>
                <a:lnTo>
                  <a:pt x="158" y="209"/>
                </a:lnTo>
                <a:lnTo>
                  <a:pt x="180" y="196"/>
                </a:lnTo>
                <a:lnTo>
                  <a:pt x="198" y="180"/>
                </a:lnTo>
                <a:lnTo>
                  <a:pt x="210" y="158"/>
                </a:lnTo>
                <a:lnTo>
                  <a:pt x="219" y="134"/>
                </a:lnTo>
                <a:lnTo>
                  <a:pt x="222" y="111"/>
                </a:lnTo>
                <a:close/>
              </a:path>
            </a:pathLst>
          </a:custGeom>
          <a:solidFill>
            <a:srgbClr val="00ffff"/>
          </a:solidFill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160720" y="2762280"/>
            <a:ext cx="385560" cy="36036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174760" y="2762280"/>
            <a:ext cx="1032120" cy="35244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57280" y="3467160"/>
            <a:ext cx="687600" cy="35064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449360" y="2762280"/>
            <a:ext cx="682560" cy="35568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755280" y="3481560"/>
            <a:ext cx="684360" cy="35532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11200" y="31449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63840" y="316404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33800" y="3164040"/>
            <a:ext cx="24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8120" y="38671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15880" y="38671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31920" y="38480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62640" y="244332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30720" y="3114720"/>
            <a:ext cx="351000" cy="352440"/>
          </a:xfrm>
          <a:custGeom>
            <a:avLst/>
            <a:gdLst/>
            <a:ahLst/>
            <a:rect l="l" t="t" r="r" b="b"/>
            <a:pathLst>
              <a:path w="221" h="222">
                <a:moveTo>
                  <a:pt x="221" y="111"/>
                </a:moveTo>
                <a:lnTo>
                  <a:pt x="219" y="86"/>
                </a:lnTo>
                <a:lnTo>
                  <a:pt x="211" y="62"/>
                </a:lnTo>
                <a:lnTo>
                  <a:pt x="198" y="42"/>
                </a:lnTo>
                <a:lnTo>
                  <a:pt x="180" y="24"/>
                </a:lnTo>
                <a:lnTo>
                  <a:pt x="160" y="11"/>
                </a:lnTo>
                <a:lnTo>
                  <a:pt x="136" y="3"/>
                </a:lnTo>
                <a:lnTo>
                  <a:pt x="111" y="0"/>
                </a:lnTo>
                <a:lnTo>
                  <a:pt x="86" y="3"/>
                </a:lnTo>
                <a:lnTo>
                  <a:pt x="64" y="11"/>
                </a:lnTo>
                <a:lnTo>
                  <a:pt x="42" y="24"/>
                </a:lnTo>
                <a:lnTo>
                  <a:pt x="24" y="42"/>
                </a:lnTo>
                <a:lnTo>
                  <a:pt x="11" y="62"/>
                </a:lnTo>
                <a:lnTo>
                  <a:pt x="3" y="86"/>
                </a:lnTo>
                <a:lnTo>
                  <a:pt x="0" y="111"/>
                </a:lnTo>
                <a:lnTo>
                  <a:pt x="3" y="135"/>
                </a:lnTo>
                <a:lnTo>
                  <a:pt x="11" y="158"/>
                </a:lnTo>
                <a:lnTo>
                  <a:pt x="24" y="179"/>
                </a:lnTo>
                <a:lnTo>
                  <a:pt x="42" y="197"/>
                </a:lnTo>
                <a:lnTo>
                  <a:pt x="64" y="210"/>
                </a:lnTo>
                <a:lnTo>
                  <a:pt x="86" y="219"/>
                </a:lnTo>
                <a:lnTo>
                  <a:pt x="111" y="222"/>
                </a:lnTo>
                <a:lnTo>
                  <a:pt x="136" y="219"/>
                </a:lnTo>
                <a:lnTo>
                  <a:pt x="160" y="210"/>
                </a:lnTo>
                <a:lnTo>
                  <a:pt x="180" y="197"/>
                </a:lnTo>
                <a:lnTo>
                  <a:pt x="198" y="179"/>
                </a:lnTo>
                <a:lnTo>
                  <a:pt x="211" y="158"/>
                </a:lnTo>
                <a:lnTo>
                  <a:pt x="219" y="135"/>
                </a:lnTo>
                <a:lnTo>
                  <a:pt x="221" y="11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34160" y="3114720"/>
            <a:ext cx="350640" cy="352440"/>
          </a:xfrm>
          <a:custGeom>
            <a:avLst/>
            <a:gdLst/>
            <a:ahLst/>
            <a:rect l="l" t="t" r="r" b="b"/>
            <a:pathLst>
              <a:path w="221" h="222">
                <a:moveTo>
                  <a:pt x="221" y="111"/>
                </a:moveTo>
                <a:lnTo>
                  <a:pt x="218" y="86"/>
                </a:lnTo>
                <a:lnTo>
                  <a:pt x="211" y="62"/>
                </a:lnTo>
                <a:lnTo>
                  <a:pt x="197" y="42"/>
                </a:lnTo>
                <a:lnTo>
                  <a:pt x="180" y="24"/>
                </a:lnTo>
                <a:lnTo>
                  <a:pt x="159" y="11"/>
                </a:lnTo>
                <a:lnTo>
                  <a:pt x="135" y="3"/>
                </a:lnTo>
                <a:lnTo>
                  <a:pt x="110" y="0"/>
                </a:lnTo>
                <a:lnTo>
                  <a:pt x="85" y="3"/>
                </a:lnTo>
                <a:lnTo>
                  <a:pt x="63" y="11"/>
                </a:lnTo>
                <a:lnTo>
                  <a:pt x="41" y="24"/>
                </a:lnTo>
                <a:lnTo>
                  <a:pt x="23" y="42"/>
                </a:lnTo>
                <a:lnTo>
                  <a:pt x="11" y="62"/>
                </a:lnTo>
                <a:lnTo>
                  <a:pt x="3" y="86"/>
                </a:lnTo>
                <a:lnTo>
                  <a:pt x="0" y="111"/>
                </a:lnTo>
                <a:lnTo>
                  <a:pt x="3" y="135"/>
                </a:lnTo>
                <a:lnTo>
                  <a:pt x="11" y="158"/>
                </a:lnTo>
                <a:lnTo>
                  <a:pt x="23" y="179"/>
                </a:lnTo>
                <a:lnTo>
                  <a:pt x="41" y="197"/>
                </a:lnTo>
                <a:lnTo>
                  <a:pt x="63" y="210"/>
                </a:lnTo>
                <a:lnTo>
                  <a:pt x="85" y="219"/>
                </a:lnTo>
                <a:lnTo>
                  <a:pt x="110" y="222"/>
                </a:lnTo>
                <a:lnTo>
                  <a:pt x="135" y="219"/>
                </a:lnTo>
                <a:lnTo>
                  <a:pt x="159" y="210"/>
                </a:lnTo>
                <a:lnTo>
                  <a:pt x="180" y="197"/>
                </a:lnTo>
                <a:lnTo>
                  <a:pt x="197" y="179"/>
                </a:lnTo>
                <a:lnTo>
                  <a:pt x="211" y="158"/>
                </a:lnTo>
                <a:lnTo>
                  <a:pt x="218" y="135"/>
                </a:lnTo>
                <a:lnTo>
                  <a:pt x="221" y="111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86440" y="3114720"/>
            <a:ext cx="351000" cy="352440"/>
          </a:xfrm>
          <a:custGeom>
            <a:avLst/>
            <a:gdLst/>
            <a:ahLst/>
            <a:rect l="l" t="t" r="r" b="b"/>
            <a:pathLst>
              <a:path w="221" h="222">
                <a:moveTo>
                  <a:pt x="221" y="111"/>
                </a:moveTo>
                <a:lnTo>
                  <a:pt x="219" y="86"/>
                </a:lnTo>
                <a:lnTo>
                  <a:pt x="211" y="62"/>
                </a:lnTo>
                <a:lnTo>
                  <a:pt x="198" y="42"/>
                </a:lnTo>
                <a:lnTo>
                  <a:pt x="180" y="24"/>
                </a:lnTo>
                <a:lnTo>
                  <a:pt x="160" y="11"/>
                </a:lnTo>
                <a:lnTo>
                  <a:pt x="136" y="3"/>
                </a:lnTo>
                <a:lnTo>
                  <a:pt x="111" y="0"/>
                </a:lnTo>
                <a:lnTo>
                  <a:pt x="86" y="3"/>
                </a:lnTo>
                <a:lnTo>
                  <a:pt x="64" y="11"/>
                </a:lnTo>
                <a:lnTo>
                  <a:pt x="42" y="24"/>
                </a:lnTo>
                <a:lnTo>
                  <a:pt x="25" y="42"/>
                </a:lnTo>
                <a:lnTo>
                  <a:pt x="12" y="62"/>
                </a:lnTo>
                <a:lnTo>
                  <a:pt x="3" y="86"/>
                </a:lnTo>
                <a:lnTo>
                  <a:pt x="0" y="111"/>
                </a:lnTo>
                <a:lnTo>
                  <a:pt x="3" y="135"/>
                </a:lnTo>
                <a:lnTo>
                  <a:pt x="12" y="158"/>
                </a:lnTo>
                <a:lnTo>
                  <a:pt x="25" y="179"/>
                </a:lnTo>
                <a:lnTo>
                  <a:pt x="42" y="197"/>
                </a:lnTo>
                <a:lnTo>
                  <a:pt x="64" y="210"/>
                </a:lnTo>
                <a:lnTo>
                  <a:pt x="86" y="219"/>
                </a:lnTo>
                <a:lnTo>
                  <a:pt x="111" y="222"/>
                </a:lnTo>
                <a:lnTo>
                  <a:pt x="136" y="219"/>
                </a:lnTo>
                <a:lnTo>
                  <a:pt x="160" y="210"/>
                </a:lnTo>
                <a:lnTo>
                  <a:pt x="180" y="197"/>
                </a:lnTo>
                <a:lnTo>
                  <a:pt x="198" y="179"/>
                </a:lnTo>
                <a:lnTo>
                  <a:pt x="211" y="158"/>
                </a:lnTo>
                <a:lnTo>
                  <a:pt x="219" y="135"/>
                </a:lnTo>
                <a:lnTo>
                  <a:pt x="221" y="111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89880" y="3114720"/>
            <a:ext cx="350640" cy="352440"/>
          </a:xfrm>
          <a:custGeom>
            <a:avLst/>
            <a:gdLst/>
            <a:ahLst/>
            <a:rect l="l" t="t" r="r" b="b"/>
            <a:pathLst>
              <a:path w="221" h="222">
                <a:moveTo>
                  <a:pt x="221" y="111"/>
                </a:moveTo>
                <a:lnTo>
                  <a:pt x="218" y="86"/>
                </a:lnTo>
                <a:lnTo>
                  <a:pt x="211" y="62"/>
                </a:lnTo>
                <a:lnTo>
                  <a:pt x="197" y="42"/>
                </a:lnTo>
                <a:lnTo>
                  <a:pt x="180" y="24"/>
                </a:lnTo>
                <a:lnTo>
                  <a:pt x="159" y="11"/>
                </a:lnTo>
                <a:lnTo>
                  <a:pt x="135" y="3"/>
                </a:lnTo>
                <a:lnTo>
                  <a:pt x="110" y="0"/>
                </a:lnTo>
                <a:lnTo>
                  <a:pt x="85" y="3"/>
                </a:lnTo>
                <a:lnTo>
                  <a:pt x="63" y="11"/>
                </a:lnTo>
                <a:lnTo>
                  <a:pt x="41" y="24"/>
                </a:lnTo>
                <a:lnTo>
                  <a:pt x="25" y="42"/>
                </a:lnTo>
                <a:lnTo>
                  <a:pt x="11" y="62"/>
                </a:lnTo>
                <a:lnTo>
                  <a:pt x="3" y="86"/>
                </a:lnTo>
                <a:lnTo>
                  <a:pt x="0" y="111"/>
                </a:lnTo>
                <a:lnTo>
                  <a:pt x="3" y="135"/>
                </a:lnTo>
                <a:lnTo>
                  <a:pt x="11" y="158"/>
                </a:lnTo>
                <a:lnTo>
                  <a:pt x="25" y="179"/>
                </a:lnTo>
                <a:lnTo>
                  <a:pt x="41" y="197"/>
                </a:lnTo>
                <a:lnTo>
                  <a:pt x="63" y="210"/>
                </a:lnTo>
                <a:lnTo>
                  <a:pt x="85" y="219"/>
                </a:lnTo>
                <a:lnTo>
                  <a:pt x="110" y="222"/>
                </a:lnTo>
                <a:lnTo>
                  <a:pt x="135" y="219"/>
                </a:lnTo>
                <a:lnTo>
                  <a:pt x="159" y="210"/>
                </a:lnTo>
                <a:lnTo>
                  <a:pt x="180" y="197"/>
                </a:lnTo>
                <a:lnTo>
                  <a:pt x="197" y="179"/>
                </a:lnTo>
                <a:lnTo>
                  <a:pt x="211" y="158"/>
                </a:lnTo>
                <a:lnTo>
                  <a:pt x="218" y="135"/>
                </a:lnTo>
                <a:lnTo>
                  <a:pt x="221" y="111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80080" y="2413080"/>
            <a:ext cx="350640" cy="350640"/>
          </a:xfrm>
          <a:custGeom>
            <a:avLst/>
            <a:gdLst/>
            <a:ahLst/>
            <a:rect l="l" t="t" r="r" b="b"/>
            <a:pathLst>
              <a:path w="221" h="221">
                <a:moveTo>
                  <a:pt x="221" y="111"/>
                </a:moveTo>
                <a:lnTo>
                  <a:pt x="218" y="85"/>
                </a:lnTo>
                <a:lnTo>
                  <a:pt x="211" y="62"/>
                </a:lnTo>
                <a:lnTo>
                  <a:pt x="198" y="41"/>
                </a:lnTo>
                <a:lnTo>
                  <a:pt x="180" y="24"/>
                </a:lnTo>
                <a:lnTo>
                  <a:pt x="159" y="10"/>
                </a:lnTo>
                <a:lnTo>
                  <a:pt x="136" y="3"/>
                </a:lnTo>
                <a:lnTo>
                  <a:pt x="111" y="0"/>
                </a:lnTo>
                <a:lnTo>
                  <a:pt x="86" y="3"/>
                </a:lnTo>
                <a:lnTo>
                  <a:pt x="62" y="10"/>
                </a:lnTo>
                <a:lnTo>
                  <a:pt x="41" y="24"/>
                </a:lnTo>
                <a:lnTo>
                  <a:pt x="24" y="41"/>
                </a:lnTo>
                <a:lnTo>
                  <a:pt x="10" y="62"/>
                </a:lnTo>
                <a:lnTo>
                  <a:pt x="3" y="85"/>
                </a:lnTo>
                <a:lnTo>
                  <a:pt x="0" y="111"/>
                </a:lnTo>
                <a:lnTo>
                  <a:pt x="3" y="134"/>
                </a:lnTo>
                <a:lnTo>
                  <a:pt x="10" y="158"/>
                </a:lnTo>
                <a:lnTo>
                  <a:pt x="24" y="178"/>
                </a:lnTo>
                <a:lnTo>
                  <a:pt x="41" y="196"/>
                </a:lnTo>
                <a:lnTo>
                  <a:pt x="62" y="209"/>
                </a:lnTo>
                <a:lnTo>
                  <a:pt x="86" y="218"/>
                </a:lnTo>
                <a:lnTo>
                  <a:pt x="111" y="221"/>
                </a:lnTo>
                <a:lnTo>
                  <a:pt x="136" y="218"/>
                </a:lnTo>
                <a:lnTo>
                  <a:pt x="159" y="209"/>
                </a:lnTo>
                <a:lnTo>
                  <a:pt x="180" y="196"/>
                </a:lnTo>
                <a:lnTo>
                  <a:pt x="198" y="178"/>
                </a:lnTo>
                <a:lnTo>
                  <a:pt x="211" y="158"/>
                </a:lnTo>
                <a:lnTo>
                  <a:pt x="218" y="134"/>
                </a:lnTo>
                <a:lnTo>
                  <a:pt x="221" y="111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 flipV="1">
            <a:off x="5129280" y="2560320"/>
            <a:ext cx="1440" cy="28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11640" y="2506680"/>
            <a:ext cx="9720" cy="25560"/>
          </a:xfrm>
          <a:custGeom>
            <a:avLst/>
            <a:gdLst/>
            <a:ahLst/>
            <a:rect l="l" t="t" r="r" b="b"/>
            <a:pathLst>
              <a:path w="4" h="11">
                <a:moveTo>
                  <a:pt x="4" y="11"/>
                </a:moveTo>
                <a:lnTo>
                  <a:pt x="1" y="2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76720" y="2462040"/>
            <a:ext cx="19080" cy="20880"/>
          </a:xfrm>
          <a:custGeom>
            <a:avLst/>
            <a:gdLst/>
            <a:ahLst/>
            <a:rect l="l" t="t" r="r" b="b"/>
            <a:pathLst>
              <a:path w="8" h="9">
                <a:moveTo>
                  <a:pt x="8" y="9"/>
                </a:moveTo>
                <a:lnTo>
                  <a:pt x="7" y="7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5032440" y="2428920"/>
            <a:ext cx="23760" cy="14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78440" y="2414520"/>
            <a:ext cx="28440" cy="4680"/>
          </a:xfrm>
          <a:custGeom>
            <a:avLst/>
            <a:gdLst/>
            <a:ahLst/>
            <a:rect l="l" t="t" r="r" b="b"/>
            <a:pathLst>
              <a:path w="12" h="2">
                <a:moveTo>
                  <a:pt x="12" y="2"/>
                </a:moveTo>
                <a:lnTo>
                  <a:pt x="7" y="1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22640" y="2413080"/>
            <a:ext cx="28440" cy="4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69000" y="2424240"/>
            <a:ext cx="25200" cy="12600"/>
          </a:xfrm>
          <a:custGeom>
            <a:avLst/>
            <a:gdLst/>
            <a:ahLst/>
            <a:rect l="l" t="t" r="r" b="b"/>
            <a:pathLst>
              <a:path w="11" h="5">
                <a:moveTo>
                  <a:pt x="11" y="0"/>
                </a:moveTo>
                <a:lnTo>
                  <a:pt x="4" y="2"/>
                </a:lnTo>
                <a:lnTo>
                  <a:pt x="0" y="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4827600" y="2451240"/>
            <a:ext cx="17280" cy="17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95920" y="2490840"/>
            <a:ext cx="14040" cy="22320"/>
          </a:xfrm>
          <a:custGeom>
            <a:avLst/>
            <a:gdLst/>
            <a:ahLst/>
            <a:rect l="l" t="t" r="r" b="b"/>
            <a:pathLst>
              <a:path w="6" h="10">
                <a:moveTo>
                  <a:pt x="6" y="0"/>
                </a:moveTo>
                <a:lnTo>
                  <a:pt x="0" y="9"/>
                </a:lnTo>
                <a:lnTo>
                  <a:pt x="0" y="1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82960" y="2540160"/>
            <a:ext cx="3240" cy="2700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1" y="4"/>
                </a:lnTo>
                <a:lnTo>
                  <a:pt x="0" y="12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80080" y="2595600"/>
            <a:ext cx="4680" cy="28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91240" y="2651040"/>
            <a:ext cx="14040" cy="27000"/>
          </a:xfrm>
          <a:custGeom>
            <a:avLst/>
            <a:gdLst/>
            <a:ahLst/>
            <a:rect l="l" t="t" r="r" b="b"/>
            <a:pathLst>
              <a:path w="6" h="11">
                <a:moveTo>
                  <a:pt x="0" y="0"/>
                </a:moveTo>
                <a:lnTo>
                  <a:pt x="2" y="5"/>
                </a:lnTo>
                <a:lnTo>
                  <a:pt x="6" y="1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22920" y="2700360"/>
            <a:ext cx="17280" cy="19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863960" y="2735280"/>
            <a:ext cx="24120" cy="1440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6" y="4"/>
                </a:lnTo>
                <a:lnTo>
                  <a:pt x="10" y="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13280" y="2759040"/>
            <a:ext cx="28440" cy="3240"/>
          </a:xfrm>
          <a:custGeom>
            <a:avLst/>
            <a:gdLst/>
            <a:ahLst/>
            <a:rect l="l" t="t" r="r" b="b"/>
            <a:pathLst>
              <a:path w="12" h="1">
                <a:moveTo>
                  <a:pt x="0" y="0"/>
                </a:moveTo>
                <a:lnTo>
                  <a:pt x="1" y="0"/>
                </a:lnTo>
                <a:lnTo>
                  <a:pt x="12" y="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70520" y="2759040"/>
            <a:ext cx="27000" cy="3240"/>
          </a:xfrm>
          <a:custGeom>
            <a:avLst/>
            <a:gdLst/>
            <a:ahLst/>
            <a:rect l="l" t="t" r="r" b="b"/>
            <a:pathLst>
              <a:path w="12" h="1">
                <a:moveTo>
                  <a:pt x="0" y="1"/>
                </a:moveTo>
                <a:lnTo>
                  <a:pt x="11" y="0"/>
                </a:lnTo>
                <a:lnTo>
                  <a:pt x="1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22720" y="2735280"/>
            <a:ext cx="27000" cy="12600"/>
          </a:xfrm>
          <a:custGeom>
            <a:avLst/>
            <a:gdLst/>
            <a:ahLst/>
            <a:rect l="l" t="t" r="r" b="b"/>
            <a:pathLst>
              <a:path w="11" h="5">
                <a:moveTo>
                  <a:pt x="0" y="5"/>
                </a:moveTo>
                <a:lnTo>
                  <a:pt x="4" y="4"/>
                </a:lnTo>
                <a:lnTo>
                  <a:pt x="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070600" y="2700000"/>
            <a:ext cx="19080" cy="19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05520" y="2651040"/>
            <a:ext cx="11160" cy="27000"/>
          </a:xfrm>
          <a:custGeom>
            <a:avLst/>
            <a:gdLst/>
            <a:ahLst/>
            <a:rect l="l" t="t" r="r" b="b"/>
            <a:pathLst>
              <a:path w="5" h="11">
                <a:moveTo>
                  <a:pt x="0" y="11"/>
                </a:moveTo>
                <a:lnTo>
                  <a:pt x="4" y="5"/>
                </a:lnTo>
                <a:lnTo>
                  <a:pt x="5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126040" y="2597040"/>
            <a:ext cx="3240" cy="2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5640" y="2462040"/>
            <a:ext cx="22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30720" y="3817800"/>
            <a:ext cx="351000" cy="351000"/>
          </a:xfrm>
          <a:custGeom>
            <a:avLst/>
            <a:gdLst/>
            <a:ahLst/>
            <a:rect l="l" t="t" r="r" b="b"/>
            <a:pathLst>
              <a:path w="221" h="221">
                <a:moveTo>
                  <a:pt x="221" y="111"/>
                </a:moveTo>
                <a:lnTo>
                  <a:pt x="219" y="86"/>
                </a:lnTo>
                <a:lnTo>
                  <a:pt x="211" y="62"/>
                </a:lnTo>
                <a:lnTo>
                  <a:pt x="198" y="41"/>
                </a:lnTo>
                <a:lnTo>
                  <a:pt x="180" y="24"/>
                </a:lnTo>
                <a:lnTo>
                  <a:pt x="160" y="10"/>
                </a:lnTo>
                <a:lnTo>
                  <a:pt x="136" y="3"/>
                </a:lnTo>
                <a:lnTo>
                  <a:pt x="111" y="0"/>
                </a:lnTo>
                <a:lnTo>
                  <a:pt x="86" y="3"/>
                </a:lnTo>
                <a:lnTo>
                  <a:pt x="64" y="10"/>
                </a:lnTo>
                <a:lnTo>
                  <a:pt x="42" y="24"/>
                </a:lnTo>
                <a:lnTo>
                  <a:pt x="24" y="41"/>
                </a:lnTo>
                <a:lnTo>
                  <a:pt x="11" y="62"/>
                </a:lnTo>
                <a:lnTo>
                  <a:pt x="3" y="86"/>
                </a:lnTo>
                <a:lnTo>
                  <a:pt x="0" y="111"/>
                </a:lnTo>
                <a:lnTo>
                  <a:pt x="3" y="134"/>
                </a:lnTo>
                <a:lnTo>
                  <a:pt x="11" y="158"/>
                </a:lnTo>
                <a:lnTo>
                  <a:pt x="24" y="180"/>
                </a:lnTo>
                <a:lnTo>
                  <a:pt x="42" y="196"/>
                </a:lnTo>
                <a:lnTo>
                  <a:pt x="64" y="209"/>
                </a:lnTo>
                <a:lnTo>
                  <a:pt x="86" y="218"/>
                </a:lnTo>
                <a:lnTo>
                  <a:pt x="111" y="221"/>
                </a:lnTo>
                <a:lnTo>
                  <a:pt x="136" y="218"/>
                </a:lnTo>
                <a:lnTo>
                  <a:pt x="160" y="209"/>
                </a:lnTo>
                <a:lnTo>
                  <a:pt x="180" y="196"/>
                </a:lnTo>
                <a:lnTo>
                  <a:pt x="198" y="180"/>
                </a:lnTo>
                <a:lnTo>
                  <a:pt x="211" y="158"/>
                </a:lnTo>
                <a:lnTo>
                  <a:pt x="219" y="134"/>
                </a:lnTo>
                <a:lnTo>
                  <a:pt x="221" y="111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834160" y="3817800"/>
            <a:ext cx="350640" cy="351000"/>
          </a:xfrm>
          <a:custGeom>
            <a:avLst/>
            <a:gdLst/>
            <a:ahLst/>
            <a:rect l="l" t="t" r="r" b="b"/>
            <a:pathLst>
              <a:path w="221" h="221">
                <a:moveTo>
                  <a:pt x="221" y="111"/>
                </a:moveTo>
                <a:lnTo>
                  <a:pt x="218" y="86"/>
                </a:lnTo>
                <a:lnTo>
                  <a:pt x="211" y="62"/>
                </a:lnTo>
                <a:lnTo>
                  <a:pt x="197" y="41"/>
                </a:lnTo>
                <a:lnTo>
                  <a:pt x="180" y="24"/>
                </a:lnTo>
                <a:lnTo>
                  <a:pt x="159" y="10"/>
                </a:lnTo>
                <a:lnTo>
                  <a:pt x="135" y="3"/>
                </a:lnTo>
                <a:lnTo>
                  <a:pt x="110" y="0"/>
                </a:lnTo>
                <a:lnTo>
                  <a:pt x="85" y="3"/>
                </a:lnTo>
                <a:lnTo>
                  <a:pt x="63" y="10"/>
                </a:lnTo>
                <a:lnTo>
                  <a:pt x="41" y="24"/>
                </a:lnTo>
                <a:lnTo>
                  <a:pt x="23" y="41"/>
                </a:lnTo>
                <a:lnTo>
                  <a:pt x="11" y="62"/>
                </a:lnTo>
                <a:lnTo>
                  <a:pt x="3" y="86"/>
                </a:lnTo>
                <a:lnTo>
                  <a:pt x="0" y="111"/>
                </a:lnTo>
                <a:lnTo>
                  <a:pt x="3" y="134"/>
                </a:lnTo>
                <a:lnTo>
                  <a:pt x="11" y="158"/>
                </a:lnTo>
                <a:lnTo>
                  <a:pt x="23" y="180"/>
                </a:lnTo>
                <a:lnTo>
                  <a:pt x="41" y="196"/>
                </a:lnTo>
                <a:lnTo>
                  <a:pt x="63" y="209"/>
                </a:lnTo>
                <a:lnTo>
                  <a:pt x="85" y="218"/>
                </a:lnTo>
                <a:lnTo>
                  <a:pt x="110" y="221"/>
                </a:lnTo>
                <a:lnTo>
                  <a:pt x="135" y="218"/>
                </a:lnTo>
                <a:lnTo>
                  <a:pt x="159" y="209"/>
                </a:lnTo>
                <a:lnTo>
                  <a:pt x="180" y="196"/>
                </a:lnTo>
                <a:lnTo>
                  <a:pt x="197" y="180"/>
                </a:lnTo>
                <a:lnTo>
                  <a:pt x="211" y="158"/>
                </a:lnTo>
                <a:lnTo>
                  <a:pt x="218" y="134"/>
                </a:lnTo>
                <a:lnTo>
                  <a:pt x="221" y="111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35800" y="3817800"/>
            <a:ext cx="350640" cy="351000"/>
          </a:xfrm>
          <a:custGeom>
            <a:avLst/>
            <a:gdLst/>
            <a:ahLst/>
            <a:rect l="l" t="t" r="r" b="b"/>
            <a:pathLst>
              <a:path w="221" h="221">
                <a:moveTo>
                  <a:pt x="221" y="111"/>
                </a:moveTo>
                <a:lnTo>
                  <a:pt x="218" y="86"/>
                </a:lnTo>
                <a:lnTo>
                  <a:pt x="211" y="62"/>
                </a:lnTo>
                <a:lnTo>
                  <a:pt x="198" y="41"/>
                </a:lnTo>
                <a:lnTo>
                  <a:pt x="180" y="24"/>
                </a:lnTo>
                <a:lnTo>
                  <a:pt x="159" y="10"/>
                </a:lnTo>
                <a:lnTo>
                  <a:pt x="136" y="3"/>
                </a:lnTo>
                <a:lnTo>
                  <a:pt x="111" y="0"/>
                </a:lnTo>
                <a:lnTo>
                  <a:pt x="86" y="3"/>
                </a:lnTo>
                <a:lnTo>
                  <a:pt x="63" y="10"/>
                </a:lnTo>
                <a:lnTo>
                  <a:pt x="41" y="24"/>
                </a:lnTo>
                <a:lnTo>
                  <a:pt x="24" y="41"/>
                </a:lnTo>
                <a:lnTo>
                  <a:pt x="12" y="62"/>
                </a:lnTo>
                <a:lnTo>
                  <a:pt x="3" y="86"/>
                </a:lnTo>
                <a:lnTo>
                  <a:pt x="0" y="111"/>
                </a:lnTo>
                <a:lnTo>
                  <a:pt x="3" y="134"/>
                </a:lnTo>
                <a:lnTo>
                  <a:pt x="12" y="158"/>
                </a:lnTo>
                <a:lnTo>
                  <a:pt x="24" y="180"/>
                </a:lnTo>
                <a:lnTo>
                  <a:pt x="41" y="196"/>
                </a:lnTo>
                <a:lnTo>
                  <a:pt x="63" y="209"/>
                </a:lnTo>
                <a:lnTo>
                  <a:pt x="86" y="218"/>
                </a:lnTo>
                <a:lnTo>
                  <a:pt x="111" y="221"/>
                </a:lnTo>
                <a:lnTo>
                  <a:pt x="136" y="218"/>
                </a:lnTo>
                <a:lnTo>
                  <a:pt x="159" y="209"/>
                </a:lnTo>
                <a:lnTo>
                  <a:pt x="180" y="196"/>
                </a:lnTo>
                <a:lnTo>
                  <a:pt x="198" y="180"/>
                </a:lnTo>
                <a:lnTo>
                  <a:pt x="211" y="158"/>
                </a:lnTo>
                <a:lnTo>
                  <a:pt x="218" y="134"/>
                </a:lnTo>
                <a:lnTo>
                  <a:pt x="221" y="111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37440" y="3817800"/>
            <a:ext cx="352440" cy="351000"/>
          </a:xfrm>
          <a:custGeom>
            <a:avLst/>
            <a:gdLst/>
            <a:ahLst/>
            <a:rect l="l" t="t" r="r" b="b"/>
            <a:pathLst>
              <a:path w="222" h="221">
                <a:moveTo>
                  <a:pt x="222" y="111"/>
                </a:moveTo>
                <a:lnTo>
                  <a:pt x="219" y="86"/>
                </a:lnTo>
                <a:lnTo>
                  <a:pt x="211" y="62"/>
                </a:lnTo>
                <a:lnTo>
                  <a:pt x="198" y="41"/>
                </a:lnTo>
                <a:lnTo>
                  <a:pt x="180" y="24"/>
                </a:lnTo>
                <a:lnTo>
                  <a:pt x="160" y="10"/>
                </a:lnTo>
                <a:lnTo>
                  <a:pt x="136" y="3"/>
                </a:lnTo>
                <a:lnTo>
                  <a:pt x="111" y="0"/>
                </a:lnTo>
                <a:lnTo>
                  <a:pt x="86" y="3"/>
                </a:lnTo>
                <a:lnTo>
                  <a:pt x="64" y="10"/>
                </a:lnTo>
                <a:lnTo>
                  <a:pt x="42" y="24"/>
                </a:lnTo>
                <a:lnTo>
                  <a:pt x="26" y="41"/>
                </a:lnTo>
                <a:lnTo>
                  <a:pt x="12" y="62"/>
                </a:lnTo>
                <a:lnTo>
                  <a:pt x="3" y="86"/>
                </a:lnTo>
                <a:lnTo>
                  <a:pt x="0" y="111"/>
                </a:lnTo>
                <a:lnTo>
                  <a:pt x="3" y="134"/>
                </a:lnTo>
                <a:lnTo>
                  <a:pt x="12" y="158"/>
                </a:lnTo>
                <a:lnTo>
                  <a:pt x="26" y="180"/>
                </a:lnTo>
                <a:lnTo>
                  <a:pt x="42" y="196"/>
                </a:lnTo>
                <a:lnTo>
                  <a:pt x="64" y="209"/>
                </a:lnTo>
                <a:lnTo>
                  <a:pt x="86" y="218"/>
                </a:lnTo>
                <a:lnTo>
                  <a:pt x="111" y="221"/>
                </a:lnTo>
                <a:lnTo>
                  <a:pt x="136" y="218"/>
                </a:lnTo>
                <a:lnTo>
                  <a:pt x="160" y="209"/>
                </a:lnTo>
                <a:lnTo>
                  <a:pt x="180" y="196"/>
                </a:lnTo>
                <a:lnTo>
                  <a:pt x="198" y="180"/>
                </a:lnTo>
                <a:lnTo>
                  <a:pt x="211" y="158"/>
                </a:lnTo>
                <a:lnTo>
                  <a:pt x="219" y="134"/>
                </a:lnTo>
                <a:lnTo>
                  <a:pt x="222" y="111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40520" y="3817800"/>
            <a:ext cx="351000" cy="351000"/>
          </a:xfrm>
          <a:custGeom>
            <a:avLst/>
            <a:gdLst/>
            <a:ahLst/>
            <a:rect l="l" t="t" r="r" b="b"/>
            <a:pathLst>
              <a:path w="221" h="221">
                <a:moveTo>
                  <a:pt x="221" y="111"/>
                </a:moveTo>
                <a:lnTo>
                  <a:pt x="218" y="86"/>
                </a:lnTo>
                <a:lnTo>
                  <a:pt x="211" y="62"/>
                </a:lnTo>
                <a:lnTo>
                  <a:pt x="198" y="41"/>
                </a:lnTo>
                <a:lnTo>
                  <a:pt x="180" y="24"/>
                </a:lnTo>
                <a:lnTo>
                  <a:pt x="159" y="10"/>
                </a:lnTo>
                <a:lnTo>
                  <a:pt x="136" y="3"/>
                </a:lnTo>
                <a:lnTo>
                  <a:pt x="111" y="0"/>
                </a:lnTo>
                <a:lnTo>
                  <a:pt x="87" y="3"/>
                </a:lnTo>
                <a:lnTo>
                  <a:pt x="63" y="10"/>
                </a:lnTo>
                <a:lnTo>
                  <a:pt x="41" y="24"/>
                </a:lnTo>
                <a:lnTo>
                  <a:pt x="25" y="41"/>
                </a:lnTo>
                <a:lnTo>
                  <a:pt x="12" y="62"/>
                </a:lnTo>
                <a:lnTo>
                  <a:pt x="3" y="86"/>
                </a:lnTo>
                <a:lnTo>
                  <a:pt x="0" y="111"/>
                </a:lnTo>
                <a:lnTo>
                  <a:pt x="3" y="134"/>
                </a:lnTo>
                <a:lnTo>
                  <a:pt x="12" y="158"/>
                </a:lnTo>
                <a:lnTo>
                  <a:pt x="25" y="180"/>
                </a:lnTo>
                <a:lnTo>
                  <a:pt x="41" y="196"/>
                </a:lnTo>
                <a:lnTo>
                  <a:pt x="63" y="209"/>
                </a:lnTo>
                <a:lnTo>
                  <a:pt x="87" y="218"/>
                </a:lnTo>
                <a:lnTo>
                  <a:pt x="111" y="221"/>
                </a:lnTo>
                <a:lnTo>
                  <a:pt x="136" y="218"/>
                </a:lnTo>
                <a:lnTo>
                  <a:pt x="159" y="209"/>
                </a:lnTo>
                <a:lnTo>
                  <a:pt x="180" y="196"/>
                </a:lnTo>
                <a:lnTo>
                  <a:pt x="198" y="180"/>
                </a:lnTo>
                <a:lnTo>
                  <a:pt x="211" y="158"/>
                </a:lnTo>
                <a:lnTo>
                  <a:pt x="218" y="134"/>
                </a:lnTo>
                <a:lnTo>
                  <a:pt x="221" y="111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83120" y="2762280"/>
            <a:ext cx="279360" cy="3571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 flipV="1">
            <a:off x="4992480" y="2771280"/>
            <a:ext cx="1004760" cy="343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5286240" y="3467160"/>
            <a:ext cx="12960" cy="35064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981400" y="3463920"/>
            <a:ext cx="12600" cy="35388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821720" y="3457440"/>
            <a:ext cx="282600" cy="36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99200" y="3459240"/>
            <a:ext cx="284400" cy="36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6726240" y="3467160"/>
            <a:ext cx="325440" cy="350640"/>
          </a:xfrm>
          <a:prstGeom prst="line">
            <a:avLst/>
          </a:prstGeom>
          <a:ln w="23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418520" y="3867120"/>
            <a:ext cx="93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110440" y="3867120"/>
            <a:ext cx="1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279760" y="316404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75280" y="316404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029360" y="316404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40360" y="316404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87680" y="3848040"/>
            <a:ext cx="148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968800" y="3867120"/>
            <a:ext cx="18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670440" y="3867120"/>
            <a:ext cx="188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125800" y="240804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127240" y="238896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30480" y="236988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2131920" y="2352240"/>
            <a:ext cx="180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2136600" y="2333520"/>
            <a:ext cx="1800" cy="5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141640" y="2314440"/>
            <a:ext cx="1440" cy="5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146320" y="2295360"/>
            <a:ext cx="3240" cy="5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1000" y="2276280"/>
            <a:ext cx="180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151000" y="2276280"/>
            <a:ext cx="180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160720" y="2260440"/>
            <a:ext cx="1440" cy="5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166840" y="2244600"/>
            <a:ext cx="3240" cy="5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2176560" y="222696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184480" y="2214720"/>
            <a:ext cx="14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195640" y="219672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2206800" y="2180880"/>
            <a:ext cx="288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219400" y="2166480"/>
            <a:ext cx="144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230560" y="2152440"/>
            <a:ext cx="288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243160" y="2141640"/>
            <a:ext cx="32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255760" y="2127240"/>
            <a:ext cx="32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270160" y="211572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2287440" y="2103120"/>
            <a:ext cx="324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303640" y="209232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319480" y="207936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335320" y="20718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352600" y="206172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2368440" y="205272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384280" y="2042640"/>
            <a:ext cx="50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403360" y="2034720"/>
            <a:ext cx="504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2422440" y="202896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2022480"/>
            <a:ext cx="50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1" y="0"/>
                </a:lnTo>
                <a:lnTo>
                  <a:pt x="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457360" y="201420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476440" y="200772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95520" y="20034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514600" y="199512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532240" y="199044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550960" y="1986120"/>
            <a:ext cx="5040" cy="2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570040" y="198288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2589120" y="19782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08200" y="197496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2625840" y="196956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644920" y="196488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664000" y="1963800"/>
            <a:ext cx="468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1" y="0"/>
                </a:lnTo>
                <a:lnTo>
                  <a:pt x="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82720" y="196056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01800" y="1959120"/>
            <a:ext cx="32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19440" y="195588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738520" y="1951200"/>
            <a:ext cx="4680" cy="2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57600" y="19512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76680" y="194940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95760" y="1946160"/>
            <a:ext cx="28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813040" y="194616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32120" y="1944720"/>
            <a:ext cx="468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1" y="0"/>
                </a:lnTo>
                <a:lnTo>
                  <a:pt x="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51200" y="194472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70280" y="194148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89360" y="1941480"/>
            <a:ext cx="32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906640" y="19400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925720" y="19400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44800" y="19400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63880" y="19400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82960" y="1940040"/>
            <a:ext cx="32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00240" y="194004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19320" y="194004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38400" y="19400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57480" y="19400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75120" y="19400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94200" y="19400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112920" y="194004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32000" y="1941480"/>
            <a:ext cx="50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151080" y="1941480"/>
            <a:ext cx="50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68720" y="194148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87800" y="194472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06880" y="194472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25960" y="194616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44680" y="1946160"/>
            <a:ext cx="50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62320" y="194616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81400" y="194940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0480" y="194940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19560" y="19512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38640" y="195408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5920" y="195408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375000" y="1955880"/>
            <a:ext cx="468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1" y="0"/>
                </a:lnTo>
                <a:lnTo>
                  <a:pt x="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394080" y="195912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13160" y="196056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32240" y="196056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449520" y="196380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468600" y="196524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87680" y="196848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506760" y="196992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25840" y="197316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543480" y="197496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62200" y="197820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073240" y="1979640"/>
            <a:ext cx="4357800" cy="2566800"/>
            <a:chOff x="2073240" y="1979640"/>
            <a:chExt cx="4357800" cy="2566800"/>
          </a:xfrm>
        </p:grpSpPr>
        <p:sp>
          <p:nvSpPr>
            <p:cNvPr id="652" name=""/>
            <p:cNvSpPr/>
            <p:nvPr/>
          </p:nvSpPr>
          <p:spPr>
            <a:xfrm>
              <a:off x="3581280" y="19796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600360" y="19828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619440" y="19828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37080" y="19843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656160" y="198612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75240" y="1989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93960" y="19908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13040" y="19940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730680" y="19954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749760" y="19987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68840" y="20001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87920" y="2003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807000" y="2008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24280" y="20098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43360" y="20131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62440" y="20145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81520" y="20192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900600" y="2022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7880" y="2023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936960" y="20271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56040" y="2030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75120" y="2033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994200" y="2035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11480" y="20383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30560" y="20430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49640" y="20448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68720" y="20480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87800" y="20527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05440" y="20541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124160" y="20574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143240" y="20588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62320" y="20638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81400" y="206676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99040" y="20685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18120" y="20718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37200" y="2076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255920" y="20779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75000" y="207972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292640" y="2084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311720" y="2087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30800" y="2089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49880" y="2092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68960" y="2093760"/>
              <a:ext cx="2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86240" y="2097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405320" y="20988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424400" y="2101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443480" y="21067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62560" y="210816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79840" y="2111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98920" y="2112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518000" y="2116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537080" y="21178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554360" y="211788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73440" y="21207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592520" y="21225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11600" y="2124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630680" y="2127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48320" y="2127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67400" y="2128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86480" y="2131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05200" y="21337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724280" y="21337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741920" y="2136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761000" y="2136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780080" y="2138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799160" y="2138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1824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3552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5460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73680" y="2143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892760" y="2143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911840" y="2143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929120" y="2146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48200" y="2146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967280" y="2146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86360" y="2146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005440" y="2146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22720" y="21463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41800" y="21463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60880" y="2147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079960" y="2147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099040" y="2147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16680" y="2147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35400" y="21477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54480" y="21477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73560" y="21477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192640" y="2147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10280" y="2147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29360" y="2147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48440" y="2147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267160" y="21477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86240" y="21463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03880" y="2146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322960" y="2146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342040" y="2146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61120" y="2143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80200" y="2143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97480" y="2143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6560" y="2143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35640" y="2143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5472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7380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49108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1016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52924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4832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6740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84680" y="21416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03760" y="21416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22840" y="2138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641920" y="2138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61000" y="2138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78640" y="2138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697360" y="21416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16440" y="21416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35520" y="21416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54600" y="214164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77224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9132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81040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829480" y="214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48200" y="214308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5840" y="2143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84920" y="2146320"/>
              <a:ext cx="46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904000" y="2147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923080" y="21477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42160" y="2151000"/>
              <a:ext cx="2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959440" y="21528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78520" y="2155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97600" y="2157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016680" y="21607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35760" y="216216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53040" y="21668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72120" y="2170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1200" y="2173320"/>
              <a:ext cx="46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110280" y="2178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27920" y="2181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146640" y="21859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65720" y="21924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184800" y="21970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203880" y="2205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203880" y="2205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19720" y="22114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235560" y="22208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253200" y="2227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269040" y="2236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284880" y="2249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02520" y="22604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15120" y="2271600"/>
              <a:ext cx="324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329520" y="2286000"/>
              <a:ext cx="288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342120" y="2303640"/>
              <a:ext cx="14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353280" y="231948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353280" y="231948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59400" y="233856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67320" y="2357280"/>
              <a:ext cx="180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373800" y="2374920"/>
              <a:ext cx="14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77040" y="2394000"/>
              <a:ext cx="14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73240" y="2357280"/>
              <a:ext cx="108000" cy="558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0" y="0"/>
                  </a:moveTo>
                  <a:lnTo>
                    <a:pt x="33" y="35"/>
                  </a:lnTo>
                  <a:lnTo>
                    <a:pt x="68" y="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323040" y="2357280"/>
              <a:ext cx="108000" cy="55800"/>
            </a:xfrm>
            <a:custGeom>
              <a:avLst/>
              <a:gdLst/>
              <a:ahLst/>
              <a:rect l="l" t="t" r="r" b="b"/>
              <a:pathLst>
                <a:path w="68" h="35">
                  <a:moveTo>
                    <a:pt x="0" y="2"/>
                  </a:moveTo>
                  <a:lnTo>
                    <a:pt x="35" y="35"/>
                  </a:lnTo>
                  <a:lnTo>
                    <a:pt x="68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70080" y="41673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4480" y="417816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97080" y="4191120"/>
              <a:ext cx="32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11480" y="420228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25520" y="42163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239920" y="42274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55760" y="423864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70160" y="42512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87440" y="4262400"/>
              <a:ext cx="180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00400" y="4275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17680" y="42861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333520" y="42973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49360" y="43099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367000" y="4321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82840" y="433224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97240" y="43419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13080" y="43513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28920" y="4363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46200" y="43736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62040" y="4381560"/>
              <a:ext cx="504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78240" y="43909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95520" y="44006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511360" y="4410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27200" y="441972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544840" y="4429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544840" y="4429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60680" y="44388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76520" y="44449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593800" y="44546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610000" y="44625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625840" y="4471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643120" y="4478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660760" y="44845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678040" y="4494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93880" y="45021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712960" y="450864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28800" y="45165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747880" y="4522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763720" y="45324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81360" y="4537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98640" y="454356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1444680" y="4163760"/>
            <a:ext cx="4622760" cy="640080"/>
            <a:chOff x="1444680" y="4163760"/>
            <a:chExt cx="4622760" cy="640080"/>
          </a:xfrm>
        </p:grpSpPr>
        <p:sp>
          <p:nvSpPr>
            <p:cNvPr id="853" name=""/>
            <p:cNvSpPr/>
            <p:nvPr/>
          </p:nvSpPr>
          <p:spPr>
            <a:xfrm>
              <a:off x="2816280" y="4552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835360" y="4557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52640" y="45655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870280" y="4572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889360" y="4578480"/>
              <a:ext cx="32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906640" y="4586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925720" y="45925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44800" y="4600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963880" y="4606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982960" y="461160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000240" y="46180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019320" y="46260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038400" y="4630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057480" y="4635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75120" y="4641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94200" y="46465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12920" y="46512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132000" y="46562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151080" y="4660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68720" y="4667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187800" y="4672080"/>
              <a:ext cx="46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06880" y="4676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25960" y="4681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44680" y="468468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62320" y="4689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81400" y="4694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300480" y="4699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319560" y="4703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38640" y="47052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355920" y="4710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375000" y="4714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94080" y="47163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13160" y="4721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32240" y="4726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49520" y="47293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8600" y="4734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87680" y="4738680"/>
              <a:ext cx="46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506760" y="4740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25840" y="4743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543480" y="4748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62200" y="4749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581280" y="47530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00360" y="47545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19440" y="475632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37080" y="4761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656160" y="4764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675240" y="4765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693960" y="4768920"/>
              <a:ext cx="50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713040" y="47703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30680" y="4773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49760" y="4775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68840" y="47750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787920" y="4778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807000" y="4780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824280" y="4782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843360" y="4784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862440" y="47847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81520" y="4788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00600" y="4789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917880" y="47894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36960" y="4792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56040" y="4792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75120" y="4794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94200" y="4797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011480" y="47973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0560" y="47973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049640" y="4797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68720" y="4799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087800" y="4799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105440" y="4799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24160" y="47991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43240" y="47991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162320" y="479916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81400" y="480204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199040" y="4802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218120" y="4802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237200" y="4802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255920" y="48020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275000" y="480204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292640" y="4802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11720" y="4802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330800" y="4802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349880" y="4799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68960" y="4799160"/>
              <a:ext cx="2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86240" y="4799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405320" y="4797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24400" y="4797360"/>
              <a:ext cx="46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443480" y="4797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462560" y="479412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79840" y="4794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498920" y="4794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518000" y="4792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537080" y="4792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554360" y="47894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573440" y="47880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4592520" y="47844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11600" y="4784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630680" y="4782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48320" y="4780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67400" y="4780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86480" y="4778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705200" y="47750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4724280" y="4773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741920" y="4773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761000" y="4770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780080" y="4768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799160" y="4765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818240" y="4764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35520" y="4761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4854600" y="475632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4873680" y="47541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4892760" y="4753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4911840" y="47494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929120" y="4747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4948200" y="47451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967280" y="4743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86360" y="4740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05440" y="4738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022720" y="47354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5041800" y="47304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60880" y="4729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79960" y="4724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5099040" y="47192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116680" y="4716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5135400" y="47113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154480" y="47102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173560" y="47052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5192640" y="47001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210280" y="4699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229360" y="4694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248440" y="4689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5267160" y="46810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5286240" y="46764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03880" y="4672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322960" y="46652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342040" y="4660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361120" y="4654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380200" y="4649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V="1">
              <a:off x="5397480" y="46414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16560" y="4637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5435640" y="46303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5454720" y="46224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5473800" y="4615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491080" y="4611600"/>
              <a:ext cx="46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5508720" y="46018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5526000" y="45954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43640" y="4587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59480" y="4581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5575320" y="4573440"/>
              <a:ext cx="46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5592600" y="45651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608800" y="4557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5624640" y="45478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641920" y="4541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5657760" y="4532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5673600" y="45223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5691240" y="451296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5705640" y="4503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5721480" y="44938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5737320" y="4483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5754600" y="447156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5770440" y="44589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5786280" y="44481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5803920" y="4435200"/>
              <a:ext cx="14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5816520" y="442404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5830920" y="4413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5845320" y="44002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5859360" y="43894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5873760" y="437832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5884920" y="436536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896080" y="435456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5908680" y="4341960"/>
              <a:ext cx="14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5919840" y="433080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5932440" y="431964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5943600" y="4304880"/>
              <a:ext cx="14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5954760" y="428760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967360" y="4275000"/>
              <a:ext cx="18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5978520" y="425736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989680" y="424296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6002280" y="4227120"/>
              <a:ext cx="180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012000" y="4211280"/>
              <a:ext cx="14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6022800" y="4194000"/>
              <a:ext cx="324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035760" y="4178160"/>
              <a:ext cx="144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6043680" y="416376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170080" y="4164120"/>
              <a:ext cx="74520" cy="792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7" y="0"/>
                  </a:moveTo>
                  <a:lnTo>
                    <a:pt x="0" y="2"/>
                  </a:lnTo>
                  <a:lnTo>
                    <a:pt x="1" y="5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973840" y="4164120"/>
              <a:ext cx="9360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59" y="46"/>
                  </a:moveTo>
                  <a:lnTo>
                    <a:pt x="46" y="0"/>
                  </a:lnTo>
                  <a:lnTo>
                    <a:pt x="0" y="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444680" y="41688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60520" y="41814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76360" y="41911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494000" y="4202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509840" y="4211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525680" y="42228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542960" y="4232160"/>
              <a:ext cx="180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555920" y="4241880"/>
              <a:ext cx="2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569960" y="425124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584360" y="42609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00200" y="427212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17840" y="428148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631880" y="429084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44480" y="430056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58880" y="4309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1676520" y="4292280"/>
            <a:ext cx="3497040" cy="622800"/>
            <a:chOff x="1676520" y="4292280"/>
            <a:chExt cx="3497040" cy="622800"/>
          </a:xfrm>
        </p:grpSpPr>
        <p:sp>
          <p:nvSpPr>
            <p:cNvPr id="1054" name=""/>
            <p:cNvSpPr/>
            <p:nvPr/>
          </p:nvSpPr>
          <p:spPr>
            <a:xfrm>
              <a:off x="1676520" y="4319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692360" y="4329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708200" y="43401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25480" y="43498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741320" y="43592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757520" y="43689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774800" y="4378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90640" y="4386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806480" y="4398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24120" y="440856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839960" y="4417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855800" y="4425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873080" y="443556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889280" y="44449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905120" y="4454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920960" y="44625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938240" y="44719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954080" y="44798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69920" y="44877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987560" y="4497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003400" y="4506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19240" y="45133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36880" y="4522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052720" y="45291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68560" y="45385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85840" y="45482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101680" y="45561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120760" y="456264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36600" y="45720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52800" y="45784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71880" y="4586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189160" y="4595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05000" y="4602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24080" y="4610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239920" y="4618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55760" y="4626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274840" y="46324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290680" y="4641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09760" y="4649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28840" y="4656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347920" y="46623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67000" y="4670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384280" y="46767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403360" y="468468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422440" y="46911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41520" y="4699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60600" y="47052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478240" y="4711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96960" y="47196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16040" y="47260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35120" y="47307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54200" y="4738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71840" y="4745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90920" y="4749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610000" y="4756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629080" y="4761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647800" y="4768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65440" y="4773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84520" y="4780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03600" y="47847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22680" y="4792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741760" y="4797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759040" y="4802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778120" y="4805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797200" y="4809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816280" y="4815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835360" y="4819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852640" y="48243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71720" y="4829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890800" y="4834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909880" y="4838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928960" y="4843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46240" y="48481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965320" y="48499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984400" y="4854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003480" y="4857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022560" y="4862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40200" y="4863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59280" y="4867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78000" y="487188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097080" y="48736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116160" y="4876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133800" y="4881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52880" y="48830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171960" y="4886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191040" y="4888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09760" y="489096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27400" y="4892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46480" y="4896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265560" y="4896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284640" y="4897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303720" y="4898880"/>
              <a:ext cx="2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321000" y="4902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340080" y="4903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359160" y="490392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378240" y="49068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97320" y="490680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414600" y="4908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433680" y="4908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452760" y="4908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471840" y="4908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90920" y="491184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508200" y="4911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27280" y="4911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546360" y="4911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65440" y="4913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84520" y="4913280"/>
              <a:ext cx="32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3602160" y="4911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21240" y="4911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39960" y="4911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59040" y="4908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676680" y="4908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695760" y="49068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714840" y="49068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33920" y="4903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753000" y="4903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3770280" y="4901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789360" y="4902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08440" y="4898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827520" y="4897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846600" y="4896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863880" y="4892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82960" y="4890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3902040" y="4885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3921120" y="4882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940200" y="4881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957480" y="48783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976560" y="4876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995640" y="48736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4014720" y="48690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4033800" y="4863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4051440" y="48589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070520" y="4857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89240" y="48531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08320" y="48481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27400" y="48434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4145040" y="48384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164120" y="48340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4183200" y="4828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4202280" y="4824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4221000" y="48193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238640" y="4812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57720" y="4808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4276800" y="4801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295880" y="4797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4314960" y="4789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332240" y="4784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4351320" y="4777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370400" y="4773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4389480" y="47653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V="1">
              <a:off x="4408560" y="4758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4424400" y="4753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4440240" y="47451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4457880" y="4738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>
              <a:off x="4473720" y="47304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489560" y="4723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4506840" y="471600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4522680" y="47102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4541760" y="4703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557600" y="4695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73440" y="46893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91080" y="4681440"/>
              <a:ext cx="46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4606920" y="46717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4622760" y="4662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4640400" y="4654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4656240" y="46461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flipV="1">
              <a:off x="4672080" y="46368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4689360" y="46270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V="1">
              <a:off x="4705200" y="46213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4721400" y="4611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4738680" y="460188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4754520" y="45954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4770360" y="4586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4786200" y="45763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4803840" y="456732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4818240" y="455724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4832280" y="4547880"/>
              <a:ext cx="180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V="1">
              <a:off x="4844880" y="45381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4862520" y="45277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4878360" y="451800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892760" y="4508640"/>
              <a:ext cx="14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4906800" y="44985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4923000" y="44874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4938840" y="4478400"/>
              <a:ext cx="2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4952880" y="446832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4967280" y="445752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981680" y="444816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V="1">
              <a:off x="4995720" y="44352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010120" y="4424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5025960" y="441324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5040360" y="44002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5054760" y="4389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5070600" y="437832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5084640" y="43653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5099040" y="43545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5114880" y="43419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5129280" y="43308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5143680" y="4319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5156280" y="430488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5170320" y="429228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725400" y="4154400"/>
            <a:ext cx="4581720" cy="798480"/>
            <a:chOff x="725400" y="4154400"/>
            <a:chExt cx="4581720" cy="798480"/>
          </a:xfrm>
        </p:grpSpPr>
        <p:sp>
          <p:nvSpPr>
            <p:cNvPr id="1255" name=""/>
            <p:cNvSpPr/>
            <p:nvPr/>
          </p:nvSpPr>
          <p:spPr>
            <a:xfrm flipV="1">
              <a:off x="5183280" y="42811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5197320" y="4267080"/>
              <a:ext cx="180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5210280" y="42555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5224320" y="424152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5238720" y="423072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5249880" y="421812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5264280" y="4206960"/>
              <a:ext cx="2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5276880" y="41936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291280" y="4181040"/>
              <a:ext cx="14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5303880" y="416844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444680" y="415440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7" y="0"/>
                  </a:moveTo>
                  <a:lnTo>
                    <a:pt x="0" y="9"/>
                  </a:lnTo>
                  <a:lnTo>
                    <a:pt x="8" y="5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232240" y="4168800"/>
              <a:ext cx="7488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47"/>
                  </a:moveTo>
                  <a:lnTo>
                    <a:pt x="47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25400" y="41673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39800" y="417816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54200" y="419112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65000" y="42022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79400" y="4213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93800" y="42260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08200" y="4237200"/>
              <a:ext cx="2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20800" y="424800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35200" y="4260960"/>
              <a:ext cx="2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47800" y="427212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860400" y="42847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874800" y="42958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88840" y="430704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905040" y="4319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922320" y="43308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38160" y="43419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954000" y="43545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71640" y="4363920"/>
              <a:ext cx="144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985680" y="43750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001880" y="4386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017720" y="4395960"/>
              <a:ext cx="288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031760" y="44085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047600" y="441972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065240" y="44308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065240" y="44308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081080" y="4440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96920" y="4449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14560" y="44593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130400" y="446868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144440" y="44784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160640" y="4487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77920" y="449748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93760" y="450864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209600" y="4518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225440" y="45277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243080" y="4537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258920" y="4546440"/>
              <a:ext cx="468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274760" y="4556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292400" y="456264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308240" y="4572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327320" y="45784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343160" y="4587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60440" y="459576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76280" y="4605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395360" y="4611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411200" y="4621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427040" y="46274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444680" y="46371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61960" y="4645080"/>
              <a:ext cx="50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79600" y="4654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498680" y="4659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14520" y="4665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533600" y="4672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549440" y="4680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568520" y="46864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587600" y="4694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03440" y="4703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22520" y="4708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38360" y="4714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657440" y="47214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673280" y="4729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73280" y="4729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692360" y="47354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711440" y="4743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730520" y="4748040"/>
              <a:ext cx="2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747800" y="47545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766880" y="4759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785960" y="4765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805040" y="4773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4120" y="477828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41400" y="47847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60480" y="47894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879560" y="4797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898640" y="4803840"/>
              <a:ext cx="46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917720" y="480852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935000" y="48132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954080" y="48182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973160" y="4822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992240" y="4827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011320" y="482904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28960" y="48340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48040" y="48387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066760" y="48434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85840" y="48481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03480" y="4853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122560" y="4857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141640" y="4862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160720" y="48639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179800" y="4869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197080" y="4871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216160" y="4876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235240" y="4881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54320" y="4883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273400" y="4888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290680" y="4890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309760" y="4896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328840" y="4897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347920" y="4902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367000" y="4903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384280" y="49068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403360" y="4908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422440" y="4911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441520" y="4913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460600" y="4916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478240" y="4917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496960" y="49212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516040" y="492300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535120" y="492588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54200" y="4927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71840" y="4930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90920" y="49323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610000" y="4935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629080" y="4937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47800" y="49370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665440" y="4940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684520" y="4940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703600" y="4941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722680" y="4941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741760" y="4941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759040" y="4943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78120" y="4943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797200" y="4946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16280" y="4946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835360" y="4948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852640" y="49482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71720" y="4948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890800" y="4948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909880" y="4948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928960" y="4948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946240" y="49482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65320" y="49514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984400" y="49514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003480" y="4951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022560" y="4951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040200" y="4951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059280" y="4951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078000" y="49514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097080" y="49514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116160" y="49482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133800" y="4948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152880" y="4948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171960" y="4946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191040" y="4946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209760" y="494352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227400" y="4943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246480" y="4943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265560" y="4941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284640" y="4941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3303720" y="4940280"/>
              <a:ext cx="2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321000" y="4940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340080" y="4937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3359160" y="4935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78240" y="4935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97320" y="493236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14600" y="4930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33680" y="4927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52760" y="4925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471840" y="4923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3490920" y="492084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508200" y="49212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527280" y="49179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546360" y="49165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565440" y="4913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584520" y="491184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3602160" y="4906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621240" y="4903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639960" y="49021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3659040" y="48974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676680" y="4896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695760" y="4892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3714840" y="48880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733920" y="4886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753000" y="4883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3770280" y="4878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789360" y="4876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3808440" y="48715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3827520" y="4866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3846600" y="4862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863880" y="4859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882960" y="4854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902040" y="4849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921120" y="4846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940200" y="4842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957480" y="48369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976560" y="48319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3995640" y="4827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4014720" y="4822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V="1">
              <a:off x="4033800" y="4818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5" name=""/>
          <p:cNvGrpSpPr/>
          <p:nvPr/>
        </p:nvGrpSpPr>
        <p:grpSpPr>
          <a:xfrm>
            <a:off x="725400" y="3427560"/>
            <a:ext cx="5173920" cy="1387080"/>
            <a:chOff x="725400" y="3427560"/>
            <a:chExt cx="5173920" cy="1387080"/>
          </a:xfrm>
        </p:grpSpPr>
        <p:sp>
          <p:nvSpPr>
            <p:cNvPr id="1456" name=""/>
            <p:cNvSpPr/>
            <p:nvPr/>
          </p:nvSpPr>
          <p:spPr>
            <a:xfrm flipV="1">
              <a:off x="4051440" y="4812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070520" y="4808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089240" y="480168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108320" y="47973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V="1">
              <a:off x="4127400" y="47890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4145040" y="47844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164120" y="4780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V="1">
              <a:off x="4183200" y="4773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202280" y="4768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4221000" y="47606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4238640" y="475632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257720" y="4753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V="1">
              <a:off x="4276800" y="47451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4295880" y="4738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4314960" y="47304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4332240" y="4723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4351320" y="4716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4370400" y="4710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4389480" y="4703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4408560" y="46954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4425840" y="46890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4444920" y="4681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4464000" y="4675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4483080" y="46674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4483080" y="46674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4498920" y="4660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514760" y="4654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532400" y="46465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4548240" y="46368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4567320" y="46303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583160" y="4622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4600440" y="461484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4618080" y="46065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635360" y="46004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651200" y="45925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V="1">
              <a:off x="4667400" y="45828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4686480" y="45763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4702320" y="4567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19600" y="4560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735440" y="4551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4751280" y="45414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V="1">
              <a:off x="4768920" y="4532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4784760" y="45223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4800600" y="45129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18240" y="4506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4834080" y="4497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4849920" y="44874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4867200" y="4478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4883040" y="44683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898880" y="4459320"/>
              <a:ext cx="504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1" y="1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4916520" y="4449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4932360" y="44388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4948200" y="4428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4965840" y="44175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4981680" y="44049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4997520" y="43959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014800" y="438480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5030640" y="43736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5046840" y="43635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064120" y="435096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079960" y="43398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5095800" y="432864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5110200" y="431964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124600" y="430704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5138640" y="42958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5154480" y="428472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168880" y="427212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5183280" y="42609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V="1">
              <a:off x="5199120" y="424764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5213520" y="4237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5227560" y="42260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V="1">
              <a:off x="5243400" y="42127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5257800" y="4202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25400" y="4164120"/>
              <a:ext cx="74880" cy="792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7" y="0"/>
                  </a:moveTo>
                  <a:lnTo>
                    <a:pt x="0" y="2"/>
                  </a:lnTo>
                  <a:lnTo>
                    <a:pt x="1" y="5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192640" y="4192560"/>
              <a:ext cx="74520" cy="8244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4" y="52"/>
                  </a:moveTo>
                  <a:lnTo>
                    <a:pt x="47" y="3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5894280" y="34275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880240" y="3436920"/>
              <a:ext cx="2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5865480" y="344484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5851080" y="3454560"/>
              <a:ext cx="32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5835240" y="34639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5819400" y="34765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>
              <a:off x="5805000" y="348624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>
              <a:off x="5789160" y="34941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5771880" y="3506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5757480" y="351648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5745240" y="352584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5727600" y="35337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>
              <a:off x="5711400" y="35434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5695560" y="3552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5678280" y="3562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662440" y="35701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>
              <a:off x="5646600" y="3579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5628960" y="35877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5613120" y="3595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5597280" y="3605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5579640" y="3614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64160" y="3624120"/>
              <a:ext cx="46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5547960" y="3630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>
              <a:off x="5528880" y="3635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5513040" y="3645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5493960" y="3649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5478120" y="3656160"/>
              <a:ext cx="32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5459040" y="3664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5441760" y="36702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5424120" y="3676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5406840" y="3684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5387760" y="36910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5370120" y="3699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5351040" y="3705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5331960" y="37101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5313240" y="37148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5294160" y="37209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5276520" y="37260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5257440" y="3733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5238360" y="3738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5219280" y="3745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>
              <a:off x="5202360" y="3749760"/>
              <a:ext cx="28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5182920" y="37544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5163840" y="37591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>
              <a:off x="5144760" y="37638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5125680" y="3768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5108040" y="377352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5089320" y="37749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5070240" y="37800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5051160" y="3784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032080" y="37893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5014440" y="379260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4995720" y="37972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4976640" y="38019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4957560" y="3803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4938480" y="3807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4920840" y="381168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4901760" y="3813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4883040" y="3814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4863960" y="38178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844880" y="3822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4827240" y="3824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4808160" y="3827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4789080" y="3832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4770000" y="3832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4751280" y="38336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4733640" y="3836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4714560" y="3838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4695480" y="3841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4676400" y="3841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4657320" y="38433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4640040" y="3846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4620960" y="3848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4601880" y="3851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4582800" y="3851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4563720" y="3852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4546440" y="38527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4527360" y="3855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4508280" y="3855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4489200" y="3855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4470120" y="3855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4452840" y="38577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433760" y="38577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4414680" y="38577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4395600" y="3857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376520" y="3860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4358880" y="3860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4339800" y="3860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320720" y="3860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4302000" y="38606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4282920" y="38606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265280" y="3860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4246200" y="3860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4227120" y="3857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4208040" y="3857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4188960" y="3857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4171680" y="3857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4152600" y="3857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4133520" y="3857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4114440" y="3857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4095360" y="3855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4078080" y="3855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flipV="1">
              <a:off x="4059000" y="38523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4039920" y="3852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4020840" y="3852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4001760" y="3851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>
              <a:off x="3984480" y="38512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3965400" y="38480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3946320" y="3848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3927240" y="3848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>
              <a:off x="3908160" y="3846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3890520" y="3846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3871800" y="38433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3852720" y="3841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3833640" y="3841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814560" y="3838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>
              <a:off x="3796920" y="3836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3777840" y="3836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3758760" y="3833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3740040" y="38322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722400" y="383220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3703320" y="3828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3684240" y="3827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 flipV="1">
              <a:off x="3665160" y="38239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 flipV="1">
              <a:off x="3646080" y="3822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1595520" y="3379680"/>
            <a:ext cx="2036520" cy="442800"/>
            <a:chOff x="1595520" y="3379680"/>
            <a:chExt cx="2036520" cy="442800"/>
          </a:xfrm>
        </p:grpSpPr>
        <p:sp>
          <p:nvSpPr>
            <p:cNvPr id="1657" name=""/>
            <p:cNvSpPr/>
            <p:nvPr/>
          </p:nvSpPr>
          <p:spPr>
            <a:xfrm flipH="1" flipV="1">
              <a:off x="3629160" y="3819240"/>
              <a:ext cx="28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 flipV="1">
              <a:off x="3609720" y="3817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3590640" y="381492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flipV="1">
              <a:off x="3571560" y="3812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3552480" y="3811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3534840" y="380844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516120" y="3807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3497040" y="3803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3477960" y="3801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3458880" y="3798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3441240" y="379728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3422520" y="37940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3403440" y="3792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flipV="1">
              <a:off x="3384360" y="3787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3365280" y="37843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3347640" y="3782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3328560" y="3780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3309840" y="37782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 flipV="1">
              <a:off x="3290760" y="37735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3271680" y="37699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3254040" y="3768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>
              <a:off x="3234960" y="3767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3215880" y="37638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 flipV="1">
              <a:off x="3196800" y="37587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3177720" y="3757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 flipV="1">
              <a:off x="3160440" y="3753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3141360" y="3749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3122280" y="3747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3103200" y="3743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3084120" y="3740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 flipV="1">
              <a:off x="3066840" y="3735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3047760" y="3733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 flipV="1">
              <a:off x="3028680" y="37285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3009600" y="3726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 flipV="1">
              <a:off x="2990520" y="3720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2973240" y="37195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flipV="1">
              <a:off x="2954160" y="37144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2935080" y="3713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 flipV="1">
              <a:off x="2916000" y="3708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2896920" y="3705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 flipV="1">
              <a:off x="2879280" y="3700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2860560" y="36990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2841480" y="36939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2822400" y="36889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2803320" y="3686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 flipV="1">
              <a:off x="2785680" y="3681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2766600" y="3679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2747520" y="3675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 flipV="1">
              <a:off x="2728800" y="36698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 flipV="1">
              <a:off x="2709720" y="36651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2692080" y="3664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2673000" y="3659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2653920" y="3654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 flipV="1">
              <a:off x="2634840" y="3649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flipV="1">
              <a:off x="2615760" y="3645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 flipV="1">
              <a:off x="2598480" y="3639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2579400" y="3637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2560320" y="3632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2541240" y="3627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 flipV="1">
              <a:off x="2522160" y="3623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 flipV="1">
              <a:off x="2504880" y="3619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 flipV="1">
              <a:off x="2485800" y="3614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 flipV="1">
              <a:off x="2466720" y="3610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 flipV="1">
              <a:off x="2447640" y="3604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>
              <a:off x="2428560" y="3602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2411280" y="35971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2392200" y="35924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2373120" y="3587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2354040" y="3583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2334960" y="3579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2317320" y="3575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2298600" y="35701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 flipV="1">
              <a:off x="2279520" y="356508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 flipV="1">
              <a:off x="2260440" y="35607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>
              <a:off x="2242800" y="355608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2223720" y="3551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2204640" y="3546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2185560" y="3541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2166840" y="35370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2149200" y="353232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>
              <a:off x="2130120" y="3527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2111040" y="3522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>
              <a:off x="2091960" y="3517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2072880" y="3513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2055960" y="3508200"/>
              <a:ext cx="2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 flipV="1">
              <a:off x="2036520" y="3502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 flipV="1">
              <a:off x="2017440" y="3497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 flipV="1">
              <a:off x="1998360" y="3492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 flipV="1">
              <a:off x="1979280" y="34873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1961640" y="348300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1942920" y="3478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 flipV="1">
              <a:off x="1923840" y="3471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 flipV="1">
              <a:off x="1904760" y="3467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 flipV="1">
              <a:off x="1885680" y="3462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 flipV="1">
              <a:off x="1868040" y="3457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1849320" y="34527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1830240" y="34480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 flipV="1">
              <a:off x="1811160" y="34398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1792080" y="3436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 flipV="1">
              <a:off x="1774440" y="3432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1755360" y="34275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 flipV="1">
              <a:off x="1736280" y="341964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 flipV="1">
              <a:off x="1717560" y="34142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1698480" y="3409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1680840" y="3405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 flipV="1">
              <a:off x="1661760" y="33984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 flipV="1">
              <a:off x="1642680" y="3394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1623600" y="3389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 flipV="1">
              <a:off x="1604520" y="33825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595520" y="3379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614600" y="3387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633680" y="3392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652760" y="33955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71480" y="34034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689120" y="3408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708200" y="3414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727280" y="34196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746360" y="34243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765440" y="3432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782720" y="3436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801800" y="3440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20880" y="3444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839960" y="3452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859040" y="3457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876320" y="34624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895400" y="3468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914480" y="34732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914480" y="34732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933560" y="34815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952640" y="3486240"/>
              <a:ext cx="46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969920" y="34894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989000" y="3494160"/>
              <a:ext cx="50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008080" y="34988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027160" y="3506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46240" y="3511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63880" y="3516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082960" y="3521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01680" y="3525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20760" y="35305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39840" y="35337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57480" y="3541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176560" y="3546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195640" y="3551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214720" y="3556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233440" y="35622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251080" y="35672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270160" y="3571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289240" y="3576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308320" y="3581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327400" y="3586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44680" y="3591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363760" y="3595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382840" y="3600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401920" y="3605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421000" y="3610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438280" y="36147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457360" y="3619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476440" y="3624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495520" y="36273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514600" y="3635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532240" y="3639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550960" y="36450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570040" y="36496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589120" y="3654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608200" y="3659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625840" y="3664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644920" y="3668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664000" y="36702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682720" y="36752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701800" y="367992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719440" y="3684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738520" y="3689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757600" y="3693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776680" y="3699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795760" y="3700440"/>
              <a:ext cx="28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813040" y="37051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832120" y="3710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851200" y="3714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70280" y="3718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889360" y="372096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906640" y="3726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25720" y="3730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44800" y="3733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963880" y="3738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982960" y="374328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000240" y="374508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019320" y="37497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038400" y="3753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057480" y="3757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075120" y="3759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094200" y="37623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12920" y="37670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132000" y="3768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151080" y="3773520"/>
              <a:ext cx="50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68720" y="3774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187800" y="3778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06880" y="3782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225960" y="3784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44680" y="3787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62320" y="37893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3255840" y="3414600"/>
            <a:ext cx="2643480" cy="989280"/>
            <a:chOff x="3255840" y="3414600"/>
            <a:chExt cx="2643480" cy="989280"/>
          </a:xfrm>
        </p:grpSpPr>
        <p:sp>
          <p:nvSpPr>
            <p:cNvPr id="1858" name=""/>
            <p:cNvSpPr/>
            <p:nvPr/>
          </p:nvSpPr>
          <p:spPr>
            <a:xfrm>
              <a:off x="3281400" y="3792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300480" y="3797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319560" y="3798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338640" y="3801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355920" y="3803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375000" y="3807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394080" y="3808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413160" y="3811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432240" y="3813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449520" y="3814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468600" y="38178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487680" y="3819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506760" y="3822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525840" y="3822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543480" y="3824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562200" y="38242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581280" y="38275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600360" y="3827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619440" y="3828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637080" y="38289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656160" y="3832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675240" y="3833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693960" y="38336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713040" y="38336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730680" y="3833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749760" y="3833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768840" y="3833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787920" y="3836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807000" y="3836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824280" y="3836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843360" y="3836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862440" y="3836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881520" y="3836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900600" y="3836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917880" y="3833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936960" y="3833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956040" y="3833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975120" y="3833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994200" y="3833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011480" y="38322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030560" y="38322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049640" y="3832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068720" y="3828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087800" y="3827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105440" y="3824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124160" y="3822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4143240" y="3819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4162320" y="38174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181400" y="381780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199040" y="3814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4218120" y="3813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4237200" y="3808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255920" y="38070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275000" y="380376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4292640" y="37983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311720" y="3797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330800" y="3794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V="1">
              <a:off x="4349880" y="3789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368960" y="3787920"/>
              <a:ext cx="2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386240" y="3784680"/>
              <a:ext cx="46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405320" y="3780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424400" y="3774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443480" y="3770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462560" y="376704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479840" y="37623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498920" y="3757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518000" y="3753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537080" y="3747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4554360" y="37396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573440" y="37353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4592520" y="37285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4611600" y="3720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630680" y="3718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4648320" y="37101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4667400" y="3703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4686480" y="36954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705200" y="36910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4724280" y="3684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740120" y="36766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756320" y="3670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773600" y="3664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789440" y="3656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4805280" y="3646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4824360" y="3639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4843440" y="3631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4859280" y="3623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4878360" y="3615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4878360" y="3615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4894200" y="36064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911840" y="3600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927680" y="3591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943520" y="3580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V="1">
              <a:off x="4960800" y="35715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4976640" y="356508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4992840" y="3556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5010120" y="3546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025960" y="3538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5041800" y="35301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5059440" y="35175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5075280" y="3507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5091120" y="3497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5108400" y="348732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5121360" y="34779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5138640" y="34671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5154480" y="3457080"/>
              <a:ext cx="1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5168880" y="344808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V="1">
              <a:off x="5183280" y="3438000"/>
              <a:ext cx="14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5197320" y="3428640"/>
              <a:ext cx="180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824440" y="3414600"/>
              <a:ext cx="74880" cy="874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40" y="55"/>
                  </a:moveTo>
                  <a:lnTo>
                    <a:pt x="47" y="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124600" y="3417840"/>
              <a:ext cx="74520" cy="85680"/>
            </a:xfrm>
            <a:custGeom>
              <a:avLst/>
              <a:gdLst/>
              <a:ahLst/>
              <a:rect l="l" t="t" r="r" b="b"/>
              <a:pathLst>
                <a:path w="47" h="54">
                  <a:moveTo>
                    <a:pt x="40" y="54"/>
                  </a:moveTo>
                  <a:lnTo>
                    <a:pt x="47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255840" y="34574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270240" y="3468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284640" y="34815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298680" y="34923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311640" y="35035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325680" y="35164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340080" y="35272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354480" y="35384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370320" y="355140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384720" y="3562200"/>
              <a:ext cx="28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398760" y="3575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413160" y="3586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429000" y="35971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443400" y="3610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459240" y="362124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473280" y="36320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490920" y="364500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503520" y="36561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517920" y="3668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535200" y="367992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548160" y="36910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565440" y="3703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579840" y="3714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595680" y="37260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611520" y="373860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625920" y="37497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641760" y="376236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656160" y="3773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673440" y="378468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689280" y="379728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703680" y="38084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719520" y="3819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35360" y="3832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753000" y="38433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768840" y="3855960"/>
              <a:ext cx="14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782880" y="38671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798720" y="38782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814920" y="3890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832200" y="39020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848040" y="39132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863880" y="392580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878280" y="39369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895560" y="3946680"/>
              <a:ext cx="180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908520" y="395604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22560" y="396540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36960" y="39765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954600" y="398628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967200" y="3998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984480" y="40100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000680" y="40212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016520" y="4030560"/>
              <a:ext cx="288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030560" y="40435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046400" y="4051440"/>
              <a:ext cx="32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060800" y="406080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075200" y="407052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089240" y="40831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089240" y="40831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105440" y="4092480"/>
              <a:ext cx="2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119480" y="4100400"/>
              <a:ext cx="324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4133880" y="41133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149720" y="412272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164120" y="41338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164120" y="41338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4181400" y="414324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197240" y="41544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4213080" y="416412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4227480" y="417348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4241880" y="4183200"/>
              <a:ext cx="14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255920" y="41925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272120" y="42037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287960" y="4213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305240" y="42260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321080" y="42354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336920" y="42465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354560" y="4255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370400" y="426564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384800" y="4275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400640" y="42861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416480" y="429588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430880" y="43052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448160" y="431496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462560" y="432432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478400" y="4335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494240" y="4344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510080" y="435456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524480" y="43639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541760" y="4373640"/>
              <a:ext cx="180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554360" y="43815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572000" y="439092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4586400" y="44006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4602240" y="4287960"/>
            <a:ext cx="3387600" cy="690480"/>
            <a:chOff x="4602240" y="4287960"/>
            <a:chExt cx="3387600" cy="690480"/>
          </a:xfrm>
        </p:grpSpPr>
        <p:sp>
          <p:nvSpPr>
            <p:cNvPr id="2059" name=""/>
            <p:cNvSpPr/>
            <p:nvPr/>
          </p:nvSpPr>
          <p:spPr>
            <a:xfrm>
              <a:off x="4602240" y="441000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4616280" y="441972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632480" y="44290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648320" y="44388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4665600" y="4448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681440" y="44578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697280" y="44672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714920" y="447516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29320" y="44845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745160" y="4494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761000" y="4503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778280" y="45133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4794120" y="452268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4809960" y="45324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4827600" y="4541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4843440" y="4548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859280" y="4557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4876920" y="4567320"/>
              <a:ext cx="2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892760" y="4576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08600" y="45831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924440" y="45925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941720" y="46022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957920" y="4610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973760" y="4618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991040" y="4626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006880" y="4635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022720" y="46418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040360" y="4651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056200" y="4659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5072040" y="46656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5089680" y="4675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108400" y="468144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5124600" y="46911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143680" y="4699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159520" y="4708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178600" y="4714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194440" y="4724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210280" y="47307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5229360" y="4738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246640" y="474804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262480" y="4754520"/>
              <a:ext cx="46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278320" y="47610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294160" y="4768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311800" y="4773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330880" y="47800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346720" y="4789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362560" y="4797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81640" y="4802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400720" y="4808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19800" y="4815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37080" y="4822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456160" y="48290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475240" y="4836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494320" y="4843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513400" y="4848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530680" y="4854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549760" y="48592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568840" y="48672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587920" y="4871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587920" y="4871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607000" y="48783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624640" y="4883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643720" y="48880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662440" y="48927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681520" y="48974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00600" y="4903920"/>
              <a:ext cx="50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718240" y="4908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737320" y="4913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56400" y="4917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775480" y="4923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94200" y="49276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811840" y="49323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830920" y="4935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850000" y="4940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869080" y="49417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888160" y="49435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905440" y="4948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924520" y="4951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943600" y="49528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962680" y="4957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981760" y="49608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999040" y="4962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018120" y="4965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037200" y="4967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056280" y="4970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75360" y="4970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093000" y="4971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11720" y="49719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130800" y="49752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149880" y="4975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168960" y="4975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186600" y="4975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205680" y="4976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224760" y="4976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243480" y="49766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262560" y="497664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280200" y="4975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299280" y="4975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318360" y="49752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337440" y="4971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356520" y="4971960"/>
              <a:ext cx="2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373800" y="4970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392880" y="49672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411960" y="49658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431040" y="4962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450120" y="496080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V="1">
              <a:off x="6467400" y="4955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6486480" y="49525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6505560" y="4951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524640" y="4948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543720" y="494676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V="1">
              <a:off x="6561000" y="49413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V="1">
              <a:off x="6580080" y="49366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6599160" y="4932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6599160" y="4932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V="1">
              <a:off x="6618240" y="49273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6635880" y="49230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V="1">
              <a:off x="6654960" y="4917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V="1">
              <a:off x="6673680" y="49129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V="1">
              <a:off x="6692760" y="49082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711840" y="4903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6729480" y="4897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V="1">
              <a:off x="6729480" y="4897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6748560" y="4892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767640" y="4888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6786720" y="4881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6805440" y="4876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V="1">
              <a:off x="6823080" y="48690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>
              <a:off x="6842160" y="4862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6861240" y="4854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6861240" y="4854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6880320" y="4847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6899400" y="4842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V="1">
              <a:off x="6916680" y="48340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6935760" y="4827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V="1">
              <a:off x="6954840" y="48193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973920" y="4812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6993000" y="48049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6993000" y="48049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V="1">
              <a:off x="7010280" y="479916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>
              <a:off x="7029360" y="4792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7048440" y="47844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7064280" y="4778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081920" y="4770360"/>
              <a:ext cx="46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7099200" y="47642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7118280" y="475632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7135920" y="47494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7151760" y="4743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170840" y="473544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186680" y="4729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202520" y="4721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219800" y="4714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236000" y="4708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7251840" y="4699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7270920" y="46908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7289640" y="46843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7308720" y="46764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7327800" y="466992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7345440" y="4662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7362720" y="46558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7380360" y="4649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397640" y="4641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413480" y="46353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429680" y="4627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7446960" y="46177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7466040" y="461124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7483320" y="46054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7500960" y="45975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518240" y="4591080"/>
              <a:ext cx="50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V="1">
              <a:off x="7535880" y="4581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7554960" y="4573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7570800" y="45651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7589880" y="4557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05720" y="4551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7621560" y="45414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7640640" y="45334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7656480" y="45241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7675560" y="4518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7693200" y="450864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7709040" y="44985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7724880" y="44892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V="1">
              <a:off x="7742160" y="44794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7758000" y="44715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7773840" y="44625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7791480" y="4452480"/>
              <a:ext cx="14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7804080" y="4443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7821720" y="44334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7837560" y="44222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7837560" y="44222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7853400" y="44096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7870680" y="439848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7886880" y="438588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7897680" y="43747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7912080" y="43635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7926480" y="434952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7940520" y="4336560"/>
              <a:ext cx="180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7951680" y="432540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7964640" y="431496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7975440" y="4300200"/>
              <a:ext cx="180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7986600" y="4287960"/>
              <a:ext cx="32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2570040" y="3449520"/>
            <a:ext cx="5529240" cy="1362240"/>
            <a:chOff x="2570040" y="3449520"/>
            <a:chExt cx="5529240" cy="1362240"/>
          </a:xfrm>
        </p:grpSpPr>
        <p:sp>
          <p:nvSpPr>
            <p:cNvPr id="2260" name=""/>
            <p:cNvSpPr/>
            <p:nvPr/>
          </p:nvSpPr>
          <p:spPr>
            <a:xfrm flipV="1">
              <a:off x="7999560" y="4275000"/>
              <a:ext cx="1440" cy="5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8010360" y="426204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8023320" y="4246200"/>
              <a:ext cx="14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8034480" y="4230360"/>
              <a:ext cx="14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8045280" y="4213080"/>
              <a:ext cx="3240" cy="50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8055000" y="419868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V="1">
              <a:off x="8064360" y="418284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V="1">
              <a:off x="8074080" y="4167000"/>
              <a:ext cx="14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255840" y="3449520"/>
              <a:ext cx="74880" cy="82800"/>
            </a:xfrm>
            <a:custGeom>
              <a:avLst/>
              <a:gdLst/>
              <a:ahLst/>
              <a:rect l="l" t="t" r="r" b="b"/>
              <a:pathLst>
                <a:path w="47" h="52">
                  <a:moveTo>
                    <a:pt x="47" y="0"/>
                  </a:moveTo>
                  <a:lnTo>
                    <a:pt x="0" y="5"/>
                  </a:lnTo>
                  <a:lnTo>
                    <a:pt x="4" y="5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8005680" y="4164120"/>
              <a:ext cx="9360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59" y="46"/>
                  </a:moveTo>
                  <a:lnTo>
                    <a:pt x="46" y="0"/>
                  </a:lnTo>
                  <a:lnTo>
                    <a:pt x="0" y="1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570040" y="3449520"/>
              <a:ext cx="180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581200" y="3462480"/>
              <a:ext cx="3240" cy="4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2593800" y="34765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2608200" y="34894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620800" y="35020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635200" y="3513240"/>
              <a:ext cx="32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649600" y="352584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664000" y="3537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678040" y="35481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693880" y="356076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708280" y="35719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724120" y="3583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741760" y="3595680"/>
              <a:ext cx="14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754360" y="3606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771640" y="36194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787480" y="3630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803680" y="3639960"/>
              <a:ext cx="28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817720" y="364968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832120" y="3659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2847960" y="36702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865600" y="36799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881440" y="36910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881440" y="36910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897280" y="37004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914560" y="3710160"/>
              <a:ext cx="180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928960" y="3719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944800" y="3730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960640" y="37400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78280" y="3749760"/>
              <a:ext cx="14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90880" y="37591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008160" y="37688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024360" y="37800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040200" y="37893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057480" y="37987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073320" y="38084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089160" y="38196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106800" y="38289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122640" y="3838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3138480" y="38480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156120" y="38577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171960" y="38671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3187800" y="3873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205080" y="38829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220920" y="3892680"/>
              <a:ext cx="50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236760" y="39020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254400" y="3911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270240" y="39178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286080" y="39276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03720" y="3936960"/>
              <a:ext cx="28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319560" y="394668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335400" y="3954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352680" y="3962520"/>
              <a:ext cx="324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368520" y="39718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384720" y="39816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400560" y="3989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417840" y="39988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433680" y="40068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449520" y="40147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467160" y="402444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483000" y="40338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498840" y="40402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516480" y="40496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532320" y="40561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548160" y="40654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565440" y="40734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581280" y="40831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597120" y="40892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614760" y="40989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630600" y="410544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630600" y="410544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646440" y="41148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664080" y="41227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679920" y="41292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3695760" y="41385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714840" y="41450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730680" y="41544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747960" y="416232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763800" y="41720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782880" y="4178160"/>
              <a:ext cx="504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798720" y="41878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817800" y="41940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833640" y="42037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852720" y="42116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868560" y="422100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887640" y="422748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905280" y="423720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922560" y="42433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940200" y="4253040"/>
              <a:ext cx="46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956040" y="42609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975120" y="4267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3990960" y="42750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006800" y="42847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024440" y="4290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040280" y="42973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056120" y="43052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073400" y="431172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092480" y="4319640"/>
              <a:ext cx="32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108320" y="43257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124160" y="43322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140360" y="43401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57640" y="43466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73480" y="43545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189320" y="436104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206960" y="43689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22800" y="4375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38640" y="43815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55920" y="43894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72120" y="43959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90840" y="44038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309920" y="441000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325760" y="44197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344840" y="44244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361040" y="4433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379760" y="44388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395960" y="4448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414680" y="44528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430880" y="44625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449600" y="446724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468680" y="44737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487760" y="44798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506840" y="448776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524480" y="4494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543560" y="45021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562640" y="450864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581360" y="451656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600440" y="4522680"/>
              <a:ext cx="32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618080" y="45277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637160" y="45338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656240" y="45417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675320" y="45482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694400" y="4556160"/>
              <a:ext cx="28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711680" y="45608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730760" y="45673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749840" y="45734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768920" y="4581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786200" y="45878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805280" y="459252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824360" y="4600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843440" y="46054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862520" y="46116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879800" y="461628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898880" y="462276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917960" y="463068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937040" y="4635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956120" y="4640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973760" y="46465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992840" y="46512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011560" y="4656240"/>
              <a:ext cx="504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030640" y="46623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049720" y="46674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067360" y="46720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086440" y="46767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086440" y="46767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105520" y="46846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124600" y="4689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143680" y="46944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160960" y="4699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180040" y="4703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199120" y="47084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218200" y="471168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237280" y="471636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254560" y="472140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273640" y="4726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292720" y="473076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311800" y="4734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330880" y="47386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348160" y="474336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367240" y="47480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386320" y="4753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405400" y="47545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424480" y="475920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42120" y="476100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60840" y="47656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479920" y="476892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499000" y="477360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518080" y="4775040"/>
              <a:ext cx="4680" cy="3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535720" y="478008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554800" y="4782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73880" y="478800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592600" y="4789440"/>
              <a:ext cx="504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611680" y="4792680"/>
              <a:ext cx="5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629320" y="479412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648400" y="47973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67480" y="4799160"/>
              <a:ext cx="4680" cy="28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686560" y="480204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705640" y="4805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722920" y="480528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742000" y="4808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761080" y="4808520"/>
              <a:ext cx="468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780160" y="4809960"/>
              <a:ext cx="468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0" name=""/>
          <p:cNvSpPr/>
          <p:nvPr/>
        </p:nvSpPr>
        <p:spPr>
          <a:xfrm>
            <a:off x="5799240" y="480996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816520" y="481320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835600" y="481320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854680" y="48150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873760" y="48150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5892840" y="4815000"/>
            <a:ext cx="32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5910120" y="481500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929200" y="481824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948280" y="48182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967360" y="48182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5986440" y="481824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1" y="0"/>
                </a:lnTo>
                <a:lnTo>
                  <a:pt x="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6004080" y="48150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6022800" y="481500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6041880" y="4813200"/>
            <a:ext cx="50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6060960" y="4813200"/>
            <a:ext cx="50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6080040" y="4809960"/>
            <a:ext cx="32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6097680" y="480852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6116760" y="480492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6135840" y="480384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6154560" y="4802040"/>
            <a:ext cx="504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6173640" y="4799160"/>
            <a:ext cx="32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 flipV="1">
            <a:off x="6191280" y="479376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210360" y="479268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 flipV="1">
            <a:off x="6229440" y="47880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 flipV="1">
            <a:off x="6248520" y="478260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6265800" y="477828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284880" y="47736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 flipV="1">
            <a:off x="6303960" y="476532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6323040" y="47610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 flipV="1">
            <a:off x="6342120" y="475416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57960" y="474804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6373800" y="474012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6391440" y="473400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6407280" y="4726080"/>
            <a:ext cx="468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6423120" y="4716000"/>
            <a:ext cx="468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 flipV="1">
            <a:off x="6440400" y="470808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 flipV="1">
            <a:off x="6456240" y="4699080"/>
            <a:ext cx="180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 flipV="1">
            <a:off x="6470640" y="4686480"/>
            <a:ext cx="4680" cy="28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 flipV="1">
            <a:off x="6486480" y="4676400"/>
            <a:ext cx="324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6500880" y="466524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6515280" y="4655880"/>
            <a:ext cx="144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 flipV="1">
            <a:off x="6526080" y="4645080"/>
            <a:ext cx="504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6540480" y="4630320"/>
            <a:ext cx="468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 flipV="1">
            <a:off x="6554880" y="4616280"/>
            <a:ext cx="1440" cy="5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6568920" y="4605480"/>
            <a:ext cx="180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6580080" y="4592160"/>
            <a:ext cx="3240" cy="32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6589800" y="457632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6600960" y="4560480"/>
            <a:ext cx="288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6613560" y="454320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6622920" y="4527360"/>
            <a:ext cx="180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 flipV="1">
            <a:off x="6634080" y="4511520"/>
            <a:ext cx="1800" cy="5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6643800" y="449388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flipV="1">
            <a:off x="6649920" y="4478040"/>
            <a:ext cx="180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flipV="1">
            <a:off x="6654960" y="4462200"/>
            <a:ext cx="288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6662880" y="444312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6672240" y="4425840"/>
            <a:ext cx="1440" cy="5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676920" y="4408560"/>
            <a:ext cx="1800" cy="468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 flipV="1">
            <a:off x="6683400" y="438912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 flipV="1">
            <a:off x="6684840" y="4370040"/>
            <a:ext cx="32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 flipV="1">
            <a:off x="6689880" y="4350960"/>
            <a:ext cx="288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 flipV="1">
            <a:off x="6694560" y="4331880"/>
            <a:ext cx="32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V="1">
            <a:off x="6699240" y="431460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6703920" y="4295880"/>
            <a:ext cx="1800" cy="46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1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 flipV="1">
            <a:off x="6703920" y="4276440"/>
            <a:ext cx="180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 flipV="1">
            <a:off x="6707160" y="425736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flipV="1">
            <a:off x="6707160" y="4238280"/>
            <a:ext cx="144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flipV="1">
            <a:off x="6708600" y="4221000"/>
            <a:ext cx="1800" cy="5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 flipV="1">
            <a:off x="6708600" y="4201920"/>
            <a:ext cx="180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6711840" y="4182840"/>
            <a:ext cx="1800" cy="46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560680" y="3449520"/>
            <a:ext cx="87120" cy="76320"/>
          </a:xfrm>
          <a:custGeom>
            <a:avLst/>
            <a:gdLst/>
            <a:ahLst/>
            <a:rect l="l" t="t" r="r" b="b"/>
            <a:pathLst>
              <a:path w="55" h="48">
                <a:moveTo>
                  <a:pt x="55" y="6"/>
                </a:moveTo>
                <a:lnTo>
                  <a:pt x="6" y="0"/>
                </a:lnTo>
                <a:lnTo>
                  <a:pt x="0" y="48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657840" y="4168800"/>
            <a:ext cx="108000" cy="54000"/>
          </a:xfrm>
          <a:custGeom>
            <a:avLst/>
            <a:gdLst/>
            <a:ahLst/>
            <a:rect l="l" t="t" r="r" b="b"/>
            <a:pathLst>
              <a:path w="68" h="34">
                <a:moveTo>
                  <a:pt x="68" y="34"/>
                </a:moveTo>
                <a:lnTo>
                  <a:pt x="34" y="0"/>
                </a:lnTo>
                <a:lnTo>
                  <a:pt x="0" y="3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0880" y="7632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General Problem: Ontology To Ontology/Taxonomy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723240" y="5059440"/>
            <a:ext cx="26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, Inform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510520" y="5092560"/>
            <a:ext cx="25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ference)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flipH="1">
            <a:off x="5342040" y="2743200"/>
            <a:ext cx="884160" cy="3780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 flipH="1">
            <a:off x="6067080" y="2771640"/>
            <a:ext cx="274680" cy="34956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400800" y="2743200"/>
            <a:ext cx="550800" cy="3920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459480" y="2743200"/>
            <a:ext cx="1203480" cy="39204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8" name=""/>
          <p:cNvGrpSpPr/>
          <p:nvPr/>
        </p:nvGrpSpPr>
        <p:grpSpPr>
          <a:xfrm>
            <a:off x="5559480" y="5802480"/>
            <a:ext cx="3417480" cy="1067400"/>
            <a:chOff x="5559480" y="5802480"/>
            <a:chExt cx="3417480" cy="1067400"/>
          </a:xfrm>
        </p:grpSpPr>
        <p:sp>
          <p:nvSpPr>
            <p:cNvPr id="2539" name=""/>
            <p:cNvSpPr/>
            <p:nvPr/>
          </p:nvSpPr>
          <p:spPr>
            <a:xfrm>
              <a:off x="5998320" y="5802480"/>
              <a:ext cx="2978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ll-defined subclass 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ther ontological rel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ll-defined parent-child 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pin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97360" y="6186600"/>
              <a:ext cx="304560" cy="284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698800" y="6424560"/>
              <a:ext cx="304560" cy="288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97360" y="5952960"/>
              <a:ext cx="304560" cy="28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698800" y="6648480"/>
              <a:ext cx="304560" cy="284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559480" y="5821200"/>
              <a:ext cx="3323880" cy="99396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5" name=""/>
          <p:cNvSpPr/>
          <p:nvPr/>
        </p:nvSpPr>
        <p:spPr>
          <a:xfrm>
            <a:off x="479520" y="2387520"/>
            <a:ext cx="17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al proc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85840" y="3048120"/>
            <a:ext cx="1305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1954080" y="2778120"/>
            <a:ext cx="1756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pment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roc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3395520" y="3147840"/>
            <a:ext cx="116712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es involve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583240" y="2806560"/>
            <a:ext cx="1457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d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6541920" y="2365200"/>
            <a:ext cx="175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al proc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419720" y="2925720"/>
            <a:ext cx="1015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054320" y="2263680"/>
            <a:ext cx="1016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841760" y="141588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practice, Merging is not an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ED5EA-3E1E-4E24-870C-B2525F065F53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"/>
          <p:cNvSpPr/>
          <p:nvPr/>
        </p:nvSpPr>
        <p:spPr>
          <a:xfrm>
            <a:off x="190440" y="1465200"/>
            <a:ext cx="3540240" cy="4492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lectronics Name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943440" y="2419200"/>
            <a:ext cx="4591080" cy="3276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UN/SPSC Name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6" name=""/>
          <p:cNvCxnSpPr>
            <a:stCxn id="2557" idx="2"/>
            <a:endCxn id="2558" idx="6"/>
          </p:cNvCxnSpPr>
          <p:nvPr/>
        </p:nvCxnSpPr>
        <p:spPr>
          <a:xfrm rot="10800000">
            <a:off x="2946240" y="2331360"/>
            <a:ext cx="4308840" cy="235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9" name=""/>
          <p:cNvCxnSpPr>
            <a:stCxn id="2560" idx="1"/>
            <a:endCxn id="2561" idx="4"/>
          </p:cNvCxnSpPr>
          <p:nvPr/>
        </p:nvCxnSpPr>
        <p:spPr>
          <a:xfrm flipV="1" rot="16200000">
            <a:off x="4080960" y="2948760"/>
            <a:ext cx="1724760" cy="3108960"/>
          </a:xfrm>
          <a:prstGeom prst="curvedConnector5">
            <a:avLst>
              <a:gd name="adj1" fmla="val 50730"/>
              <a:gd name="adj2" fmla="val 49994"/>
              <a:gd name="adj3" fmla="val 5073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2" name=""/>
          <p:cNvCxnSpPr>
            <a:stCxn id="2563" idx="0"/>
            <a:endCxn id="2564" idx="5"/>
          </p:cNvCxnSpPr>
          <p:nvPr/>
        </p:nvCxnSpPr>
        <p:spPr>
          <a:xfrm flipV="1" rot="16200000">
            <a:off x="3591720" y="3017160"/>
            <a:ext cx="1678680" cy="2872440"/>
          </a:xfrm>
          <a:prstGeom prst="curvedConnector5">
            <a:avLst>
              <a:gd name="adj1" fmla="val 49184"/>
              <a:gd name="adj2" fmla="val 50000"/>
              <a:gd name="adj3" fmla="val 49184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565" name=""/>
          <p:cNvSpPr/>
          <p:nvPr/>
        </p:nvSpPr>
        <p:spPr>
          <a:xfrm>
            <a:off x="4718160" y="1554120"/>
            <a:ext cx="182520" cy="182520"/>
          </a:xfrm>
          <a:prstGeom prst="flowChartConnector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6" name=""/>
          <p:cNvCxnSpPr>
            <a:stCxn id="2565" idx="4"/>
          </p:cNvCxnSpPr>
          <p:nvPr/>
        </p:nvCxnSpPr>
        <p:spPr>
          <a:xfrm flipH="1" rot="16200000">
            <a:off x="5043240" y="1502640"/>
            <a:ext cx="1251720" cy="1718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567" name=""/>
          <p:cNvCxnSpPr/>
          <p:nvPr/>
        </p:nvCxnSpPr>
        <p:spPr>
          <a:xfrm flipV="1" rot="10800000">
            <a:off x="1299600" y="1645920"/>
            <a:ext cx="3418560" cy="4881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68" name=""/>
          <p:cNvSpPr/>
          <p:nvPr/>
        </p:nvSpPr>
        <p:spPr>
          <a:xfrm>
            <a:off x="5014800" y="142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9" name=""/>
          <p:cNvGrpSpPr/>
          <p:nvPr/>
        </p:nvGrpSpPr>
        <p:grpSpPr>
          <a:xfrm>
            <a:off x="504720" y="2106720"/>
            <a:ext cx="1355760" cy="1401120"/>
            <a:chOff x="504720" y="2106720"/>
            <a:chExt cx="1355760" cy="1401120"/>
          </a:xfrm>
        </p:grpSpPr>
        <p:sp>
          <p:nvSpPr>
            <p:cNvPr id="2570" name=""/>
            <p:cNvSpPr/>
            <p:nvPr/>
          </p:nvSpPr>
          <p:spPr>
            <a:xfrm>
              <a:off x="1144440" y="2106720"/>
              <a:ext cx="182520" cy="182160"/>
            </a:xfrm>
            <a:prstGeom prst="flowChartConnec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610920" y="2563560"/>
              <a:ext cx="182880" cy="182160"/>
            </a:xfrm>
            <a:prstGeom prst="flowChartConnec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525320" y="2563560"/>
              <a:ext cx="182880" cy="182160"/>
            </a:xfrm>
            <a:prstGeom prst="flowChartConnec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04720" y="3325680"/>
              <a:ext cx="182520" cy="182160"/>
            </a:xfrm>
            <a:prstGeom prst="flowChartConnector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220760" y="3325680"/>
              <a:ext cx="182520" cy="182160"/>
            </a:xfrm>
            <a:prstGeom prst="flowChartConnector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677960" y="3325680"/>
              <a:ext cx="182520" cy="182160"/>
            </a:xfrm>
            <a:prstGeom prst="flowChartConnector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76" name=""/>
            <p:cNvCxnSpPr>
              <a:stCxn id="2570" idx="4"/>
              <a:endCxn id="2571" idx="6"/>
            </p:cNvCxnSpPr>
            <p:nvPr/>
          </p:nvCxnSpPr>
          <p:spPr>
            <a:xfrm rot="5400000">
              <a:off x="831240" y="2250720"/>
              <a:ext cx="367200" cy="4435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577" name=""/>
            <p:cNvCxnSpPr>
              <a:stCxn id="2570" idx="4"/>
              <a:endCxn id="2572" idx="1"/>
            </p:cNvCxnSpPr>
            <p:nvPr/>
          </p:nvCxnSpPr>
          <p:spPr>
            <a:xfrm flipH="1" rot="16200000">
              <a:off x="1242720" y="2281320"/>
              <a:ext cx="302040" cy="316440"/>
            </a:xfrm>
            <a:prstGeom prst="curvedConnector5">
              <a:avLst>
                <a:gd name="adj1" fmla="val 45226"/>
                <a:gd name="adj2" fmla="val 50000"/>
                <a:gd name="adj3" fmla="val 4522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578" name=""/>
            <p:cNvCxnSpPr>
              <a:stCxn id="2571" idx="5"/>
              <a:endCxn id="2573" idx="0"/>
            </p:cNvCxnSpPr>
            <p:nvPr/>
          </p:nvCxnSpPr>
          <p:spPr>
            <a:xfrm rot="5400000">
              <a:off x="378000" y="2937240"/>
              <a:ext cx="606960" cy="170640"/>
            </a:xfrm>
            <a:prstGeom prst="curvedConnector5">
              <a:avLst>
                <a:gd name="adj1" fmla="val 52047"/>
                <a:gd name="adj2" fmla="val 49894"/>
                <a:gd name="adj3" fmla="val 5204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579" name=""/>
            <p:cNvCxnSpPr>
              <a:stCxn id="2572" idx="2"/>
              <a:endCxn id="2574" idx="0"/>
            </p:cNvCxnSpPr>
            <p:nvPr/>
          </p:nvCxnSpPr>
          <p:spPr>
            <a:xfrm flipV="1" rot="10800000">
              <a:off x="1312200" y="2655360"/>
              <a:ext cx="213120" cy="670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580" name=""/>
            <p:cNvCxnSpPr>
              <a:stCxn id="2572" idx="5"/>
              <a:endCxn id="2575" idx="0"/>
            </p:cNvCxnSpPr>
            <p:nvPr/>
          </p:nvCxnSpPr>
          <p:spPr>
            <a:xfrm flipH="1" rot="16200000">
              <a:off x="1421640" y="2977560"/>
              <a:ext cx="606960" cy="89640"/>
            </a:xfrm>
            <a:prstGeom prst="curvedConnector5">
              <a:avLst>
                <a:gd name="adj1" fmla="val 52047"/>
                <a:gd name="adj2" fmla="val 50000"/>
                <a:gd name="adj3" fmla="val 5204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2581" name=""/>
          <p:cNvGrpSpPr/>
          <p:nvPr/>
        </p:nvGrpSpPr>
        <p:grpSpPr>
          <a:xfrm>
            <a:off x="2124000" y="2239920"/>
            <a:ext cx="1355760" cy="1401840"/>
            <a:chOff x="2124000" y="2239920"/>
            <a:chExt cx="1355760" cy="1401840"/>
          </a:xfrm>
        </p:grpSpPr>
        <p:sp>
          <p:nvSpPr>
            <p:cNvPr id="2558" name=""/>
            <p:cNvSpPr/>
            <p:nvPr/>
          </p:nvSpPr>
          <p:spPr>
            <a:xfrm>
              <a:off x="2763720" y="2239920"/>
              <a:ext cx="182520" cy="182520"/>
            </a:xfrm>
            <a:prstGeom prst="flowChartConnector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230200" y="2697120"/>
              <a:ext cx="182880" cy="182520"/>
            </a:xfrm>
            <a:prstGeom prst="flowChartConnector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144600" y="2697120"/>
              <a:ext cx="182880" cy="182520"/>
            </a:xfrm>
            <a:prstGeom prst="flowChartConnector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24000" y="3459240"/>
              <a:ext cx="182520" cy="182520"/>
            </a:xfrm>
            <a:prstGeom prst="flowChartConnector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840040" y="3459240"/>
              <a:ext cx="182520" cy="182520"/>
            </a:xfrm>
            <a:prstGeom prst="flowChartConnector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297240" y="3459240"/>
              <a:ext cx="182520" cy="182520"/>
            </a:xfrm>
            <a:prstGeom prst="flowChartConnector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85" name=""/>
            <p:cNvCxnSpPr>
              <a:stCxn id="2558" idx="4"/>
              <a:endCxn id="2582" idx="6"/>
            </p:cNvCxnSpPr>
            <p:nvPr/>
          </p:nvCxnSpPr>
          <p:spPr>
            <a:xfrm rot="5400000">
              <a:off x="2450520" y="2384280"/>
              <a:ext cx="367560" cy="4435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586" name=""/>
            <p:cNvCxnSpPr>
              <a:stCxn id="2558" idx="4"/>
              <a:endCxn id="2583" idx="1"/>
            </p:cNvCxnSpPr>
            <p:nvPr/>
          </p:nvCxnSpPr>
          <p:spPr>
            <a:xfrm flipH="1" rot="16200000">
              <a:off x="2862000" y="2415240"/>
              <a:ext cx="302400" cy="316440"/>
            </a:xfrm>
            <a:prstGeom prst="curvedConnector5">
              <a:avLst>
                <a:gd name="adj1" fmla="val 45172"/>
                <a:gd name="adj2" fmla="val 50000"/>
                <a:gd name="adj3" fmla="val 45172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587" name=""/>
            <p:cNvCxnSpPr>
              <a:stCxn id="2582" idx="5"/>
              <a:endCxn id="2584" idx="0"/>
            </p:cNvCxnSpPr>
            <p:nvPr/>
          </p:nvCxnSpPr>
          <p:spPr>
            <a:xfrm rot="5400000">
              <a:off x="1997280" y="3070800"/>
              <a:ext cx="607320" cy="170640"/>
            </a:xfrm>
            <a:prstGeom prst="curvedConnector5">
              <a:avLst>
                <a:gd name="adj1" fmla="val 52075"/>
                <a:gd name="adj2" fmla="val 49894"/>
                <a:gd name="adj3" fmla="val 5207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588" name=""/>
            <p:cNvCxnSpPr>
              <a:stCxn id="2583" idx="2"/>
              <a:endCxn id="2564" idx="0"/>
            </p:cNvCxnSpPr>
            <p:nvPr/>
          </p:nvCxnSpPr>
          <p:spPr>
            <a:xfrm flipV="1" rot="10800000">
              <a:off x="2931480" y="2788200"/>
              <a:ext cx="213120" cy="670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589" name=""/>
            <p:cNvCxnSpPr>
              <a:stCxn id="2583" idx="5"/>
              <a:endCxn id="2561" idx="0"/>
            </p:cNvCxnSpPr>
            <p:nvPr/>
          </p:nvCxnSpPr>
          <p:spPr>
            <a:xfrm flipH="1" rot="16200000">
              <a:off x="3040560" y="3111120"/>
              <a:ext cx="607320" cy="89640"/>
            </a:xfrm>
            <a:prstGeom prst="curvedConnector5">
              <a:avLst>
                <a:gd name="adj1" fmla="val 52075"/>
                <a:gd name="adj2" fmla="val 50000"/>
                <a:gd name="adj3" fmla="val 5207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2590" name=""/>
          <p:cNvGrpSpPr/>
          <p:nvPr/>
        </p:nvGrpSpPr>
        <p:grpSpPr>
          <a:xfrm>
            <a:off x="295200" y="4602240"/>
            <a:ext cx="676440" cy="699840"/>
            <a:chOff x="295200" y="4602240"/>
            <a:chExt cx="676440" cy="699840"/>
          </a:xfrm>
        </p:grpSpPr>
        <p:sp>
          <p:nvSpPr>
            <p:cNvPr id="2591" name=""/>
            <p:cNvSpPr/>
            <p:nvPr/>
          </p:nvSpPr>
          <p:spPr>
            <a:xfrm>
              <a:off x="614160" y="4602240"/>
              <a:ext cx="9108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48120" y="4830480"/>
              <a:ext cx="9108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804240" y="4830480"/>
              <a:ext cx="9108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95200" y="5211000"/>
              <a:ext cx="9108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52320" y="5211000"/>
              <a:ext cx="9108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80560" y="5211000"/>
              <a:ext cx="9108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97" name=""/>
            <p:cNvCxnSpPr>
              <a:stCxn id="2591" idx="4"/>
              <a:endCxn id="2592" idx="6"/>
            </p:cNvCxnSpPr>
            <p:nvPr/>
          </p:nvCxnSpPr>
          <p:spPr>
            <a:xfrm rot="5400000">
              <a:off x="457200" y="4674240"/>
              <a:ext cx="183600" cy="221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598" name=""/>
            <p:cNvCxnSpPr>
              <a:stCxn id="2591" idx="4"/>
              <a:endCxn id="2593" idx="1"/>
            </p:cNvCxnSpPr>
            <p:nvPr/>
          </p:nvCxnSpPr>
          <p:spPr>
            <a:xfrm flipH="1" rot="16200000">
              <a:off x="662760" y="4689720"/>
              <a:ext cx="151200" cy="158040"/>
            </a:xfrm>
            <a:prstGeom prst="curvedConnector5">
              <a:avLst>
                <a:gd name="adj1" fmla="val 45107"/>
                <a:gd name="adj2" fmla="val 50000"/>
                <a:gd name="adj3" fmla="val 451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599" name=""/>
            <p:cNvCxnSpPr>
              <a:stCxn id="2592" idx="5"/>
              <a:endCxn id="2594" idx="0"/>
            </p:cNvCxnSpPr>
            <p:nvPr/>
          </p:nvCxnSpPr>
          <p:spPr>
            <a:xfrm rot="5400000">
              <a:off x="231120" y="5016240"/>
              <a:ext cx="303120" cy="85320"/>
            </a:xfrm>
            <a:prstGeom prst="curvedConnector5">
              <a:avLst>
                <a:gd name="adj1" fmla="val 52080"/>
                <a:gd name="adj2" fmla="val 50000"/>
                <a:gd name="adj3" fmla="val 5208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00" name=""/>
            <p:cNvCxnSpPr>
              <a:stCxn id="2593" idx="2"/>
              <a:endCxn id="2595" idx="0"/>
            </p:cNvCxnSpPr>
            <p:nvPr/>
          </p:nvCxnSpPr>
          <p:spPr>
            <a:xfrm flipV="1" rot="10800000">
              <a:off x="697680" y="4875480"/>
              <a:ext cx="106560" cy="335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01" name=""/>
            <p:cNvCxnSpPr>
              <a:stCxn id="2593" idx="5"/>
              <a:endCxn id="2596" idx="0"/>
            </p:cNvCxnSpPr>
            <p:nvPr/>
          </p:nvCxnSpPr>
          <p:spPr>
            <a:xfrm flipH="1" rot="16200000">
              <a:off x="752040" y="5036400"/>
              <a:ext cx="303120" cy="45000"/>
            </a:xfrm>
            <a:prstGeom prst="curvedConnector5">
              <a:avLst>
                <a:gd name="adj1" fmla="val 52080"/>
                <a:gd name="adj2" fmla="val 50000"/>
                <a:gd name="adj3" fmla="val 5208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grpSp>
        <p:nvGrpSpPr>
          <p:cNvPr id="2602" name=""/>
          <p:cNvGrpSpPr/>
          <p:nvPr/>
        </p:nvGrpSpPr>
        <p:grpSpPr>
          <a:xfrm>
            <a:off x="428760" y="3840120"/>
            <a:ext cx="675720" cy="700200"/>
            <a:chOff x="428760" y="3840120"/>
            <a:chExt cx="675720" cy="700200"/>
          </a:xfrm>
        </p:grpSpPr>
        <p:sp>
          <p:nvSpPr>
            <p:cNvPr id="2603" name=""/>
            <p:cNvSpPr/>
            <p:nvPr/>
          </p:nvSpPr>
          <p:spPr>
            <a:xfrm>
              <a:off x="747720" y="3840120"/>
              <a:ext cx="9072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481680" y="4068360"/>
              <a:ext cx="9108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937800" y="4068360"/>
              <a:ext cx="9108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28760" y="4449240"/>
              <a:ext cx="9072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85880" y="4449240"/>
              <a:ext cx="9072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013760" y="4449240"/>
              <a:ext cx="90720" cy="91080"/>
            </a:xfrm>
            <a:prstGeom prst="flowChartConnector">
              <a:avLst/>
            </a:prstGeom>
            <a:solidFill>
              <a:srgbClr val="c2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9" name=""/>
            <p:cNvCxnSpPr>
              <a:stCxn id="2603" idx="4"/>
              <a:endCxn id="2604" idx="6"/>
            </p:cNvCxnSpPr>
            <p:nvPr/>
          </p:nvCxnSpPr>
          <p:spPr>
            <a:xfrm rot="5400000">
              <a:off x="590760" y="3912120"/>
              <a:ext cx="183960" cy="221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10" name=""/>
            <p:cNvCxnSpPr>
              <a:stCxn id="2603" idx="4"/>
              <a:endCxn id="2605" idx="1"/>
            </p:cNvCxnSpPr>
            <p:nvPr/>
          </p:nvCxnSpPr>
          <p:spPr>
            <a:xfrm flipH="1" rot="16200000">
              <a:off x="796320" y="3927600"/>
              <a:ext cx="151200" cy="158040"/>
            </a:xfrm>
            <a:prstGeom prst="curvedConnector5">
              <a:avLst>
                <a:gd name="adj1" fmla="val 45107"/>
                <a:gd name="adj2" fmla="val 50000"/>
                <a:gd name="adj3" fmla="val 4510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11" name=""/>
            <p:cNvCxnSpPr>
              <a:stCxn id="2604" idx="5"/>
              <a:endCxn id="2606" idx="0"/>
            </p:cNvCxnSpPr>
            <p:nvPr/>
          </p:nvCxnSpPr>
          <p:spPr>
            <a:xfrm rot="5400000">
              <a:off x="364680" y="4254480"/>
              <a:ext cx="303120" cy="85320"/>
            </a:xfrm>
            <a:prstGeom prst="curvedConnector5">
              <a:avLst>
                <a:gd name="adj1" fmla="val 52080"/>
                <a:gd name="adj2" fmla="val 50000"/>
                <a:gd name="adj3" fmla="val 5208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12" name=""/>
            <p:cNvCxnSpPr>
              <a:stCxn id="2605" idx="2"/>
              <a:endCxn id="2607" idx="0"/>
            </p:cNvCxnSpPr>
            <p:nvPr/>
          </p:nvCxnSpPr>
          <p:spPr>
            <a:xfrm flipV="1" rot="10800000">
              <a:off x="830880" y="4113360"/>
              <a:ext cx="106560" cy="335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13" name=""/>
            <p:cNvCxnSpPr>
              <a:stCxn id="2605" idx="5"/>
              <a:endCxn id="2608" idx="0"/>
            </p:cNvCxnSpPr>
            <p:nvPr/>
          </p:nvCxnSpPr>
          <p:spPr>
            <a:xfrm flipH="1" rot="16200000">
              <a:off x="885600" y="4274640"/>
              <a:ext cx="303120" cy="45000"/>
            </a:xfrm>
            <a:prstGeom prst="curvedConnector5">
              <a:avLst>
                <a:gd name="adj1" fmla="val 52080"/>
                <a:gd name="adj2" fmla="val 50000"/>
                <a:gd name="adj3" fmla="val 5208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2614" name=""/>
          <p:cNvSpPr/>
          <p:nvPr/>
        </p:nvSpPr>
        <p:spPr>
          <a:xfrm>
            <a:off x="2870280" y="3992400"/>
            <a:ext cx="90360" cy="90720"/>
          </a:xfrm>
          <a:prstGeom prst="flowChartConnector">
            <a:avLst/>
          </a:prstGeom>
          <a:solidFill>
            <a:srgbClr val="c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603520" y="4221000"/>
            <a:ext cx="92160" cy="90720"/>
          </a:xfrm>
          <a:prstGeom prst="flowChartConnector">
            <a:avLst/>
          </a:prstGeom>
          <a:solidFill>
            <a:srgbClr val="c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3060720" y="4221000"/>
            <a:ext cx="90360" cy="90720"/>
          </a:xfrm>
          <a:prstGeom prst="flowChartConnector">
            <a:avLst/>
          </a:prstGeom>
          <a:solidFill>
            <a:srgbClr val="c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2550960" y="4602240"/>
            <a:ext cx="90720" cy="90360"/>
          </a:xfrm>
          <a:prstGeom prst="flowChartConnector">
            <a:avLst/>
          </a:prstGeom>
          <a:solidFill>
            <a:srgbClr val="c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908440" y="4602240"/>
            <a:ext cx="90360" cy="90360"/>
          </a:xfrm>
          <a:prstGeom prst="flowChartConnector">
            <a:avLst/>
          </a:prstGeom>
          <a:solidFill>
            <a:srgbClr val="c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137040" y="4602240"/>
            <a:ext cx="90360" cy="90360"/>
          </a:xfrm>
          <a:prstGeom prst="flowChartConnector">
            <a:avLst/>
          </a:prstGeom>
          <a:solidFill>
            <a:srgbClr val="c2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0" name=""/>
          <p:cNvCxnSpPr>
            <a:stCxn id="2614" idx="4"/>
            <a:endCxn id="2615" idx="6"/>
          </p:cNvCxnSpPr>
          <p:nvPr/>
        </p:nvCxnSpPr>
        <p:spPr>
          <a:xfrm rot="5400000">
            <a:off x="2713320" y="4064400"/>
            <a:ext cx="184680" cy="2214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621" name=""/>
          <p:cNvCxnSpPr>
            <a:stCxn id="2614" idx="4"/>
            <a:endCxn id="2616" idx="1"/>
          </p:cNvCxnSpPr>
          <p:nvPr/>
        </p:nvCxnSpPr>
        <p:spPr>
          <a:xfrm flipH="1" rot="16200000">
            <a:off x="2919240" y="4079520"/>
            <a:ext cx="151560" cy="157680"/>
          </a:xfrm>
          <a:prstGeom prst="curvedConnector5">
            <a:avLst>
              <a:gd name="adj1" fmla="val 45238"/>
              <a:gd name="adj2" fmla="val 49885"/>
              <a:gd name="adj3" fmla="val 4523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622" name=""/>
          <p:cNvCxnSpPr>
            <a:stCxn id="2615" idx="5"/>
            <a:endCxn id="2617" idx="0"/>
          </p:cNvCxnSpPr>
          <p:nvPr/>
        </p:nvCxnSpPr>
        <p:spPr>
          <a:xfrm rot="5400000">
            <a:off x="2486880" y="4408560"/>
            <a:ext cx="303840" cy="84960"/>
          </a:xfrm>
          <a:prstGeom prst="curvedConnector5">
            <a:avLst>
              <a:gd name="adj1" fmla="val 52075"/>
              <a:gd name="adj2" fmla="val 49787"/>
              <a:gd name="adj3" fmla="val 52075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623" name=""/>
          <p:cNvCxnSpPr>
            <a:stCxn id="2616" idx="2"/>
            <a:endCxn id="2618" idx="0"/>
          </p:cNvCxnSpPr>
          <p:nvPr/>
        </p:nvCxnSpPr>
        <p:spPr>
          <a:xfrm flipV="1" rot="10800000">
            <a:off x="2953440" y="4266000"/>
            <a:ext cx="107280" cy="3358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624" name=""/>
          <p:cNvCxnSpPr>
            <a:stCxn id="2616" idx="5"/>
            <a:endCxn id="2619" idx="0"/>
          </p:cNvCxnSpPr>
          <p:nvPr/>
        </p:nvCxnSpPr>
        <p:spPr>
          <a:xfrm flipH="1" rot="16200000">
            <a:off x="3008160" y="4428360"/>
            <a:ext cx="303840" cy="45000"/>
          </a:xfrm>
          <a:prstGeom prst="curvedConnector5">
            <a:avLst>
              <a:gd name="adj1" fmla="val 52075"/>
              <a:gd name="adj2" fmla="val 50000"/>
              <a:gd name="adj3" fmla="val 52075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2625" name=""/>
          <p:cNvGrpSpPr/>
          <p:nvPr/>
        </p:nvGrpSpPr>
        <p:grpSpPr>
          <a:xfrm>
            <a:off x="4481640" y="2887560"/>
            <a:ext cx="3603600" cy="2657160"/>
            <a:chOff x="4481640" y="2887560"/>
            <a:chExt cx="3603600" cy="2657160"/>
          </a:xfrm>
        </p:grpSpPr>
        <p:sp>
          <p:nvSpPr>
            <p:cNvPr id="2626" name=""/>
            <p:cNvSpPr/>
            <p:nvPr/>
          </p:nvSpPr>
          <p:spPr>
            <a:xfrm>
              <a:off x="6534000" y="2887560"/>
              <a:ext cx="182880" cy="18252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254560" y="3331800"/>
              <a:ext cx="182520" cy="18252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091280" y="3315960"/>
              <a:ext cx="182520" cy="18252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721400" y="3789000"/>
              <a:ext cx="182520" cy="18252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889600" y="3789000"/>
              <a:ext cx="182520" cy="18252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614840" y="4551120"/>
              <a:ext cx="182520" cy="18252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330880" y="4551120"/>
              <a:ext cx="182520" cy="18252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33" name=""/>
            <p:cNvCxnSpPr>
              <a:stCxn id="2626" idx="5"/>
              <a:endCxn id="2628" idx="7"/>
            </p:cNvCxnSpPr>
            <p:nvPr/>
          </p:nvCxnSpPr>
          <p:spPr>
            <a:xfrm flipH="1" rot="16200000">
              <a:off x="6817320" y="2914200"/>
              <a:ext cx="300600" cy="557640"/>
            </a:xfrm>
            <a:prstGeom prst="curvedConnector5">
              <a:avLst>
                <a:gd name="adj1" fmla="val 49640"/>
                <a:gd name="adj2" fmla="val 50000"/>
                <a:gd name="adj3" fmla="val 4964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34" name=""/>
            <p:cNvCxnSpPr>
              <a:stCxn id="2627" idx="4"/>
              <a:endCxn id="2629" idx="6"/>
            </p:cNvCxnSpPr>
            <p:nvPr/>
          </p:nvCxnSpPr>
          <p:spPr>
            <a:xfrm rot="5400000">
              <a:off x="4941360" y="3476160"/>
              <a:ext cx="367560" cy="4435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35" name=""/>
            <p:cNvCxnSpPr>
              <a:stCxn id="2627" idx="4"/>
              <a:endCxn id="2630" idx="1"/>
            </p:cNvCxnSpPr>
            <p:nvPr/>
          </p:nvCxnSpPr>
          <p:spPr>
            <a:xfrm flipH="1" rot="16200000">
              <a:off x="5479920" y="3380040"/>
              <a:ext cx="302400" cy="570600"/>
            </a:xfrm>
            <a:prstGeom prst="curvedConnector5">
              <a:avLst>
                <a:gd name="adj1" fmla="val 45172"/>
                <a:gd name="adj2" fmla="val 50000"/>
                <a:gd name="adj3" fmla="val 45172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36" name=""/>
            <p:cNvCxnSpPr>
              <a:stCxn id="2628" idx="5"/>
            </p:cNvCxnSpPr>
            <p:nvPr/>
          </p:nvCxnSpPr>
          <p:spPr>
            <a:xfrm flipH="1" rot="16200000">
              <a:off x="7254720" y="3463560"/>
              <a:ext cx="302400" cy="317880"/>
            </a:xfrm>
            <a:prstGeom prst="curvedConnector5">
              <a:avLst>
                <a:gd name="adj1" fmla="val 54112"/>
                <a:gd name="adj2" fmla="val 50000"/>
                <a:gd name="adj3" fmla="val 54112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37" name=""/>
            <p:cNvCxnSpPr>
              <a:stCxn id="2629" idx="5"/>
              <a:endCxn id="2631" idx="0"/>
            </p:cNvCxnSpPr>
            <p:nvPr/>
          </p:nvCxnSpPr>
          <p:spPr>
            <a:xfrm rot="5400000">
              <a:off x="4488120" y="4162680"/>
              <a:ext cx="607320" cy="170640"/>
            </a:xfrm>
            <a:prstGeom prst="curvedConnector5">
              <a:avLst>
                <a:gd name="adj1" fmla="val 52075"/>
                <a:gd name="adj2" fmla="val 49894"/>
                <a:gd name="adj3" fmla="val 5207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38" name=""/>
            <p:cNvCxnSpPr>
              <a:stCxn id="2630" idx="2"/>
              <a:endCxn id="2632" idx="0"/>
            </p:cNvCxnSpPr>
            <p:nvPr/>
          </p:nvCxnSpPr>
          <p:spPr>
            <a:xfrm flipV="1" rot="10800000">
              <a:off x="5422320" y="3880080"/>
              <a:ext cx="467280" cy="670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39" name=""/>
            <p:cNvCxnSpPr>
              <a:stCxn id="2630" idx="5"/>
              <a:endCxn id="2640" idx="0"/>
            </p:cNvCxnSpPr>
            <p:nvPr/>
          </p:nvCxnSpPr>
          <p:spPr>
            <a:xfrm flipH="1" rot="16200000">
              <a:off x="5836320" y="4152960"/>
              <a:ext cx="578880" cy="161280"/>
            </a:xfrm>
            <a:prstGeom prst="curvedConnector5">
              <a:avLst>
                <a:gd name="adj1" fmla="val 52146"/>
                <a:gd name="adj2" fmla="val 49888"/>
                <a:gd name="adj3" fmla="val 52146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41" name=""/>
            <p:cNvCxnSpPr>
              <a:stCxn id="2626" idx="2"/>
              <a:endCxn id="2627" idx="1"/>
            </p:cNvCxnSpPr>
            <p:nvPr/>
          </p:nvCxnSpPr>
          <p:spPr>
            <a:xfrm flipV="1" rot="10800000">
              <a:off x="5280840" y="2979000"/>
              <a:ext cx="1253160" cy="3801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642" name=""/>
            <p:cNvSpPr/>
            <p:nvPr/>
          </p:nvSpPr>
          <p:spPr>
            <a:xfrm>
              <a:off x="7500960" y="3661920"/>
              <a:ext cx="182520" cy="18288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254720" y="4592520"/>
              <a:ext cx="182880" cy="18252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3" name=""/>
            <p:cNvCxnSpPr>
              <a:stCxn id="2642" idx="3"/>
              <a:endCxn id="2557" idx="0"/>
            </p:cNvCxnSpPr>
            <p:nvPr/>
          </p:nvCxnSpPr>
          <p:spPr>
            <a:xfrm rot="5400000">
              <a:off x="7049160" y="4114440"/>
              <a:ext cx="775440" cy="181800"/>
            </a:xfrm>
            <a:prstGeom prst="curvedConnector5">
              <a:avLst>
                <a:gd name="adj1" fmla="val 51602"/>
                <a:gd name="adj2" fmla="val 50000"/>
                <a:gd name="adj3" fmla="val 51602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44" name=""/>
            <p:cNvCxnSpPr>
              <a:stCxn id="2642" idx="5"/>
              <a:endCxn id="2645" idx="7"/>
            </p:cNvCxnSpPr>
            <p:nvPr/>
          </p:nvCxnSpPr>
          <p:spPr>
            <a:xfrm flipH="1" rot="16200000">
              <a:off x="7336440" y="4136400"/>
              <a:ext cx="857880" cy="2199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646" name=""/>
            <p:cNvSpPr/>
            <p:nvPr/>
          </p:nvSpPr>
          <p:spPr>
            <a:xfrm>
              <a:off x="4481640" y="5313240"/>
              <a:ext cx="182520" cy="18252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7" name=""/>
            <p:cNvCxnSpPr>
              <a:endCxn id="2646" idx="0"/>
            </p:cNvCxnSpPr>
            <p:nvPr/>
          </p:nvCxnSpPr>
          <p:spPr>
            <a:xfrm rot="5400000">
              <a:off x="4354560" y="4924800"/>
              <a:ext cx="607320" cy="170640"/>
            </a:xfrm>
            <a:prstGeom prst="curvedConnector5">
              <a:avLst>
                <a:gd name="adj1" fmla="val 52075"/>
                <a:gd name="adj2" fmla="val 49894"/>
                <a:gd name="adj3" fmla="val 52075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640" name=""/>
            <p:cNvSpPr/>
            <p:nvPr/>
          </p:nvSpPr>
          <p:spPr>
            <a:xfrm>
              <a:off x="6113520" y="4522680"/>
              <a:ext cx="182520" cy="17280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70640" y="5340240"/>
              <a:ext cx="182520" cy="17280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775480" y="5292360"/>
              <a:ext cx="182520" cy="17316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48" name=""/>
            <p:cNvCxnSpPr>
              <a:stCxn id="2640" idx="4"/>
              <a:endCxn id="2563" idx="0"/>
            </p:cNvCxnSpPr>
            <p:nvPr/>
          </p:nvCxnSpPr>
          <p:spPr>
            <a:xfrm rot="5400000">
              <a:off x="5737320" y="4824720"/>
              <a:ext cx="597600" cy="339120"/>
            </a:xfrm>
            <a:prstGeom prst="curvedConnector5">
              <a:avLst>
                <a:gd name="adj1" fmla="val 49969"/>
                <a:gd name="adj2" fmla="val 49946"/>
                <a:gd name="adj3" fmla="val 4996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49" name=""/>
            <p:cNvCxnSpPr>
              <a:stCxn id="2640" idx="5"/>
              <a:endCxn id="2560" idx="7"/>
            </p:cNvCxnSpPr>
            <p:nvPr/>
          </p:nvCxnSpPr>
          <p:spPr>
            <a:xfrm flipH="1" rot="16200000">
              <a:off x="6100200" y="4838400"/>
              <a:ext cx="695520" cy="357840"/>
            </a:xfrm>
            <a:prstGeom prst="curvedConnector5">
              <a:avLst>
                <a:gd name="adj1" fmla="val 49974"/>
                <a:gd name="adj2" fmla="val 49949"/>
                <a:gd name="adj3" fmla="val 49974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645" name=""/>
            <p:cNvSpPr/>
            <p:nvPr/>
          </p:nvSpPr>
          <p:spPr>
            <a:xfrm>
              <a:off x="7719840" y="4649400"/>
              <a:ext cx="182880" cy="17316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902720" y="5371920"/>
              <a:ext cx="182520" cy="17280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445520" y="5371920"/>
              <a:ext cx="182520" cy="17280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2" name=""/>
            <p:cNvCxnSpPr>
              <a:stCxn id="2645" idx="4"/>
              <a:endCxn id="2651" idx="0"/>
            </p:cNvCxnSpPr>
            <p:nvPr/>
          </p:nvCxnSpPr>
          <p:spPr>
            <a:xfrm rot="5400000">
              <a:off x="7399080" y="4959720"/>
              <a:ext cx="550080" cy="27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53" name=""/>
            <p:cNvCxnSpPr>
              <a:stCxn id="2645" idx="5"/>
              <a:endCxn id="2650" idx="7"/>
            </p:cNvCxnSpPr>
            <p:nvPr/>
          </p:nvCxnSpPr>
          <p:spPr>
            <a:xfrm flipH="1" rot="16200000">
              <a:off x="7665840" y="5005440"/>
              <a:ext cx="600840" cy="1832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654" name=""/>
            <p:cNvSpPr/>
            <p:nvPr/>
          </p:nvSpPr>
          <p:spPr>
            <a:xfrm>
              <a:off x="5180040" y="5300280"/>
              <a:ext cx="182520" cy="18252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5" name=""/>
            <p:cNvCxnSpPr>
              <a:stCxn id="2632" idx="4"/>
              <a:endCxn id="2654" idx="6"/>
            </p:cNvCxnSpPr>
            <p:nvPr/>
          </p:nvCxnSpPr>
          <p:spPr>
            <a:xfrm rot="5400000">
              <a:off x="5062680" y="5032800"/>
              <a:ext cx="659520" cy="612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2656" name=""/>
            <p:cNvSpPr/>
            <p:nvPr/>
          </p:nvSpPr>
          <p:spPr>
            <a:xfrm>
              <a:off x="7205760" y="5354280"/>
              <a:ext cx="182520" cy="182520"/>
            </a:xfrm>
            <a:prstGeom prst="flowChartConnector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7" name=""/>
            <p:cNvCxnSpPr>
              <a:stCxn id="2557" idx="5"/>
              <a:endCxn id="2656" idx="0"/>
            </p:cNvCxnSpPr>
            <p:nvPr/>
          </p:nvCxnSpPr>
          <p:spPr>
            <a:xfrm rot="5400000">
              <a:off x="7050240" y="4994640"/>
              <a:ext cx="606960" cy="113760"/>
            </a:xfrm>
            <a:prstGeom prst="curvedConnector5">
              <a:avLst>
                <a:gd name="adj1" fmla="val 52047"/>
                <a:gd name="adj2" fmla="val 49841"/>
                <a:gd name="adj3" fmla="val 52047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cxnSp>
        <p:nvCxnSpPr>
          <p:cNvPr id="2658" name=""/>
          <p:cNvCxnSpPr>
            <a:stCxn id="2565" idx="3"/>
            <a:endCxn id="2558" idx="2"/>
          </p:cNvCxnSpPr>
          <p:nvPr/>
        </p:nvCxnSpPr>
        <p:spPr>
          <a:xfrm rot="5400000">
            <a:off x="3442680" y="1029960"/>
            <a:ext cx="623160" cy="1982160"/>
          </a:xfrm>
          <a:prstGeom prst="curvedConnector5">
            <a:avLst>
              <a:gd name="adj1" fmla="val 44624"/>
              <a:gd name="adj2" fmla="val 55767"/>
              <a:gd name="adj3" fmla="val 44624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59" name=""/>
          <p:cNvSpPr/>
          <p:nvPr/>
        </p:nvSpPr>
        <p:spPr>
          <a:xfrm>
            <a:off x="6603840" y="6045120"/>
            <a:ext cx="182880" cy="182520"/>
          </a:xfrm>
          <a:prstGeom prst="flowChartConnector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6603840" y="6350040"/>
            <a:ext cx="182880" cy="1825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795000" y="5973840"/>
            <a:ext cx="207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tology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SPSC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heritance (subcla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2" name=""/>
          <p:cNvCxnSpPr/>
          <p:nvPr/>
        </p:nvCxnSpPr>
        <p:spPr>
          <a:xfrm flipV="1">
            <a:off x="6515280" y="6673320"/>
            <a:ext cx="305280" cy="38880"/>
          </a:xfrm>
          <a:prstGeom prst="curvedConnector5">
            <a:avLst>
              <a:gd name="adj1" fmla="val 49940"/>
              <a:gd name="adj2" fmla="val 49532"/>
              <a:gd name="adj3" fmla="val 49940"/>
            </a:avLst>
          </a:prstGeom>
          <a:ln w="28440">
            <a:solidFill>
              <a:srgbClr val="cc0000"/>
            </a:solidFill>
            <a:miter/>
          </a:ln>
        </p:spPr>
      </p:cxnSp>
      <p:sp>
        <p:nvSpPr>
          <p:cNvPr id="2663" name=""/>
          <p:cNvSpPr/>
          <p:nvPr/>
        </p:nvSpPr>
        <p:spPr>
          <a:xfrm>
            <a:off x="6454800" y="5951520"/>
            <a:ext cx="2352600" cy="863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80880" y="7632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Taxonomic Standard to Ontology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168120" y="6064200"/>
            <a:ext cx="628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UNSPSC Mapped to Electronics Domain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6" name=""/>
          <p:cNvCxnSpPr/>
          <p:nvPr/>
        </p:nvCxnSpPr>
        <p:spPr>
          <a:xfrm rot="5400000">
            <a:off x="2709000" y="3795840"/>
            <a:ext cx="354960" cy="65520"/>
          </a:xfrm>
          <a:prstGeom prst="curvedConnector5">
            <a:avLst>
              <a:gd name="adj1" fmla="val 47918"/>
              <a:gd name="adj2" fmla="val 49723"/>
              <a:gd name="adj3" fmla="val 47918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667" name=""/>
          <p:cNvSpPr/>
          <p:nvPr/>
        </p:nvSpPr>
        <p:spPr>
          <a:xfrm>
            <a:off x="185760" y="6429240"/>
            <a:ext cx="48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 of Nebenstruktur (shadow structur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B422-B57D-4E3E-9F76-308B242764CF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Goals for Creating Mappings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3000"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presentational Adequac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mapping solution should represent the mapping between the source and ontology completely and consistent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eness: any information in the application that could be queried by an external application has been ma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stency: the most appropriate node in the ontology is mapped to the exter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uristic adequa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 mapping solution must be relatively easy to create and convenient to ac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 individual mapping should not require significant computation or user inte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 once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mapping solution should not introduce duplication in representa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engineering cost/Supports auto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mapping solution should not increase the workload or day-to-day activities of ontologists and domain expe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lution should provide support to automate mapp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cause not all mappings can be automated,  tools are needed to allow non-domain/non-ontology experts to create mapp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D9F3-9F0F-4862-9D09-BEF0A5BF0270}" type="slidenum">
              <a:t>16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Implementing Mappings: Mapping Table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table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 table (e.g., in a database) in which each row of the table indicates an association between some application data structure and th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y to Many mappings: duplicate ontology node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ion from Ontology and potential inferencing, mapping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uplicate and disjoint vers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0">
              <a:spcBef>
                <a:spcPts val="451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0">
              <a:spcBef>
                <a:spcPts val="4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spcBef>
                <a:spcPts val="49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spcBef>
                <a:spcPts val="49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60AA-0381-47D2-ADEA-764FB56C451B}" type="slidenum">
              <a:t>17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2" name=""/>
          <p:cNvGrpSpPr/>
          <p:nvPr/>
        </p:nvGrpSpPr>
        <p:grpSpPr>
          <a:xfrm>
            <a:off x="2349360" y="2925720"/>
            <a:ext cx="5644800" cy="2819160"/>
            <a:chOff x="2349360" y="2925720"/>
            <a:chExt cx="5644800" cy="2819160"/>
          </a:xfrm>
        </p:grpSpPr>
        <p:sp>
          <p:nvSpPr>
            <p:cNvPr id="2673" name=""/>
            <p:cNvSpPr/>
            <p:nvPr/>
          </p:nvSpPr>
          <p:spPr>
            <a:xfrm>
              <a:off x="4764600" y="3278880"/>
              <a:ext cx="564480" cy="56376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4"/>
                  </a:moveTo>
                  <a:lnTo>
                    <a:pt x="264" y="103"/>
                  </a:lnTo>
                  <a:lnTo>
                    <a:pt x="253" y="75"/>
                  </a:lnTo>
                  <a:lnTo>
                    <a:pt x="237" y="50"/>
                  </a:lnTo>
                  <a:lnTo>
                    <a:pt x="216" y="29"/>
                  </a:lnTo>
                  <a:lnTo>
                    <a:pt x="191" y="13"/>
                  </a:lnTo>
                  <a:lnTo>
                    <a:pt x="162" y="2"/>
                  </a:lnTo>
                  <a:lnTo>
                    <a:pt x="134" y="0"/>
                  </a:lnTo>
                  <a:lnTo>
                    <a:pt x="104" y="2"/>
                  </a:lnTo>
                  <a:lnTo>
                    <a:pt x="75" y="13"/>
                  </a:lnTo>
                  <a:lnTo>
                    <a:pt x="50" y="29"/>
                  </a:lnTo>
                  <a:lnTo>
                    <a:pt x="29" y="50"/>
                  </a:lnTo>
                  <a:lnTo>
                    <a:pt x="13" y="75"/>
                  </a:lnTo>
                  <a:lnTo>
                    <a:pt x="4" y="103"/>
                  </a:lnTo>
                  <a:lnTo>
                    <a:pt x="0" y="134"/>
                  </a:lnTo>
                  <a:lnTo>
                    <a:pt x="4" y="162"/>
                  </a:lnTo>
                  <a:lnTo>
                    <a:pt x="13" y="191"/>
                  </a:lnTo>
                  <a:lnTo>
                    <a:pt x="29" y="215"/>
                  </a:lnTo>
                  <a:lnTo>
                    <a:pt x="50" y="237"/>
                  </a:lnTo>
                  <a:lnTo>
                    <a:pt x="75" y="253"/>
                  </a:lnTo>
                  <a:lnTo>
                    <a:pt x="104" y="264"/>
                  </a:lnTo>
                  <a:lnTo>
                    <a:pt x="134" y="267"/>
                  </a:lnTo>
                  <a:lnTo>
                    <a:pt x="162" y="264"/>
                  </a:lnTo>
                  <a:lnTo>
                    <a:pt x="191" y="253"/>
                  </a:lnTo>
                  <a:lnTo>
                    <a:pt x="216" y="237"/>
                  </a:lnTo>
                  <a:lnTo>
                    <a:pt x="237" y="215"/>
                  </a:lnTo>
                  <a:lnTo>
                    <a:pt x="253" y="191"/>
                  </a:lnTo>
                  <a:lnTo>
                    <a:pt x="264" y="162"/>
                  </a:lnTo>
                  <a:lnTo>
                    <a:pt x="267" y="134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76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036760" y="336492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606560" y="2925720"/>
              <a:ext cx="566280" cy="564480"/>
            </a:xfrm>
            <a:custGeom>
              <a:avLst/>
              <a:gdLst/>
              <a:ahLst/>
              <a:rect l="l" t="t" r="r" b="b"/>
              <a:pathLst>
                <a:path w="268" h="267">
                  <a:moveTo>
                    <a:pt x="268" y="133"/>
                  </a:moveTo>
                  <a:lnTo>
                    <a:pt x="264" y="103"/>
                  </a:lnTo>
                  <a:lnTo>
                    <a:pt x="255" y="75"/>
                  </a:lnTo>
                  <a:lnTo>
                    <a:pt x="239" y="50"/>
                  </a:lnTo>
                  <a:lnTo>
                    <a:pt x="218" y="28"/>
                  </a:lnTo>
                  <a:lnTo>
                    <a:pt x="193" y="12"/>
                  </a:lnTo>
                  <a:lnTo>
                    <a:pt x="164" y="4"/>
                  </a:lnTo>
                  <a:lnTo>
                    <a:pt x="134" y="0"/>
                  </a:lnTo>
                  <a:lnTo>
                    <a:pt x="104" y="4"/>
                  </a:lnTo>
                  <a:lnTo>
                    <a:pt x="75" y="12"/>
                  </a:lnTo>
                  <a:lnTo>
                    <a:pt x="50" y="28"/>
                  </a:lnTo>
                  <a:lnTo>
                    <a:pt x="29" y="50"/>
                  </a:lnTo>
                  <a:lnTo>
                    <a:pt x="13" y="75"/>
                  </a:lnTo>
                  <a:lnTo>
                    <a:pt x="4" y="103"/>
                  </a:lnTo>
                  <a:lnTo>
                    <a:pt x="0" y="133"/>
                  </a:lnTo>
                  <a:lnTo>
                    <a:pt x="4" y="162"/>
                  </a:lnTo>
                  <a:lnTo>
                    <a:pt x="13" y="190"/>
                  </a:lnTo>
                  <a:lnTo>
                    <a:pt x="29" y="217"/>
                  </a:lnTo>
                  <a:lnTo>
                    <a:pt x="50" y="237"/>
                  </a:lnTo>
                  <a:lnTo>
                    <a:pt x="75" y="253"/>
                  </a:lnTo>
                  <a:lnTo>
                    <a:pt x="104" y="263"/>
                  </a:lnTo>
                  <a:lnTo>
                    <a:pt x="134" y="267"/>
                  </a:lnTo>
                  <a:lnTo>
                    <a:pt x="164" y="263"/>
                  </a:lnTo>
                  <a:lnTo>
                    <a:pt x="193" y="253"/>
                  </a:lnTo>
                  <a:lnTo>
                    <a:pt x="218" y="237"/>
                  </a:lnTo>
                  <a:lnTo>
                    <a:pt x="239" y="217"/>
                  </a:lnTo>
                  <a:lnTo>
                    <a:pt x="255" y="190"/>
                  </a:lnTo>
                  <a:lnTo>
                    <a:pt x="264" y="162"/>
                  </a:lnTo>
                  <a:lnTo>
                    <a:pt x="268" y="133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477960" y="4263480"/>
              <a:ext cx="563760" cy="56376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4"/>
                  </a:moveTo>
                  <a:lnTo>
                    <a:pt x="264" y="103"/>
                  </a:lnTo>
                  <a:lnTo>
                    <a:pt x="255" y="77"/>
                  </a:lnTo>
                  <a:lnTo>
                    <a:pt x="239" y="50"/>
                  </a:lnTo>
                  <a:lnTo>
                    <a:pt x="218" y="29"/>
                  </a:lnTo>
                  <a:lnTo>
                    <a:pt x="191" y="15"/>
                  </a:lnTo>
                  <a:lnTo>
                    <a:pt x="164" y="4"/>
                  </a:lnTo>
                  <a:lnTo>
                    <a:pt x="134" y="0"/>
                  </a:lnTo>
                  <a:lnTo>
                    <a:pt x="104" y="4"/>
                  </a:lnTo>
                  <a:lnTo>
                    <a:pt x="75" y="15"/>
                  </a:lnTo>
                  <a:lnTo>
                    <a:pt x="50" y="29"/>
                  </a:lnTo>
                  <a:lnTo>
                    <a:pt x="29" y="50"/>
                  </a:lnTo>
                  <a:lnTo>
                    <a:pt x="13" y="77"/>
                  </a:lnTo>
                  <a:lnTo>
                    <a:pt x="4" y="103"/>
                  </a:lnTo>
                  <a:lnTo>
                    <a:pt x="0" y="134"/>
                  </a:lnTo>
                  <a:lnTo>
                    <a:pt x="4" y="164"/>
                  </a:lnTo>
                  <a:lnTo>
                    <a:pt x="13" y="192"/>
                  </a:lnTo>
                  <a:lnTo>
                    <a:pt x="29" y="217"/>
                  </a:lnTo>
                  <a:lnTo>
                    <a:pt x="50" y="239"/>
                  </a:lnTo>
                  <a:lnTo>
                    <a:pt x="75" y="255"/>
                  </a:lnTo>
                  <a:lnTo>
                    <a:pt x="104" y="264"/>
                  </a:lnTo>
                  <a:lnTo>
                    <a:pt x="134" y="267"/>
                  </a:lnTo>
                  <a:lnTo>
                    <a:pt x="164" y="264"/>
                  </a:lnTo>
                  <a:lnTo>
                    <a:pt x="191" y="255"/>
                  </a:lnTo>
                  <a:lnTo>
                    <a:pt x="218" y="239"/>
                  </a:lnTo>
                  <a:lnTo>
                    <a:pt x="239" y="217"/>
                  </a:lnTo>
                  <a:lnTo>
                    <a:pt x="255" y="192"/>
                  </a:lnTo>
                  <a:lnTo>
                    <a:pt x="264" y="164"/>
                  </a:lnTo>
                  <a:lnTo>
                    <a:pt x="267" y="13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76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889520" y="4899600"/>
              <a:ext cx="563760" cy="56376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3"/>
                  </a:moveTo>
                  <a:lnTo>
                    <a:pt x="264" y="103"/>
                  </a:lnTo>
                  <a:lnTo>
                    <a:pt x="255" y="75"/>
                  </a:lnTo>
                  <a:lnTo>
                    <a:pt x="239" y="50"/>
                  </a:lnTo>
                  <a:lnTo>
                    <a:pt x="217" y="28"/>
                  </a:lnTo>
                  <a:lnTo>
                    <a:pt x="192" y="12"/>
                  </a:lnTo>
                  <a:lnTo>
                    <a:pt x="164" y="3"/>
                  </a:lnTo>
                  <a:lnTo>
                    <a:pt x="134" y="0"/>
                  </a:lnTo>
                  <a:lnTo>
                    <a:pt x="103" y="3"/>
                  </a:lnTo>
                  <a:lnTo>
                    <a:pt x="75" y="12"/>
                  </a:lnTo>
                  <a:lnTo>
                    <a:pt x="50" y="28"/>
                  </a:lnTo>
                  <a:lnTo>
                    <a:pt x="29" y="50"/>
                  </a:lnTo>
                  <a:lnTo>
                    <a:pt x="12" y="75"/>
                  </a:lnTo>
                  <a:lnTo>
                    <a:pt x="4" y="103"/>
                  </a:lnTo>
                  <a:lnTo>
                    <a:pt x="0" y="133"/>
                  </a:lnTo>
                  <a:lnTo>
                    <a:pt x="4" y="164"/>
                  </a:lnTo>
                  <a:lnTo>
                    <a:pt x="12" y="190"/>
                  </a:lnTo>
                  <a:lnTo>
                    <a:pt x="29" y="217"/>
                  </a:lnTo>
                  <a:lnTo>
                    <a:pt x="50" y="238"/>
                  </a:lnTo>
                  <a:lnTo>
                    <a:pt x="75" y="253"/>
                  </a:lnTo>
                  <a:lnTo>
                    <a:pt x="103" y="263"/>
                  </a:lnTo>
                  <a:lnTo>
                    <a:pt x="134" y="267"/>
                  </a:lnTo>
                  <a:lnTo>
                    <a:pt x="164" y="263"/>
                  </a:lnTo>
                  <a:lnTo>
                    <a:pt x="192" y="253"/>
                  </a:lnTo>
                  <a:lnTo>
                    <a:pt x="217" y="238"/>
                  </a:lnTo>
                  <a:lnTo>
                    <a:pt x="239" y="217"/>
                  </a:lnTo>
                  <a:lnTo>
                    <a:pt x="255" y="190"/>
                  </a:lnTo>
                  <a:lnTo>
                    <a:pt x="264" y="164"/>
                  </a:lnTo>
                  <a:lnTo>
                    <a:pt x="267" y="133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76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>
              <a:off x="3456360" y="4618080"/>
              <a:ext cx="327240" cy="28116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146360" y="4899600"/>
              <a:ext cx="564480" cy="56376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3"/>
                  </a:moveTo>
                  <a:lnTo>
                    <a:pt x="264" y="103"/>
                  </a:lnTo>
                  <a:lnTo>
                    <a:pt x="255" y="75"/>
                  </a:lnTo>
                  <a:lnTo>
                    <a:pt x="239" y="50"/>
                  </a:lnTo>
                  <a:lnTo>
                    <a:pt x="217" y="28"/>
                  </a:lnTo>
                  <a:lnTo>
                    <a:pt x="193" y="12"/>
                  </a:lnTo>
                  <a:lnTo>
                    <a:pt x="164" y="3"/>
                  </a:lnTo>
                  <a:lnTo>
                    <a:pt x="134" y="0"/>
                  </a:lnTo>
                  <a:lnTo>
                    <a:pt x="104" y="3"/>
                  </a:lnTo>
                  <a:lnTo>
                    <a:pt x="77" y="12"/>
                  </a:lnTo>
                  <a:lnTo>
                    <a:pt x="50" y="28"/>
                  </a:lnTo>
                  <a:lnTo>
                    <a:pt x="29" y="50"/>
                  </a:lnTo>
                  <a:lnTo>
                    <a:pt x="14" y="75"/>
                  </a:lnTo>
                  <a:lnTo>
                    <a:pt x="4" y="103"/>
                  </a:lnTo>
                  <a:lnTo>
                    <a:pt x="0" y="133"/>
                  </a:lnTo>
                  <a:lnTo>
                    <a:pt x="4" y="164"/>
                  </a:lnTo>
                  <a:lnTo>
                    <a:pt x="14" y="190"/>
                  </a:lnTo>
                  <a:lnTo>
                    <a:pt x="29" y="217"/>
                  </a:lnTo>
                  <a:lnTo>
                    <a:pt x="50" y="238"/>
                  </a:lnTo>
                  <a:lnTo>
                    <a:pt x="77" y="253"/>
                  </a:lnTo>
                  <a:lnTo>
                    <a:pt x="104" y="263"/>
                  </a:lnTo>
                  <a:lnTo>
                    <a:pt x="134" y="267"/>
                  </a:lnTo>
                  <a:lnTo>
                    <a:pt x="164" y="263"/>
                  </a:lnTo>
                  <a:lnTo>
                    <a:pt x="193" y="253"/>
                  </a:lnTo>
                  <a:lnTo>
                    <a:pt x="217" y="238"/>
                  </a:lnTo>
                  <a:lnTo>
                    <a:pt x="239" y="217"/>
                  </a:lnTo>
                  <a:lnTo>
                    <a:pt x="255" y="190"/>
                  </a:lnTo>
                  <a:lnTo>
                    <a:pt x="264" y="164"/>
                  </a:lnTo>
                  <a:lnTo>
                    <a:pt x="267" y="133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76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488680" y="4899600"/>
              <a:ext cx="564480" cy="56376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3"/>
                  </a:moveTo>
                  <a:lnTo>
                    <a:pt x="264" y="103"/>
                  </a:lnTo>
                  <a:lnTo>
                    <a:pt x="255" y="75"/>
                  </a:lnTo>
                  <a:lnTo>
                    <a:pt x="239" y="50"/>
                  </a:lnTo>
                  <a:lnTo>
                    <a:pt x="217" y="28"/>
                  </a:lnTo>
                  <a:lnTo>
                    <a:pt x="192" y="12"/>
                  </a:lnTo>
                  <a:lnTo>
                    <a:pt x="164" y="3"/>
                  </a:lnTo>
                  <a:lnTo>
                    <a:pt x="134" y="0"/>
                  </a:lnTo>
                  <a:lnTo>
                    <a:pt x="105" y="3"/>
                  </a:lnTo>
                  <a:lnTo>
                    <a:pt x="77" y="12"/>
                  </a:lnTo>
                  <a:lnTo>
                    <a:pt x="52" y="28"/>
                  </a:lnTo>
                  <a:lnTo>
                    <a:pt x="30" y="50"/>
                  </a:lnTo>
                  <a:lnTo>
                    <a:pt x="14" y="75"/>
                  </a:lnTo>
                  <a:lnTo>
                    <a:pt x="4" y="103"/>
                  </a:lnTo>
                  <a:lnTo>
                    <a:pt x="0" y="133"/>
                  </a:lnTo>
                  <a:lnTo>
                    <a:pt x="4" y="164"/>
                  </a:lnTo>
                  <a:lnTo>
                    <a:pt x="14" y="190"/>
                  </a:lnTo>
                  <a:lnTo>
                    <a:pt x="30" y="217"/>
                  </a:lnTo>
                  <a:lnTo>
                    <a:pt x="52" y="238"/>
                  </a:lnTo>
                  <a:lnTo>
                    <a:pt x="77" y="253"/>
                  </a:lnTo>
                  <a:lnTo>
                    <a:pt x="105" y="263"/>
                  </a:lnTo>
                  <a:lnTo>
                    <a:pt x="134" y="267"/>
                  </a:lnTo>
                  <a:lnTo>
                    <a:pt x="164" y="263"/>
                  </a:lnTo>
                  <a:lnTo>
                    <a:pt x="192" y="253"/>
                  </a:lnTo>
                  <a:lnTo>
                    <a:pt x="217" y="238"/>
                  </a:lnTo>
                  <a:lnTo>
                    <a:pt x="239" y="217"/>
                  </a:lnTo>
                  <a:lnTo>
                    <a:pt x="255" y="190"/>
                  </a:lnTo>
                  <a:lnTo>
                    <a:pt x="264" y="164"/>
                  </a:lnTo>
                  <a:lnTo>
                    <a:pt x="267" y="133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76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196440" y="4899600"/>
              <a:ext cx="564480" cy="56376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3"/>
                  </a:moveTo>
                  <a:lnTo>
                    <a:pt x="263" y="103"/>
                  </a:lnTo>
                  <a:lnTo>
                    <a:pt x="253" y="75"/>
                  </a:lnTo>
                  <a:lnTo>
                    <a:pt x="238" y="50"/>
                  </a:lnTo>
                  <a:lnTo>
                    <a:pt x="217" y="28"/>
                  </a:lnTo>
                  <a:lnTo>
                    <a:pt x="190" y="12"/>
                  </a:lnTo>
                  <a:lnTo>
                    <a:pt x="164" y="3"/>
                  </a:lnTo>
                  <a:lnTo>
                    <a:pt x="133" y="0"/>
                  </a:lnTo>
                  <a:lnTo>
                    <a:pt x="103" y="3"/>
                  </a:lnTo>
                  <a:lnTo>
                    <a:pt x="75" y="12"/>
                  </a:lnTo>
                  <a:lnTo>
                    <a:pt x="50" y="28"/>
                  </a:lnTo>
                  <a:lnTo>
                    <a:pt x="28" y="50"/>
                  </a:lnTo>
                  <a:lnTo>
                    <a:pt x="12" y="75"/>
                  </a:lnTo>
                  <a:lnTo>
                    <a:pt x="3" y="103"/>
                  </a:lnTo>
                  <a:lnTo>
                    <a:pt x="0" y="133"/>
                  </a:lnTo>
                  <a:lnTo>
                    <a:pt x="3" y="164"/>
                  </a:lnTo>
                  <a:lnTo>
                    <a:pt x="12" y="190"/>
                  </a:lnTo>
                  <a:lnTo>
                    <a:pt x="28" y="217"/>
                  </a:lnTo>
                  <a:lnTo>
                    <a:pt x="50" y="238"/>
                  </a:lnTo>
                  <a:lnTo>
                    <a:pt x="75" y="253"/>
                  </a:lnTo>
                  <a:lnTo>
                    <a:pt x="103" y="263"/>
                  </a:lnTo>
                  <a:lnTo>
                    <a:pt x="133" y="267"/>
                  </a:lnTo>
                  <a:lnTo>
                    <a:pt x="164" y="263"/>
                  </a:lnTo>
                  <a:lnTo>
                    <a:pt x="190" y="253"/>
                  </a:lnTo>
                  <a:lnTo>
                    <a:pt x="217" y="238"/>
                  </a:lnTo>
                  <a:lnTo>
                    <a:pt x="238" y="217"/>
                  </a:lnTo>
                  <a:lnTo>
                    <a:pt x="253" y="190"/>
                  </a:lnTo>
                  <a:lnTo>
                    <a:pt x="263" y="164"/>
                  </a:lnTo>
                  <a:lnTo>
                    <a:pt x="267" y="133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76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832920" y="4899600"/>
              <a:ext cx="563760" cy="56376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3"/>
                  </a:moveTo>
                  <a:lnTo>
                    <a:pt x="263" y="103"/>
                  </a:lnTo>
                  <a:lnTo>
                    <a:pt x="253" y="75"/>
                  </a:lnTo>
                  <a:lnTo>
                    <a:pt x="237" y="50"/>
                  </a:lnTo>
                  <a:lnTo>
                    <a:pt x="215" y="28"/>
                  </a:lnTo>
                  <a:lnTo>
                    <a:pt x="190" y="12"/>
                  </a:lnTo>
                  <a:lnTo>
                    <a:pt x="162" y="3"/>
                  </a:lnTo>
                  <a:lnTo>
                    <a:pt x="133" y="0"/>
                  </a:lnTo>
                  <a:lnTo>
                    <a:pt x="103" y="3"/>
                  </a:lnTo>
                  <a:lnTo>
                    <a:pt x="75" y="12"/>
                  </a:lnTo>
                  <a:lnTo>
                    <a:pt x="50" y="28"/>
                  </a:lnTo>
                  <a:lnTo>
                    <a:pt x="28" y="50"/>
                  </a:lnTo>
                  <a:lnTo>
                    <a:pt x="12" y="75"/>
                  </a:lnTo>
                  <a:lnTo>
                    <a:pt x="3" y="103"/>
                  </a:lnTo>
                  <a:lnTo>
                    <a:pt x="0" y="133"/>
                  </a:lnTo>
                  <a:lnTo>
                    <a:pt x="3" y="164"/>
                  </a:lnTo>
                  <a:lnTo>
                    <a:pt x="12" y="190"/>
                  </a:lnTo>
                  <a:lnTo>
                    <a:pt x="28" y="217"/>
                  </a:lnTo>
                  <a:lnTo>
                    <a:pt x="50" y="238"/>
                  </a:lnTo>
                  <a:lnTo>
                    <a:pt x="75" y="253"/>
                  </a:lnTo>
                  <a:lnTo>
                    <a:pt x="103" y="263"/>
                  </a:lnTo>
                  <a:lnTo>
                    <a:pt x="133" y="267"/>
                  </a:lnTo>
                  <a:lnTo>
                    <a:pt x="162" y="263"/>
                  </a:lnTo>
                  <a:lnTo>
                    <a:pt x="190" y="253"/>
                  </a:lnTo>
                  <a:lnTo>
                    <a:pt x="215" y="238"/>
                  </a:lnTo>
                  <a:lnTo>
                    <a:pt x="237" y="217"/>
                  </a:lnTo>
                  <a:lnTo>
                    <a:pt x="253" y="190"/>
                  </a:lnTo>
                  <a:lnTo>
                    <a:pt x="263" y="164"/>
                  </a:lnTo>
                  <a:lnTo>
                    <a:pt x="267" y="133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76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122080" y="3842640"/>
              <a:ext cx="12240" cy="10609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107320" y="3836520"/>
              <a:ext cx="2197800" cy="10926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809520" y="4614480"/>
              <a:ext cx="232200" cy="2912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3783600" y="3838680"/>
              <a:ext cx="1293480" cy="4248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662200" y="4618080"/>
              <a:ext cx="1098720" cy="5706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762360" y="434160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157360" y="494784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392240" y="4977720"/>
              <a:ext cx="279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741400" y="49777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471120" y="497772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103280" y="4977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926960" y="29743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2913840" y="4054320"/>
              <a:ext cx="563760" cy="56376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3"/>
                  </a:moveTo>
                  <a:lnTo>
                    <a:pt x="264" y="103"/>
                  </a:lnTo>
                  <a:lnTo>
                    <a:pt x="253" y="74"/>
                  </a:lnTo>
                  <a:lnTo>
                    <a:pt x="239" y="49"/>
                  </a:lnTo>
                  <a:lnTo>
                    <a:pt x="218" y="28"/>
                  </a:lnTo>
                  <a:lnTo>
                    <a:pt x="191" y="12"/>
                  </a:lnTo>
                  <a:lnTo>
                    <a:pt x="164" y="3"/>
                  </a:lnTo>
                  <a:lnTo>
                    <a:pt x="134" y="0"/>
                  </a:lnTo>
                  <a:lnTo>
                    <a:pt x="104" y="3"/>
                  </a:lnTo>
                  <a:lnTo>
                    <a:pt x="75" y="12"/>
                  </a:lnTo>
                  <a:lnTo>
                    <a:pt x="50" y="28"/>
                  </a:lnTo>
                  <a:lnTo>
                    <a:pt x="29" y="49"/>
                  </a:lnTo>
                  <a:lnTo>
                    <a:pt x="13" y="74"/>
                  </a:lnTo>
                  <a:lnTo>
                    <a:pt x="4" y="103"/>
                  </a:lnTo>
                  <a:lnTo>
                    <a:pt x="0" y="133"/>
                  </a:lnTo>
                  <a:lnTo>
                    <a:pt x="4" y="163"/>
                  </a:lnTo>
                  <a:lnTo>
                    <a:pt x="13" y="190"/>
                  </a:lnTo>
                  <a:lnTo>
                    <a:pt x="29" y="217"/>
                  </a:lnTo>
                  <a:lnTo>
                    <a:pt x="50" y="236"/>
                  </a:lnTo>
                  <a:lnTo>
                    <a:pt x="75" y="252"/>
                  </a:lnTo>
                  <a:lnTo>
                    <a:pt x="104" y="263"/>
                  </a:lnTo>
                  <a:lnTo>
                    <a:pt x="134" y="267"/>
                  </a:lnTo>
                  <a:lnTo>
                    <a:pt x="164" y="263"/>
                  </a:lnTo>
                  <a:lnTo>
                    <a:pt x="191" y="252"/>
                  </a:lnTo>
                  <a:lnTo>
                    <a:pt x="218" y="236"/>
                  </a:lnTo>
                  <a:lnTo>
                    <a:pt x="239" y="217"/>
                  </a:lnTo>
                  <a:lnTo>
                    <a:pt x="253" y="190"/>
                  </a:lnTo>
                  <a:lnTo>
                    <a:pt x="264" y="163"/>
                  </a:lnTo>
                  <a:lnTo>
                    <a:pt x="267" y="133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041720" y="4054320"/>
              <a:ext cx="564480" cy="56376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3"/>
                  </a:moveTo>
                  <a:lnTo>
                    <a:pt x="264" y="103"/>
                  </a:lnTo>
                  <a:lnTo>
                    <a:pt x="255" y="74"/>
                  </a:lnTo>
                  <a:lnTo>
                    <a:pt x="239" y="49"/>
                  </a:lnTo>
                  <a:lnTo>
                    <a:pt x="218" y="28"/>
                  </a:lnTo>
                  <a:lnTo>
                    <a:pt x="191" y="12"/>
                  </a:lnTo>
                  <a:lnTo>
                    <a:pt x="164" y="3"/>
                  </a:lnTo>
                  <a:lnTo>
                    <a:pt x="134" y="0"/>
                  </a:lnTo>
                  <a:lnTo>
                    <a:pt x="104" y="3"/>
                  </a:lnTo>
                  <a:lnTo>
                    <a:pt x="75" y="12"/>
                  </a:lnTo>
                  <a:lnTo>
                    <a:pt x="50" y="28"/>
                  </a:lnTo>
                  <a:lnTo>
                    <a:pt x="29" y="49"/>
                  </a:lnTo>
                  <a:lnTo>
                    <a:pt x="13" y="74"/>
                  </a:lnTo>
                  <a:lnTo>
                    <a:pt x="4" y="103"/>
                  </a:lnTo>
                  <a:lnTo>
                    <a:pt x="0" y="133"/>
                  </a:lnTo>
                  <a:lnTo>
                    <a:pt x="4" y="163"/>
                  </a:lnTo>
                  <a:lnTo>
                    <a:pt x="13" y="190"/>
                  </a:lnTo>
                  <a:lnTo>
                    <a:pt x="29" y="217"/>
                  </a:lnTo>
                  <a:lnTo>
                    <a:pt x="50" y="236"/>
                  </a:lnTo>
                  <a:lnTo>
                    <a:pt x="75" y="252"/>
                  </a:lnTo>
                  <a:lnTo>
                    <a:pt x="104" y="263"/>
                  </a:lnTo>
                  <a:lnTo>
                    <a:pt x="134" y="267"/>
                  </a:lnTo>
                  <a:lnTo>
                    <a:pt x="164" y="263"/>
                  </a:lnTo>
                  <a:lnTo>
                    <a:pt x="191" y="252"/>
                  </a:lnTo>
                  <a:lnTo>
                    <a:pt x="218" y="236"/>
                  </a:lnTo>
                  <a:lnTo>
                    <a:pt x="239" y="217"/>
                  </a:lnTo>
                  <a:lnTo>
                    <a:pt x="255" y="190"/>
                  </a:lnTo>
                  <a:lnTo>
                    <a:pt x="264" y="163"/>
                  </a:lnTo>
                  <a:lnTo>
                    <a:pt x="267" y="133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736960" y="4054320"/>
              <a:ext cx="563760" cy="56376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3"/>
                  </a:moveTo>
                  <a:lnTo>
                    <a:pt x="263" y="103"/>
                  </a:lnTo>
                  <a:lnTo>
                    <a:pt x="254" y="74"/>
                  </a:lnTo>
                  <a:lnTo>
                    <a:pt x="238" y="49"/>
                  </a:lnTo>
                  <a:lnTo>
                    <a:pt x="217" y="28"/>
                  </a:lnTo>
                  <a:lnTo>
                    <a:pt x="192" y="12"/>
                  </a:lnTo>
                  <a:lnTo>
                    <a:pt x="163" y="3"/>
                  </a:lnTo>
                  <a:lnTo>
                    <a:pt x="133" y="0"/>
                  </a:lnTo>
                  <a:lnTo>
                    <a:pt x="103" y="3"/>
                  </a:lnTo>
                  <a:lnTo>
                    <a:pt x="76" y="12"/>
                  </a:lnTo>
                  <a:lnTo>
                    <a:pt x="49" y="28"/>
                  </a:lnTo>
                  <a:lnTo>
                    <a:pt x="28" y="49"/>
                  </a:lnTo>
                  <a:lnTo>
                    <a:pt x="12" y="74"/>
                  </a:lnTo>
                  <a:lnTo>
                    <a:pt x="3" y="103"/>
                  </a:lnTo>
                  <a:lnTo>
                    <a:pt x="0" y="133"/>
                  </a:lnTo>
                  <a:lnTo>
                    <a:pt x="3" y="163"/>
                  </a:lnTo>
                  <a:lnTo>
                    <a:pt x="12" y="190"/>
                  </a:lnTo>
                  <a:lnTo>
                    <a:pt x="28" y="217"/>
                  </a:lnTo>
                  <a:lnTo>
                    <a:pt x="49" y="236"/>
                  </a:lnTo>
                  <a:lnTo>
                    <a:pt x="76" y="252"/>
                  </a:lnTo>
                  <a:lnTo>
                    <a:pt x="103" y="263"/>
                  </a:lnTo>
                  <a:lnTo>
                    <a:pt x="133" y="267"/>
                  </a:lnTo>
                  <a:lnTo>
                    <a:pt x="163" y="263"/>
                  </a:lnTo>
                  <a:lnTo>
                    <a:pt x="192" y="252"/>
                  </a:lnTo>
                  <a:lnTo>
                    <a:pt x="217" y="236"/>
                  </a:lnTo>
                  <a:lnTo>
                    <a:pt x="238" y="217"/>
                  </a:lnTo>
                  <a:lnTo>
                    <a:pt x="254" y="190"/>
                  </a:lnTo>
                  <a:lnTo>
                    <a:pt x="263" y="163"/>
                  </a:lnTo>
                  <a:lnTo>
                    <a:pt x="267" y="133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865560" y="4054320"/>
              <a:ext cx="563760" cy="56376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3"/>
                  </a:moveTo>
                  <a:lnTo>
                    <a:pt x="263" y="103"/>
                  </a:lnTo>
                  <a:lnTo>
                    <a:pt x="254" y="74"/>
                  </a:lnTo>
                  <a:lnTo>
                    <a:pt x="238" y="49"/>
                  </a:lnTo>
                  <a:lnTo>
                    <a:pt x="217" y="28"/>
                  </a:lnTo>
                  <a:lnTo>
                    <a:pt x="192" y="12"/>
                  </a:lnTo>
                  <a:lnTo>
                    <a:pt x="164" y="3"/>
                  </a:lnTo>
                  <a:lnTo>
                    <a:pt x="133" y="0"/>
                  </a:lnTo>
                  <a:lnTo>
                    <a:pt x="103" y="3"/>
                  </a:lnTo>
                  <a:lnTo>
                    <a:pt x="76" y="12"/>
                  </a:lnTo>
                  <a:lnTo>
                    <a:pt x="50" y="28"/>
                  </a:lnTo>
                  <a:lnTo>
                    <a:pt x="28" y="49"/>
                  </a:lnTo>
                  <a:lnTo>
                    <a:pt x="14" y="74"/>
                  </a:lnTo>
                  <a:lnTo>
                    <a:pt x="3" y="103"/>
                  </a:lnTo>
                  <a:lnTo>
                    <a:pt x="0" y="133"/>
                  </a:lnTo>
                  <a:lnTo>
                    <a:pt x="3" y="163"/>
                  </a:lnTo>
                  <a:lnTo>
                    <a:pt x="14" y="190"/>
                  </a:lnTo>
                  <a:lnTo>
                    <a:pt x="28" y="217"/>
                  </a:lnTo>
                  <a:lnTo>
                    <a:pt x="50" y="236"/>
                  </a:lnTo>
                  <a:lnTo>
                    <a:pt x="76" y="252"/>
                  </a:lnTo>
                  <a:lnTo>
                    <a:pt x="103" y="263"/>
                  </a:lnTo>
                  <a:lnTo>
                    <a:pt x="133" y="267"/>
                  </a:lnTo>
                  <a:lnTo>
                    <a:pt x="164" y="263"/>
                  </a:lnTo>
                  <a:lnTo>
                    <a:pt x="192" y="252"/>
                  </a:lnTo>
                  <a:lnTo>
                    <a:pt x="217" y="236"/>
                  </a:lnTo>
                  <a:lnTo>
                    <a:pt x="238" y="217"/>
                  </a:lnTo>
                  <a:lnTo>
                    <a:pt x="254" y="190"/>
                  </a:lnTo>
                  <a:lnTo>
                    <a:pt x="263" y="163"/>
                  </a:lnTo>
                  <a:lnTo>
                    <a:pt x="267" y="133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2349360" y="2925720"/>
              <a:ext cx="564480" cy="56448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3"/>
                  </a:moveTo>
                  <a:lnTo>
                    <a:pt x="264" y="103"/>
                  </a:lnTo>
                  <a:lnTo>
                    <a:pt x="253" y="75"/>
                  </a:lnTo>
                  <a:lnTo>
                    <a:pt x="239" y="50"/>
                  </a:lnTo>
                  <a:lnTo>
                    <a:pt x="217" y="28"/>
                  </a:lnTo>
                  <a:lnTo>
                    <a:pt x="191" y="12"/>
                  </a:lnTo>
                  <a:lnTo>
                    <a:pt x="164" y="4"/>
                  </a:lnTo>
                  <a:lnTo>
                    <a:pt x="134" y="0"/>
                  </a:lnTo>
                  <a:lnTo>
                    <a:pt x="104" y="4"/>
                  </a:lnTo>
                  <a:lnTo>
                    <a:pt x="75" y="12"/>
                  </a:lnTo>
                  <a:lnTo>
                    <a:pt x="50" y="28"/>
                  </a:lnTo>
                  <a:lnTo>
                    <a:pt x="29" y="50"/>
                  </a:lnTo>
                  <a:lnTo>
                    <a:pt x="13" y="75"/>
                  </a:lnTo>
                  <a:lnTo>
                    <a:pt x="4" y="103"/>
                  </a:lnTo>
                  <a:lnTo>
                    <a:pt x="0" y="133"/>
                  </a:lnTo>
                  <a:lnTo>
                    <a:pt x="4" y="162"/>
                  </a:lnTo>
                  <a:lnTo>
                    <a:pt x="13" y="190"/>
                  </a:lnTo>
                  <a:lnTo>
                    <a:pt x="29" y="217"/>
                  </a:lnTo>
                  <a:lnTo>
                    <a:pt x="50" y="237"/>
                  </a:lnTo>
                  <a:lnTo>
                    <a:pt x="75" y="253"/>
                  </a:lnTo>
                  <a:lnTo>
                    <a:pt x="104" y="263"/>
                  </a:lnTo>
                  <a:lnTo>
                    <a:pt x="134" y="267"/>
                  </a:lnTo>
                  <a:lnTo>
                    <a:pt x="164" y="263"/>
                  </a:lnTo>
                  <a:lnTo>
                    <a:pt x="191" y="253"/>
                  </a:lnTo>
                  <a:lnTo>
                    <a:pt x="217" y="237"/>
                  </a:lnTo>
                  <a:lnTo>
                    <a:pt x="239" y="217"/>
                  </a:lnTo>
                  <a:lnTo>
                    <a:pt x="253" y="190"/>
                  </a:lnTo>
                  <a:lnTo>
                    <a:pt x="264" y="162"/>
                  </a:lnTo>
                  <a:lnTo>
                    <a:pt x="267" y="133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H="1" flipV="1">
              <a:off x="2911320" y="3161880"/>
              <a:ext cx="2160" cy="44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2879640" y="3079800"/>
              <a:ext cx="19080" cy="4212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827080" y="3003480"/>
              <a:ext cx="31320" cy="33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 flipV="1">
              <a:off x="2752200" y="2950560"/>
              <a:ext cx="39960" cy="23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 flipV="1">
              <a:off x="2752200" y="2950560"/>
              <a:ext cx="39960" cy="234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66520" y="2929680"/>
              <a:ext cx="43920" cy="61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2"/>
                  </a:moveTo>
                  <a:lnTo>
                    <a:pt x="8" y="1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H="1">
              <a:off x="2575080" y="2925720"/>
              <a:ext cx="44280" cy="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2488680" y="2944800"/>
              <a:ext cx="42120" cy="190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5" y="2"/>
                  </a:lnTo>
                  <a:lnTo>
                    <a:pt x="0" y="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flipH="1">
              <a:off x="2421000" y="2988720"/>
              <a:ext cx="29520" cy="29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372760" y="3056760"/>
              <a:ext cx="22680" cy="3780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1" y="7"/>
                  </a:lnTo>
                  <a:lnTo>
                    <a:pt x="0" y="1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353320" y="3137040"/>
              <a:ext cx="3960" cy="4428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1" y="0"/>
                  </a:moveTo>
                  <a:lnTo>
                    <a:pt x="1" y="2"/>
                  </a:lnTo>
                  <a:lnTo>
                    <a:pt x="0" y="1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2353320" y="3225600"/>
              <a:ext cx="3960" cy="46440"/>
            </a:xfrm>
            <a:custGeom>
              <a:avLst/>
              <a:gdLst/>
              <a:ahLst/>
              <a:rect l="l" t="t" r="r" b="b"/>
              <a:pathLst>
                <a:path w="1" h="12">
                  <a:moveTo>
                    <a:pt x="0" y="0"/>
                  </a:moveTo>
                  <a:lnTo>
                    <a:pt x="1" y="11"/>
                  </a:lnTo>
                  <a:lnTo>
                    <a:pt x="1" y="1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2372760" y="3312360"/>
              <a:ext cx="18360" cy="4212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0"/>
                  </a:moveTo>
                  <a:lnTo>
                    <a:pt x="1" y="4"/>
                  </a:lnTo>
                  <a:lnTo>
                    <a:pt x="5" y="11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416680" y="3392640"/>
              <a:ext cx="33840" cy="291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488680" y="3447360"/>
              <a:ext cx="42120" cy="190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lnTo>
                    <a:pt x="5" y="3"/>
                  </a:lnTo>
                  <a:lnTo>
                    <a:pt x="11" y="5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2571120" y="3481560"/>
              <a:ext cx="46440" cy="8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662200" y="3479400"/>
              <a:ext cx="43920" cy="61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0" y="2"/>
                  </a:moveTo>
                  <a:lnTo>
                    <a:pt x="9" y="1"/>
                  </a:lnTo>
                  <a:lnTo>
                    <a:pt x="12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2748960" y="3436920"/>
              <a:ext cx="37800" cy="234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6"/>
                  </a:moveTo>
                  <a:lnTo>
                    <a:pt x="1" y="6"/>
                  </a:lnTo>
                  <a:lnTo>
                    <a:pt x="1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2824560" y="3380040"/>
              <a:ext cx="33840" cy="2952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8" y="1"/>
                  </a:lnTo>
                  <a:lnTo>
                    <a:pt x="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2877840" y="3297600"/>
              <a:ext cx="16560" cy="4212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2" y="8"/>
                  </a:lnTo>
                  <a:lnTo>
                    <a:pt x="5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flipV="1">
              <a:off x="2907000" y="3210840"/>
              <a:ext cx="6480" cy="46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586600" y="3003480"/>
              <a:ext cx="2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2913840" y="5180400"/>
              <a:ext cx="563760" cy="56448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4"/>
                  </a:moveTo>
                  <a:lnTo>
                    <a:pt x="264" y="104"/>
                  </a:lnTo>
                  <a:lnTo>
                    <a:pt x="253" y="75"/>
                  </a:lnTo>
                  <a:lnTo>
                    <a:pt x="239" y="50"/>
                  </a:lnTo>
                  <a:lnTo>
                    <a:pt x="218" y="29"/>
                  </a:lnTo>
                  <a:lnTo>
                    <a:pt x="191" y="13"/>
                  </a:lnTo>
                  <a:lnTo>
                    <a:pt x="164" y="4"/>
                  </a:lnTo>
                  <a:lnTo>
                    <a:pt x="134" y="0"/>
                  </a:lnTo>
                  <a:lnTo>
                    <a:pt x="104" y="4"/>
                  </a:lnTo>
                  <a:lnTo>
                    <a:pt x="75" y="13"/>
                  </a:lnTo>
                  <a:lnTo>
                    <a:pt x="50" y="29"/>
                  </a:lnTo>
                  <a:lnTo>
                    <a:pt x="29" y="50"/>
                  </a:lnTo>
                  <a:lnTo>
                    <a:pt x="13" y="75"/>
                  </a:lnTo>
                  <a:lnTo>
                    <a:pt x="4" y="104"/>
                  </a:lnTo>
                  <a:lnTo>
                    <a:pt x="0" y="134"/>
                  </a:lnTo>
                  <a:lnTo>
                    <a:pt x="4" y="164"/>
                  </a:lnTo>
                  <a:lnTo>
                    <a:pt x="13" y="191"/>
                  </a:lnTo>
                  <a:lnTo>
                    <a:pt x="29" y="217"/>
                  </a:lnTo>
                  <a:lnTo>
                    <a:pt x="50" y="239"/>
                  </a:lnTo>
                  <a:lnTo>
                    <a:pt x="75" y="253"/>
                  </a:lnTo>
                  <a:lnTo>
                    <a:pt x="104" y="264"/>
                  </a:lnTo>
                  <a:lnTo>
                    <a:pt x="134" y="267"/>
                  </a:lnTo>
                  <a:lnTo>
                    <a:pt x="164" y="264"/>
                  </a:lnTo>
                  <a:lnTo>
                    <a:pt x="191" y="253"/>
                  </a:lnTo>
                  <a:lnTo>
                    <a:pt x="218" y="239"/>
                  </a:lnTo>
                  <a:lnTo>
                    <a:pt x="239" y="217"/>
                  </a:lnTo>
                  <a:lnTo>
                    <a:pt x="253" y="191"/>
                  </a:lnTo>
                  <a:lnTo>
                    <a:pt x="264" y="164"/>
                  </a:lnTo>
                  <a:lnTo>
                    <a:pt x="267" y="134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041720" y="5180400"/>
              <a:ext cx="564480" cy="56448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4"/>
                  </a:moveTo>
                  <a:lnTo>
                    <a:pt x="264" y="104"/>
                  </a:lnTo>
                  <a:lnTo>
                    <a:pt x="255" y="75"/>
                  </a:lnTo>
                  <a:lnTo>
                    <a:pt x="239" y="50"/>
                  </a:lnTo>
                  <a:lnTo>
                    <a:pt x="218" y="29"/>
                  </a:lnTo>
                  <a:lnTo>
                    <a:pt x="191" y="13"/>
                  </a:lnTo>
                  <a:lnTo>
                    <a:pt x="164" y="4"/>
                  </a:lnTo>
                  <a:lnTo>
                    <a:pt x="134" y="0"/>
                  </a:lnTo>
                  <a:lnTo>
                    <a:pt x="104" y="4"/>
                  </a:lnTo>
                  <a:lnTo>
                    <a:pt x="75" y="13"/>
                  </a:lnTo>
                  <a:lnTo>
                    <a:pt x="50" y="29"/>
                  </a:lnTo>
                  <a:lnTo>
                    <a:pt x="29" y="50"/>
                  </a:lnTo>
                  <a:lnTo>
                    <a:pt x="13" y="75"/>
                  </a:lnTo>
                  <a:lnTo>
                    <a:pt x="4" y="104"/>
                  </a:lnTo>
                  <a:lnTo>
                    <a:pt x="0" y="134"/>
                  </a:lnTo>
                  <a:lnTo>
                    <a:pt x="4" y="164"/>
                  </a:lnTo>
                  <a:lnTo>
                    <a:pt x="13" y="191"/>
                  </a:lnTo>
                  <a:lnTo>
                    <a:pt x="29" y="217"/>
                  </a:lnTo>
                  <a:lnTo>
                    <a:pt x="50" y="239"/>
                  </a:lnTo>
                  <a:lnTo>
                    <a:pt x="75" y="253"/>
                  </a:lnTo>
                  <a:lnTo>
                    <a:pt x="104" y="264"/>
                  </a:lnTo>
                  <a:lnTo>
                    <a:pt x="134" y="267"/>
                  </a:lnTo>
                  <a:lnTo>
                    <a:pt x="164" y="264"/>
                  </a:lnTo>
                  <a:lnTo>
                    <a:pt x="191" y="253"/>
                  </a:lnTo>
                  <a:lnTo>
                    <a:pt x="218" y="239"/>
                  </a:lnTo>
                  <a:lnTo>
                    <a:pt x="239" y="217"/>
                  </a:lnTo>
                  <a:lnTo>
                    <a:pt x="255" y="191"/>
                  </a:lnTo>
                  <a:lnTo>
                    <a:pt x="264" y="164"/>
                  </a:lnTo>
                  <a:lnTo>
                    <a:pt x="267" y="134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172840" y="5180400"/>
              <a:ext cx="563760" cy="56448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4"/>
                  </a:moveTo>
                  <a:lnTo>
                    <a:pt x="263" y="104"/>
                  </a:lnTo>
                  <a:lnTo>
                    <a:pt x="254" y="75"/>
                  </a:lnTo>
                  <a:lnTo>
                    <a:pt x="238" y="50"/>
                  </a:lnTo>
                  <a:lnTo>
                    <a:pt x="217" y="29"/>
                  </a:lnTo>
                  <a:lnTo>
                    <a:pt x="192" y="13"/>
                  </a:lnTo>
                  <a:lnTo>
                    <a:pt x="163" y="4"/>
                  </a:lnTo>
                  <a:lnTo>
                    <a:pt x="133" y="0"/>
                  </a:lnTo>
                  <a:lnTo>
                    <a:pt x="103" y="4"/>
                  </a:lnTo>
                  <a:lnTo>
                    <a:pt x="74" y="13"/>
                  </a:lnTo>
                  <a:lnTo>
                    <a:pt x="49" y="29"/>
                  </a:lnTo>
                  <a:lnTo>
                    <a:pt x="28" y="50"/>
                  </a:lnTo>
                  <a:lnTo>
                    <a:pt x="12" y="75"/>
                  </a:lnTo>
                  <a:lnTo>
                    <a:pt x="3" y="104"/>
                  </a:lnTo>
                  <a:lnTo>
                    <a:pt x="0" y="134"/>
                  </a:lnTo>
                  <a:lnTo>
                    <a:pt x="3" y="164"/>
                  </a:lnTo>
                  <a:lnTo>
                    <a:pt x="12" y="191"/>
                  </a:lnTo>
                  <a:lnTo>
                    <a:pt x="28" y="217"/>
                  </a:lnTo>
                  <a:lnTo>
                    <a:pt x="49" y="239"/>
                  </a:lnTo>
                  <a:lnTo>
                    <a:pt x="74" y="253"/>
                  </a:lnTo>
                  <a:lnTo>
                    <a:pt x="103" y="264"/>
                  </a:lnTo>
                  <a:lnTo>
                    <a:pt x="133" y="267"/>
                  </a:lnTo>
                  <a:lnTo>
                    <a:pt x="163" y="264"/>
                  </a:lnTo>
                  <a:lnTo>
                    <a:pt x="192" y="253"/>
                  </a:lnTo>
                  <a:lnTo>
                    <a:pt x="217" y="239"/>
                  </a:lnTo>
                  <a:lnTo>
                    <a:pt x="238" y="217"/>
                  </a:lnTo>
                  <a:lnTo>
                    <a:pt x="254" y="191"/>
                  </a:lnTo>
                  <a:lnTo>
                    <a:pt x="263" y="164"/>
                  </a:lnTo>
                  <a:lnTo>
                    <a:pt x="267" y="134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301080" y="5180400"/>
              <a:ext cx="564480" cy="56448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4"/>
                  </a:moveTo>
                  <a:lnTo>
                    <a:pt x="263" y="104"/>
                  </a:lnTo>
                  <a:lnTo>
                    <a:pt x="254" y="75"/>
                  </a:lnTo>
                  <a:lnTo>
                    <a:pt x="238" y="50"/>
                  </a:lnTo>
                  <a:lnTo>
                    <a:pt x="217" y="29"/>
                  </a:lnTo>
                  <a:lnTo>
                    <a:pt x="192" y="13"/>
                  </a:lnTo>
                  <a:lnTo>
                    <a:pt x="163" y="4"/>
                  </a:lnTo>
                  <a:lnTo>
                    <a:pt x="133" y="0"/>
                  </a:lnTo>
                  <a:lnTo>
                    <a:pt x="103" y="4"/>
                  </a:lnTo>
                  <a:lnTo>
                    <a:pt x="76" y="13"/>
                  </a:lnTo>
                  <a:lnTo>
                    <a:pt x="50" y="29"/>
                  </a:lnTo>
                  <a:lnTo>
                    <a:pt x="28" y="50"/>
                  </a:lnTo>
                  <a:lnTo>
                    <a:pt x="12" y="75"/>
                  </a:lnTo>
                  <a:lnTo>
                    <a:pt x="3" y="104"/>
                  </a:lnTo>
                  <a:lnTo>
                    <a:pt x="0" y="134"/>
                  </a:lnTo>
                  <a:lnTo>
                    <a:pt x="3" y="164"/>
                  </a:lnTo>
                  <a:lnTo>
                    <a:pt x="12" y="191"/>
                  </a:lnTo>
                  <a:lnTo>
                    <a:pt x="28" y="217"/>
                  </a:lnTo>
                  <a:lnTo>
                    <a:pt x="50" y="239"/>
                  </a:lnTo>
                  <a:lnTo>
                    <a:pt x="76" y="253"/>
                  </a:lnTo>
                  <a:lnTo>
                    <a:pt x="103" y="264"/>
                  </a:lnTo>
                  <a:lnTo>
                    <a:pt x="133" y="267"/>
                  </a:lnTo>
                  <a:lnTo>
                    <a:pt x="163" y="264"/>
                  </a:lnTo>
                  <a:lnTo>
                    <a:pt x="192" y="253"/>
                  </a:lnTo>
                  <a:lnTo>
                    <a:pt x="217" y="239"/>
                  </a:lnTo>
                  <a:lnTo>
                    <a:pt x="238" y="217"/>
                  </a:lnTo>
                  <a:lnTo>
                    <a:pt x="254" y="191"/>
                  </a:lnTo>
                  <a:lnTo>
                    <a:pt x="263" y="164"/>
                  </a:lnTo>
                  <a:lnTo>
                    <a:pt x="267" y="134"/>
                  </a:lnTo>
                  <a:close/>
                </a:path>
              </a:pathLst>
            </a:custGeom>
            <a:blipFill rotWithShape="0">
              <a:blip r:embed="rId17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429680" y="5180400"/>
              <a:ext cx="564480" cy="564480"/>
            </a:xfrm>
            <a:custGeom>
              <a:avLst/>
              <a:gdLst/>
              <a:ahLst/>
              <a:rect l="l" t="t" r="r" b="b"/>
              <a:pathLst>
                <a:path w="267" h="267">
                  <a:moveTo>
                    <a:pt x="267" y="134"/>
                  </a:moveTo>
                  <a:lnTo>
                    <a:pt x="263" y="104"/>
                  </a:lnTo>
                  <a:lnTo>
                    <a:pt x="254" y="75"/>
                  </a:lnTo>
                  <a:lnTo>
                    <a:pt x="238" y="50"/>
                  </a:lnTo>
                  <a:lnTo>
                    <a:pt x="217" y="29"/>
                  </a:lnTo>
                  <a:lnTo>
                    <a:pt x="192" y="13"/>
                  </a:lnTo>
                  <a:lnTo>
                    <a:pt x="164" y="4"/>
                  </a:lnTo>
                  <a:lnTo>
                    <a:pt x="133" y="0"/>
                  </a:lnTo>
                  <a:lnTo>
                    <a:pt x="103" y="4"/>
                  </a:lnTo>
                  <a:lnTo>
                    <a:pt x="76" y="13"/>
                  </a:lnTo>
                  <a:lnTo>
                    <a:pt x="50" y="29"/>
                  </a:lnTo>
                  <a:lnTo>
                    <a:pt x="28" y="50"/>
                  </a:lnTo>
                  <a:lnTo>
                    <a:pt x="14" y="75"/>
                  </a:lnTo>
                  <a:lnTo>
                    <a:pt x="3" y="104"/>
                  </a:lnTo>
                  <a:lnTo>
                    <a:pt x="0" y="134"/>
                  </a:lnTo>
                  <a:lnTo>
                    <a:pt x="3" y="164"/>
                  </a:lnTo>
                  <a:lnTo>
                    <a:pt x="14" y="191"/>
                  </a:lnTo>
                  <a:lnTo>
                    <a:pt x="28" y="217"/>
                  </a:lnTo>
                  <a:lnTo>
                    <a:pt x="50" y="239"/>
                  </a:lnTo>
                  <a:lnTo>
                    <a:pt x="76" y="253"/>
                  </a:lnTo>
                  <a:lnTo>
                    <a:pt x="103" y="264"/>
                  </a:lnTo>
                  <a:lnTo>
                    <a:pt x="133" y="267"/>
                  </a:lnTo>
                  <a:lnTo>
                    <a:pt x="164" y="264"/>
                  </a:lnTo>
                  <a:lnTo>
                    <a:pt x="192" y="253"/>
                  </a:lnTo>
                  <a:lnTo>
                    <a:pt x="217" y="239"/>
                  </a:lnTo>
                  <a:lnTo>
                    <a:pt x="238" y="217"/>
                  </a:lnTo>
                  <a:lnTo>
                    <a:pt x="254" y="191"/>
                  </a:lnTo>
                  <a:lnTo>
                    <a:pt x="263" y="164"/>
                  </a:lnTo>
                  <a:lnTo>
                    <a:pt x="267" y="134"/>
                  </a:lnTo>
                  <a:close/>
                </a:path>
              </a:pathLst>
            </a:custGeom>
            <a:blipFill rotWithShape="0">
              <a:blip r:embed="rId18"/>
              <a:srcRect/>
              <a:tile tx="0" ty="0" sx="100000" sy="100000" algn="ctr"/>
            </a:blip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676960" y="3485880"/>
              <a:ext cx="447840" cy="57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H="1" flipV="1">
              <a:off x="2691720" y="3500280"/>
              <a:ext cx="1614240" cy="553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H="1">
              <a:off x="3162600" y="4618080"/>
              <a:ext cx="19080" cy="561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4281120" y="4618080"/>
              <a:ext cx="20880" cy="561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237440" y="4601520"/>
              <a:ext cx="454320" cy="578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075000" y="4605840"/>
              <a:ext cx="454680" cy="578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H="1">
              <a:off x="5476680" y="4618080"/>
              <a:ext cx="521640" cy="5619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613200" y="525888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728840" y="5258880"/>
              <a:ext cx="140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187080" y="41324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309560" y="413244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002640" y="413244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139880" y="41324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3198960" y="522936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304160" y="5258880"/>
              <a:ext cx="21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5432760" y="5258880"/>
              <a:ext cx="217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71480" y="4392360"/>
              <a:ext cx="141120" cy="1393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V="1">
              <a:off x="3915360" y="4425840"/>
              <a:ext cx="143640" cy="1393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H="1">
              <a:off x="3337920" y="3492000"/>
              <a:ext cx="1470600" cy="5637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4401000" y="3456000"/>
              <a:ext cx="462600" cy="5997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845240" y="3493800"/>
              <a:ext cx="1062720" cy="5619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845240" y="3493800"/>
              <a:ext cx="2144880" cy="60048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9" name=""/>
          <p:cNvSpPr/>
          <p:nvPr/>
        </p:nvSpPr>
        <p:spPr>
          <a:xfrm>
            <a:off x="5983920" y="5864400"/>
            <a:ext cx="2448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tology subclass re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her ontological rel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lication subclass rel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pings (overload subcla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5559480" y="5829480"/>
            <a:ext cx="3003480" cy="993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380880" y="7632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Implementing Mappings: Model of Application in the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385920" y="1390680"/>
            <a:ext cx="84312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l of Applic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All ontology-relevant application structures are included in the ontolog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253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mapping relation from an ontology node to nodes in the application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2536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tologists need to be closely involved with representation of models, map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697360" y="6208560"/>
            <a:ext cx="304920" cy="288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5699160" y="6404040"/>
            <a:ext cx="304920" cy="284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5697360" y="5975280"/>
            <a:ext cx="304920" cy="28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5699160" y="6627960"/>
            <a:ext cx="304920" cy="2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3366720" y="296244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w ham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297400" y="3382920"/>
            <a:ext cx="38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ammer as used in carpenter’s catalog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5197320" y="3021120"/>
            <a:ext cx="312840" cy="374400"/>
          </a:xfrm>
          <a:custGeom>
            <a:avLst/>
            <a:gdLst/>
            <a:ahLst/>
            <a:rect l="l" t="t" r="r" b="b"/>
            <a:pathLst>
              <a:path w="197" h="236">
                <a:moveTo>
                  <a:pt x="0" y="26"/>
                </a:moveTo>
                <a:cubicBezTo>
                  <a:pt x="84" y="13"/>
                  <a:pt x="169" y="0"/>
                  <a:pt x="183" y="35"/>
                </a:cubicBezTo>
                <a:cubicBezTo>
                  <a:pt x="197" y="70"/>
                  <a:pt x="139" y="153"/>
                  <a:pt x="82" y="2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F713-6D48-4415-B034-1B37463A50E9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0" name=""/>
          <p:cNvGrpSpPr/>
          <p:nvPr/>
        </p:nvGrpSpPr>
        <p:grpSpPr>
          <a:xfrm>
            <a:off x="2230560" y="3067200"/>
            <a:ext cx="5113080" cy="3259440"/>
            <a:chOff x="2230560" y="3067200"/>
            <a:chExt cx="5113080" cy="3259440"/>
          </a:xfrm>
        </p:grpSpPr>
        <p:sp>
          <p:nvSpPr>
            <p:cNvPr id="2761" name=""/>
            <p:cNvSpPr/>
            <p:nvPr/>
          </p:nvSpPr>
          <p:spPr>
            <a:xfrm>
              <a:off x="4806000" y="318780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130200" y="3311640"/>
              <a:ext cx="474480" cy="476280"/>
            </a:xfrm>
            <a:custGeom>
              <a:avLst/>
              <a:gdLst/>
              <a:ahLst/>
              <a:rect l="l" t="t" r="r" b="b"/>
              <a:pathLst>
                <a:path w="299" h="300">
                  <a:moveTo>
                    <a:pt x="299" y="150"/>
                  </a:moveTo>
                  <a:lnTo>
                    <a:pt x="295" y="116"/>
                  </a:lnTo>
                  <a:lnTo>
                    <a:pt x="283" y="86"/>
                  </a:lnTo>
                  <a:lnTo>
                    <a:pt x="267" y="56"/>
                  </a:lnTo>
                  <a:lnTo>
                    <a:pt x="243" y="32"/>
                  </a:lnTo>
                  <a:lnTo>
                    <a:pt x="214" y="14"/>
                  </a:lnTo>
                  <a:lnTo>
                    <a:pt x="184" y="4"/>
                  </a:lnTo>
                  <a:lnTo>
                    <a:pt x="150" y="0"/>
                  </a:lnTo>
                  <a:lnTo>
                    <a:pt x="116" y="4"/>
                  </a:lnTo>
                  <a:lnTo>
                    <a:pt x="84" y="14"/>
                  </a:lnTo>
                  <a:lnTo>
                    <a:pt x="56" y="32"/>
                  </a:lnTo>
                  <a:lnTo>
                    <a:pt x="32" y="56"/>
                  </a:lnTo>
                  <a:lnTo>
                    <a:pt x="14" y="86"/>
                  </a:lnTo>
                  <a:lnTo>
                    <a:pt x="4" y="116"/>
                  </a:lnTo>
                  <a:lnTo>
                    <a:pt x="0" y="150"/>
                  </a:lnTo>
                  <a:lnTo>
                    <a:pt x="4" y="184"/>
                  </a:lnTo>
                  <a:lnTo>
                    <a:pt x="14" y="216"/>
                  </a:lnTo>
                  <a:lnTo>
                    <a:pt x="32" y="244"/>
                  </a:lnTo>
                  <a:lnTo>
                    <a:pt x="56" y="268"/>
                  </a:lnTo>
                  <a:lnTo>
                    <a:pt x="84" y="286"/>
                  </a:lnTo>
                  <a:lnTo>
                    <a:pt x="116" y="296"/>
                  </a:lnTo>
                  <a:lnTo>
                    <a:pt x="150" y="300"/>
                  </a:lnTo>
                  <a:lnTo>
                    <a:pt x="184" y="296"/>
                  </a:lnTo>
                  <a:lnTo>
                    <a:pt x="214" y="286"/>
                  </a:lnTo>
                  <a:lnTo>
                    <a:pt x="243" y="268"/>
                  </a:lnTo>
                  <a:lnTo>
                    <a:pt x="267" y="244"/>
                  </a:lnTo>
                  <a:lnTo>
                    <a:pt x="283" y="216"/>
                  </a:lnTo>
                  <a:lnTo>
                    <a:pt x="295" y="184"/>
                  </a:lnTo>
                  <a:lnTo>
                    <a:pt x="299" y="150"/>
                  </a:lnTo>
                  <a:close/>
                </a:path>
              </a:pathLst>
            </a:custGeom>
            <a:solidFill>
              <a:srgbClr val="00ffff"/>
            </a:solidFill>
            <a:ln w="190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322080" y="335268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144400" y="53294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025760" y="5329440"/>
              <a:ext cx="317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089880" y="5919840"/>
              <a:ext cx="520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T,V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183560" y="59454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135320" y="3067200"/>
              <a:ext cx="474120" cy="476280"/>
            </a:xfrm>
            <a:custGeom>
              <a:avLst/>
              <a:gdLst/>
              <a:ahLst/>
              <a:rect l="l" t="t" r="r" b="b"/>
              <a:pathLst>
                <a:path w="299" h="300">
                  <a:moveTo>
                    <a:pt x="299" y="150"/>
                  </a:moveTo>
                  <a:lnTo>
                    <a:pt x="295" y="116"/>
                  </a:lnTo>
                  <a:lnTo>
                    <a:pt x="283" y="84"/>
                  </a:lnTo>
                  <a:lnTo>
                    <a:pt x="265" y="56"/>
                  </a:lnTo>
                  <a:lnTo>
                    <a:pt x="241" y="32"/>
                  </a:lnTo>
                  <a:lnTo>
                    <a:pt x="213" y="14"/>
                  </a:lnTo>
                  <a:lnTo>
                    <a:pt x="181" y="4"/>
                  </a:lnTo>
                  <a:lnTo>
                    <a:pt x="149" y="0"/>
                  </a:lnTo>
                  <a:lnTo>
                    <a:pt x="116" y="4"/>
                  </a:lnTo>
                  <a:lnTo>
                    <a:pt x="84" y="14"/>
                  </a:lnTo>
                  <a:lnTo>
                    <a:pt x="56" y="32"/>
                  </a:lnTo>
                  <a:lnTo>
                    <a:pt x="32" y="56"/>
                  </a:lnTo>
                  <a:lnTo>
                    <a:pt x="14" y="84"/>
                  </a:lnTo>
                  <a:lnTo>
                    <a:pt x="2" y="116"/>
                  </a:lnTo>
                  <a:lnTo>
                    <a:pt x="0" y="150"/>
                  </a:lnTo>
                  <a:lnTo>
                    <a:pt x="2" y="184"/>
                  </a:lnTo>
                  <a:lnTo>
                    <a:pt x="14" y="216"/>
                  </a:lnTo>
                  <a:lnTo>
                    <a:pt x="32" y="244"/>
                  </a:lnTo>
                  <a:lnTo>
                    <a:pt x="56" y="268"/>
                  </a:lnTo>
                  <a:lnTo>
                    <a:pt x="84" y="286"/>
                  </a:lnTo>
                  <a:lnTo>
                    <a:pt x="116" y="296"/>
                  </a:lnTo>
                  <a:lnTo>
                    <a:pt x="149" y="300"/>
                  </a:lnTo>
                  <a:lnTo>
                    <a:pt x="181" y="296"/>
                  </a:lnTo>
                  <a:lnTo>
                    <a:pt x="213" y="286"/>
                  </a:lnTo>
                  <a:lnTo>
                    <a:pt x="241" y="268"/>
                  </a:lnTo>
                  <a:lnTo>
                    <a:pt x="265" y="244"/>
                  </a:lnTo>
                  <a:lnTo>
                    <a:pt x="283" y="216"/>
                  </a:lnTo>
                  <a:lnTo>
                    <a:pt x="295" y="184"/>
                  </a:lnTo>
                  <a:lnTo>
                    <a:pt x="299" y="15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371480" y="310824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704680" y="4019760"/>
              <a:ext cx="475920" cy="47592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298" y="116"/>
                  </a:lnTo>
                  <a:lnTo>
                    <a:pt x="286" y="86"/>
                  </a:lnTo>
                  <a:lnTo>
                    <a:pt x="268" y="56"/>
                  </a:lnTo>
                  <a:lnTo>
                    <a:pt x="244" y="32"/>
                  </a:lnTo>
                  <a:lnTo>
                    <a:pt x="216" y="14"/>
                  </a:lnTo>
                  <a:lnTo>
                    <a:pt x="184" y="4"/>
                  </a:lnTo>
                  <a:lnTo>
                    <a:pt x="150" y="0"/>
                  </a:lnTo>
                  <a:lnTo>
                    <a:pt x="118" y="4"/>
                  </a:lnTo>
                  <a:lnTo>
                    <a:pt x="86" y="14"/>
                  </a:lnTo>
                  <a:lnTo>
                    <a:pt x="58" y="32"/>
                  </a:lnTo>
                  <a:lnTo>
                    <a:pt x="34" y="56"/>
                  </a:lnTo>
                  <a:lnTo>
                    <a:pt x="16" y="86"/>
                  </a:lnTo>
                  <a:lnTo>
                    <a:pt x="4" y="116"/>
                  </a:lnTo>
                  <a:lnTo>
                    <a:pt x="0" y="150"/>
                  </a:lnTo>
                  <a:lnTo>
                    <a:pt x="4" y="184"/>
                  </a:lnTo>
                  <a:lnTo>
                    <a:pt x="16" y="216"/>
                  </a:lnTo>
                  <a:lnTo>
                    <a:pt x="34" y="244"/>
                  </a:lnTo>
                  <a:lnTo>
                    <a:pt x="58" y="268"/>
                  </a:lnTo>
                  <a:lnTo>
                    <a:pt x="86" y="286"/>
                  </a:lnTo>
                  <a:lnTo>
                    <a:pt x="118" y="296"/>
                  </a:lnTo>
                  <a:lnTo>
                    <a:pt x="150" y="300"/>
                  </a:lnTo>
                  <a:lnTo>
                    <a:pt x="184" y="296"/>
                  </a:lnTo>
                  <a:lnTo>
                    <a:pt x="216" y="286"/>
                  </a:lnTo>
                  <a:lnTo>
                    <a:pt x="244" y="268"/>
                  </a:lnTo>
                  <a:lnTo>
                    <a:pt x="268" y="244"/>
                  </a:lnTo>
                  <a:lnTo>
                    <a:pt x="286" y="216"/>
                  </a:lnTo>
                  <a:lnTo>
                    <a:pt x="298" y="184"/>
                  </a:lnTo>
                  <a:lnTo>
                    <a:pt x="300" y="15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659040" y="4019760"/>
              <a:ext cx="475920" cy="47592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296" y="116"/>
                  </a:lnTo>
                  <a:lnTo>
                    <a:pt x="284" y="86"/>
                  </a:lnTo>
                  <a:lnTo>
                    <a:pt x="266" y="56"/>
                  </a:lnTo>
                  <a:lnTo>
                    <a:pt x="242" y="32"/>
                  </a:lnTo>
                  <a:lnTo>
                    <a:pt x="214" y="14"/>
                  </a:lnTo>
                  <a:lnTo>
                    <a:pt x="182" y="4"/>
                  </a:lnTo>
                  <a:lnTo>
                    <a:pt x="150" y="0"/>
                  </a:lnTo>
                  <a:lnTo>
                    <a:pt x="116" y="4"/>
                  </a:lnTo>
                  <a:lnTo>
                    <a:pt x="84" y="14"/>
                  </a:lnTo>
                  <a:lnTo>
                    <a:pt x="56" y="32"/>
                  </a:lnTo>
                  <a:lnTo>
                    <a:pt x="32" y="56"/>
                  </a:lnTo>
                  <a:lnTo>
                    <a:pt x="14" y="86"/>
                  </a:lnTo>
                  <a:lnTo>
                    <a:pt x="2" y="116"/>
                  </a:lnTo>
                  <a:lnTo>
                    <a:pt x="0" y="150"/>
                  </a:lnTo>
                  <a:lnTo>
                    <a:pt x="2" y="184"/>
                  </a:lnTo>
                  <a:lnTo>
                    <a:pt x="14" y="216"/>
                  </a:lnTo>
                  <a:lnTo>
                    <a:pt x="32" y="244"/>
                  </a:lnTo>
                  <a:lnTo>
                    <a:pt x="56" y="268"/>
                  </a:lnTo>
                  <a:lnTo>
                    <a:pt x="84" y="286"/>
                  </a:lnTo>
                  <a:lnTo>
                    <a:pt x="116" y="296"/>
                  </a:lnTo>
                  <a:lnTo>
                    <a:pt x="150" y="300"/>
                  </a:lnTo>
                  <a:lnTo>
                    <a:pt x="182" y="296"/>
                  </a:lnTo>
                  <a:lnTo>
                    <a:pt x="214" y="286"/>
                  </a:lnTo>
                  <a:lnTo>
                    <a:pt x="242" y="268"/>
                  </a:lnTo>
                  <a:lnTo>
                    <a:pt x="266" y="244"/>
                  </a:lnTo>
                  <a:lnTo>
                    <a:pt x="284" y="216"/>
                  </a:lnTo>
                  <a:lnTo>
                    <a:pt x="296" y="184"/>
                  </a:lnTo>
                  <a:lnTo>
                    <a:pt x="300" y="15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086080" y="4019760"/>
              <a:ext cx="474120" cy="475920"/>
            </a:xfrm>
            <a:custGeom>
              <a:avLst/>
              <a:gdLst/>
              <a:ahLst/>
              <a:rect l="l" t="t" r="r" b="b"/>
              <a:pathLst>
                <a:path w="299" h="300">
                  <a:moveTo>
                    <a:pt x="299" y="150"/>
                  </a:moveTo>
                  <a:lnTo>
                    <a:pt x="295" y="116"/>
                  </a:lnTo>
                  <a:lnTo>
                    <a:pt x="283" y="86"/>
                  </a:lnTo>
                  <a:lnTo>
                    <a:pt x="265" y="56"/>
                  </a:lnTo>
                  <a:lnTo>
                    <a:pt x="241" y="32"/>
                  </a:lnTo>
                  <a:lnTo>
                    <a:pt x="213" y="14"/>
                  </a:lnTo>
                  <a:lnTo>
                    <a:pt x="181" y="4"/>
                  </a:lnTo>
                  <a:lnTo>
                    <a:pt x="149" y="0"/>
                  </a:lnTo>
                  <a:lnTo>
                    <a:pt x="115" y="4"/>
                  </a:lnTo>
                  <a:lnTo>
                    <a:pt x="84" y="14"/>
                  </a:lnTo>
                  <a:lnTo>
                    <a:pt x="56" y="32"/>
                  </a:lnTo>
                  <a:lnTo>
                    <a:pt x="32" y="56"/>
                  </a:lnTo>
                  <a:lnTo>
                    <a:pt x="14" y="86"/>
                  </a:lnTo>
                  <a:lnTo>
                    <a:pt x="4" y="116"/>
                  </a:lnTo>
                  <a:lnTo>
                    <a:pt x="0" y="150"/>
                  </a:lnTo>
                  <a:lnTo>
                    <a:pt x="4" y="184"/>
                  </a:lnTo>
                  <a:lnTo>
                    <a:pt x="14" y="216"/>
                  </a:lnTo>
                  <a:lnTo>
                    <a:pt x="32" y="244"/>
                  </a:lnTo>
                  <a:lnTo>
                    <a:pt x="56" y="268"/>
                  </a:lnTo>
                  <a:lnTo>
                    <a:pt x="84" y="286"/>
                  </a:lnTo>
                  <a:lnTo>
                    <a:pt x="115" y="296"/>
                  </a:lnTo>
                  <a:lnTo>
                    <a:pt x="149" y="300"/>
                  </a:lnTo>
                  <a:lnTo>
                    <a:pt x="181" y="296"/>
                  </a:lnTo>
                  <a:lnTo>
                    <a:pt x="213" y="286"/>
                  </a:lnTo>
                  <a:lnTo>
                    <a:pt x="241" y="268"/>
                  </a:lnTo>
                  <a:lnTo>
                    <a:pt x="265" y="244"/>
                  </a:lnTo>
                  <a:lnTo>
                    <a:pt x="283" y="216"/>
                  </a:lnTo>
                  <a:lnTo>
                    <a:pt x="295" y="184"/>
                  </a:lnTo>
                  <a:lnTo>
                    <a:pt x="299" y="15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036840" y="4019760"/>
              <a:ext cx="474480" cy="475920"/>
            </a:xfrm>
            <a:custGeom>
              <a:avLst/>
              <a:gdLst/>
              <a:ahLst/>
              <a:rect l="l" t="t" r="r" b="b"/>
              <a:pathLst>
                <a:path w="299" h="300">
                  <a:moveTo>
                    <a:pt x="299" y="150"/>
                  </a:moveTo>
                  <a:lnTo>
                    <a:pt x="295" y="116"/>
                  </a:lnTo>
                  <a:lnTo>
                    <a:pt x="283" y="86"/>
                  </a:lnTo>
                  <a:lnTo>
                    <a:pt x="265" y="56"/>
                  </a:lnTo>
                  <a:lnTo>
                    <a:pt x="243" y="32"/>
                  </a:lnTo>
                  <a:lnTo>
                    <a:pt x="213" y="14"/>
                  </a:lnTo>
                  <a:lnTo>
                    <a:pt x="183" y="4"/>
                  </a:lnTo>
                  <a:lnTo>
                    <a:pt x="149" y="0"/>
                  </a:lnTo>
                  <a:lnTo>
                    <a:pt x="115" y="4"/>
                  </a:lnTo>
                  <a:lnTo>
                    <a:pt x="83" y="14"/>
                  </a:lnTo>
                  <a:lnTo>
                    <a:pt x="55" y="32"/>
                  </a:lnTo>
                  <a:lnTo>
                    <a:pt x="32" y="56"/>
                  </a:lnTo>
                  <a:lnTo>
                    <a:pt x="14" y="86"/>
                  </a:lnTo>
                  <a:lnTo>
                    <a:pt x="4" y="116"/>
                  </a:lnTo>
                  <a:lnTo>
                    <a:pt x="0" y="150"/>
                  </a:lnTo>
                  <a:lnTo>
                    <a:pt x="4" y="184"/>
                  </a:lnTo>
                  <a:lnTo>
                    <a:pt x="14" y="216"/>
                  </a:lnTo>
                  <a:lnTo>
                    <a:pt x="32" y="244"/>
                  </a:lnTo>
                  <a:lnTo>
                    <a:pt x="55" y="268"/>
                  </a:lnTo>
                  <a:lnTo>
                    <a:pt x="83" y="286"/>
                  </a:lnTo>
                  <a:lnTo>
                    <a:pt x="115" y="296"/>
                  </a:lnTo>
                  <a:lnTo>
                    <a:pt x="149" y="300"/>
                  </a:lnTo>
                  <a:lnTo>
                    <a:pt x="183" y="296"/>
                  </a:lnTo>
                  <a:lnTo>
                    <a:pt x="213" y="286"/>
                  </a:lnTo>
                  <a:lnTo>
                    <a:pt x="243" y="268"/>
                  </a:lnTo>
                  <a:lnTo>
                    <a:pt x="265" y="244"/>
                  </a:lnTo>
                  <a:lnTo>
                    <a:pt x="283" y="216"/>
                  </a:lnTo>
                  <a:lnTo>
                    <a:pt x="295" y="184"/>
                  </a:lnTo>
                  <a:lnTo>
                    <a:pt x="299" y="15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230560" y="3067200"/>
              <a:ext cx="474120" cy="476280"/>
            </a:xfrm>
            <a:custGeom>
              <a:avLst/>
              <a:gdLst/>
              <a:ahLst/>
              <a:rect l="l" t="t" r="r" b="b"/>
              <a:pathLst>
                <a:path w="299" h="300">
                  <a:moveTo>
                    <a:pt x="299" y="150"/>
                  </a:moveTo>
                  <a:lnTo>
                    <a:pt x="297" y="116"/>
                  </a:lnTo>
                  <a:lnTo>
                    <a:pt x="285" y="84"/>
                  </a:lnTo>
                  <a:lnTo>
                    <a:pt x="267" y="56"/>
                  </a:lnTo>
                  <a:lnTo>
                    <a:pt x="244" y="32"/>
                  </a:lnTo>
                  <a:lnTo>
                    <a:pt x="216" y="14"/>
                  </a:lnTo>
                  <a:lnTo>
                    <a:pt x="184" y="4"/>
                  </a:lnTo>
                  <a:lnTo>
                    <a:pt x="150" y="0"/>
                  </a:lnTo>
                  <a:lnTo>
                    <a:pt x="118" y="4"/>
                  </a:lnTo>
                  <a:lnTo>
                    <a:pt x="86" y="14"/>
                  </a:lnTo>
                  <a:lnTo>
                    <a:pt x="58" y="32"/>
                  </a:lnTo>
                  <a:lnTo>
                    <a:pt x="34" y="56"/>
                  </a:lnTo>
                  <a:lnTo>
                    <a:pt x="16" y="84"/>
                  </a:lnTo>
                  <a:lnTo>
                    <a:pt x="4" y="116"/>
                  </a:lnTo>
                  <a:lnTo>
                    <a:pt x="0" y="150"/>
                  </a:lnTo>
                  <a:lnTo>
                    <a:pt x="4" y="184"/>
                  </a:lnTo>
                  <a:lnTo>
                    <a:pt x="16" y="216"/>
                  </a:lnTo>
                  <a:lnTo>
                    <a:pt x="34" y="244"/>
                  </a:lnTo>
                  <a:lnTo>
                    <a:pt x="58" y="268"/>
                  </a:lnTo>
                  <a:lnTo>
                    <a:pt x="86" y="286"/>
                  </a:lnTo>
                  <a:lnTo>
                    <a:pt x="118" y="296"/>
                  </a:lnTo>
                  <a:lnTo>
                    <a:pt x="150" y="300"/>
                  </a:lnTo>
                  <a:lnTo>
                    <a:pt x="184" y="296"/>
                  </a:lnTo>
                  <a:lnTo>
                    <a:pt x="216" y="286"/>
                  </a:lnTo>
                  <a:lnTo>
                    <a:pt x="244" y="268"/>
                  </a:lnTo>
                  <a:lnTo>
                    <a:pt x="267" y="244"/>
                  </a:lnTo>
                  <a:lnTo>
                    <a:pt x="285" y="216"/>
                  </a:lnTo>
                  <a:lnTo>
                    <a:pt x="297" y="184"/>
                  </a:lnTo>
                  <a:lnTo>
                    <a:pt x="299" y="15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 flipH="1" flipV="1">
              <a:off x="2701440" y="3267000"/>
              <a:ext cx="25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679480" y="3193920"/>
              <a:ext cx="15480" cy="352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631960" y="3133800"/>
              <a:ext cx="24840" cy="284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9"/>
                  </a:move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 flipV="1">
              <a:off x="2572920" y="3088800"/>
              <a:ext cx="3168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500200" y="3070440"/>
              <a:ext cx="37440" cy="612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2" y="2"/>
                  </a:moveTo>
                  <a:lnTo>
                    <a:pt x="7" y="1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H="1">
              <a:off x="2423520" y="3067200"/>
              <a:ext cx="378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350800" y="3083040"/>
              <a:ext cx="34560" cy="158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11" y="0"/>
                  </a:moveTo>
                  <a:lnTo>
                    <a:pt x="5" y="2"/>
                  </a:ln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>
              <a:off x="2293560" y="3121200"/>
              <a:ext cx="25200" cy="2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252520" y="3178080"/>
              <a:ext cx="18720" cy="320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0"/>
                  </a:moveTo>
                  <a:lnTo>
                    <a:pt x="1" y="7"/>
                  </a:lnTo>
                  <a:lnTo>
                    <a:pt x="0" y="1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233440" y="3245040"/>
              <a:ext cx="5760" cy="3780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2" y="0"/>
                  </a:moveTo>
                  <a:lnTo>
                    <a:pt x="1" y="2"/>
                  </a:lnTo>
                  <a:lnTo>
                    <a:pt x="0" y="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233440" y="3321000"/>
              <a:ext cx="25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233440" y="3321000"/>
              <a:ext cx="25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249280" y="3394080"/>
              <a:ext cx="18720" cy="3492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290320" y="3460680"/>
              <a:ext cx="25200" cy="25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347560" y="3508560"/>
              <a:ext cx="34560" cy="1584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lnTo>
                    <a:pt x="6" y="4"/>
                  </a:lnTo>
                  <a:lnTo>
                    <a:pt x="11" y="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417400" y="3537000"/>
              <a:ext cx="378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493720" y="3533760"/>
              <a:ext cx="37800" cy="648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0" y="2"/>
                  </a:moveTo>
                  <a:lnTo>
                    <a:pt x="9" y="1"/>
                  </a:lnTo>
                  <a:lnTo>
                    <a:pt x="1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566800" y="3505320"/>
              <a:ext cx="31320" cy="1584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5"/>
                  </a:moveTo>
                  <a:lnTo>
                    <a:pt x="2" y="5"/>
                  </a:lnTo>
                  <a:lnTo>
                    <a:pt x="1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2625480" y="3457800"/>
              <a:ext cx="24840" cy="2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673000" y="3390840"/>
              <a:ext cx="15480" cy="3492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0" y="11"/>
                  </a:moveTo>
                  <a:lnTo>
                    <a:pt x="3" y="6"/>
                  </a:lnTo>
                  <a:lnTo>
                    <a:pt x="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2701800" y="3317760"/>
              <a:ext cx="25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385720" y="3133800"/>
              <a:ext cx="2995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698560" y="5526000"/>
              <a:ext cx="47592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298" y="118"/>
                  </a:lnTo>
                  <a:lnTo>
                    <a:pt x="286" y="86"/>
                  </a:lnTo>
                  <a:lnTo>
                    <a:pt x="268" y="56"/>
                  </a:lnTo>
                  <a:lnTo>
                    <a:pt x="244" y="34"/>
                  </a:lnTo>
                  <a:lnTo>
                    <a:pt x="216" y="16"/>
                  </a:lnTo>
                  <a:lnTo>
                    <a:pt x="184" y="4"/>
                  </a:lnTo>
                  <a:lnTo>
                    <a:pt x="150" y="0"/>
                  </a:lnTo>
                  <a:lnTo>
                    <a:pt x="118" y="4"/>
                  </a:lnTo>
                  <a:lnTo>
                    <a:pt x="86" y="16"/>
                  </a:lnTo>
                  <a:lnTo>
                    <a:pt x="58" y="34"/>
                  </a:lnTo>
                  <a:lnTo>
                    <a:pt x="34" y="56"/>
                  </a:lnTo>
                  <a:lnTo>
                    <a:pt x="16" y="86"/>
                  </a:lnTo>
                  <a:lnTo>
                    <a:pt x="4" y="118"/>
                  </a:lnTo>
                  <a:lnTo>
                    <a:pt x="0" y="150"/>
                  </a:lnTo>
                  <a:lnTo>
                    <a:pt x="4" y="184"/>
                  </a:lnTo>
                  <a:lnTo>
                    <a:pt x="16" y="216"/>
                  </a:lnTo>
                  <a:lnTo>
                    <a:pt x="34" y="244"/>
                  </a:lnTo>
                  <a:lnTo>
                    <a:pt x="58" y="268"/>
                  </a:lnTo>
                  <a:lnTo>
                    <a:pt x="86" y="286"/>
                  </a:lnTo>
                  <a:lnTo>
                    <a:pt x="118" y="296"/>
                  </a:lnTo>
                  <a:lnTo>
                    <a:pt x="150" y="300"/>
                  </a:lnTo>
                  <a:lnTo>
                    <a:pt x="184" y="296"/>
                  </a:lnTo>
                  <a:lnTo>
                    <a:pt x="216" y="286"/>
                  </a:lnTo>
                  <a:lnTo>
                    <a:pt x="244" y="268"/>
                  </a:lnTo>
                  <a:lnTo>
                    <a:pt x="268" y="244"/>
                  </a:lnTo>
                  <a:lnTo>
                    <a:pt x="286" y="216"/>
                  </a:lnTo>
                  <a:lnTo>
                    <a:pt x="298" y="184"/>
                  </a:lnTo>
                  <a:lnTo>
                    <a:pt x="300" y="15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649320" y="5526000"/>
              <a:ext cx="479160" cy="476280"/>
            </a:xfrm>
            <a:custGeom>
              <a:avLst/>
              <a:gdLst/>
              <a:ahLst/>
              <a:rect l="l" t="t" r="r" b="b"/>
              <a:pathLst>
                <a:path w="302" h="300">
                  <a:moveTo>
                    <a:pt x="302" y="150"/>
                  </a:moveTo>
                  <a:lnTo>
                    <a:pt x="298" y="118"/>
                  </a:lnTo>
                  <a:lnTo>
                    <a:pt x="286" y="86"/>
                  </a:lnTo>
                  <a:lnTo>
                    <a:pt x="268" y="56"/>
                  </a:lnTo>
                  <a:lnTo>
                    <a:pt x="244" y="34"/>
                  </a:lnTo>
                  <a:lnTo>
                    <a:pt x="216" y="16"/>
                  </a:lnTo>
                  <a:lnTo>
                    <a:pt x="184" y="4"/>
                  </a:lnTo>
                  <a:lnTo>
                    <a:pt x="150" y="0"/>
                  </a:lnTo>
                  <a:lnTo>
                    <a:pt x="118" y="4"/>
                  </a:lnTo>
                  <a:lnTo>
                    <a:pt x="86" y="16"/>
                  </a:lnTo>
                  <a:lnTo>
                    <a:pt x="58" y="34"/>
                  </a:lnTo>
                  <a:lnTo>
                    <a:pt x="34" y="56"/>
                  </a:lnTo>
                  <a:lnTo>
                    <a:pt x="16" y="86"/>
                  </a:lnTo>
                  <a:lnTo>
                    <a:pt x="4" y="118"/>
                  </a:lnTo>
                  <a:lnTo>
                    <a:pt x="0" y="150"/>
                  </a:lnTo>
                  <a:lnTo>
                    <a:pt x="4" y="184"/>
                  </a:lnTo>
                  <a:lnTo>
                    <a:pt x="16" y="216"/>
                  </a:lnTo>
                  <a:lnTo>
                    <a:pt x="34" y="244"/>
                  </a:lnTo>
                  <a:lnTo>
                    <a:pt x="58" y="268"/>
                  </a:lnTo>
                  <a:lnTo>
                    <a:pt x="86" y="286"/>
                  </a:lnTo>
                  <a:lnTo>
                    <a:pt x="118" y="296"/>
                  </a:lnTo>
                  <a:lnTo>
                    <a:pt x="150" y="300"/>
                  </a:lnTo>
                  <a:lnTo>
                    <a:pt x="184" y="296"/>
                  </a:lnTo>
                  <a:lnTo>
                    <a:pt x="216" y="286"/>
                  </a:lnTo>
                  <a:lnTo>
                    <a:pt x="244" y="268"/>
                  </a:lnTo>
                  <a:lnTo>
                    <a:pt x="268" y="244"/>
                  </a:lnTo>
                  <a:lnTo>
                    <a:pt x="286" y="216"/>
                  </a:lnTo>
                  <a:lnTo>
                    <a:pt x="298" y="184"/>
                  </a:lnTo>
                  <a:lnTo>
                    <a:pt x="302" y="15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609800" y="4970520"/>
              <a:ext cx="47592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296" y="116"/>
                  </a:lnTo>
                  <a:lnTo>
                    <a:pt x="284" y="86"/>
                  </a:lnTo>
                  <a:lnTo>
                    <a:pt x="266" y="56"/>
                  </a:lnTo>
                  <a:lnTo>
                    <a:pt x="242" y="34"/>
                  </a:lnTo>
                  <a:lnTo>
                    <a:pt x="214" y="16"/>
                  </a:lnTo>
                  <a:lnTo>
                    <a:pt x="182" y="4"/>
                  </a:lnTo>
                  <a:lnTo>
                    <a:pt x="150" y="0"/>
                  </a:lnTo>
                  <a:lnTo>
                    <a:pt x="116" y="4"/>
                  </a:lnTo>
                  <a:lnTo>
                    <a:pt x="84" y="16"/>
                  </a:lnTo>
                  <a:lnTo>
                    <a:pt x="56" y="34"/>
                  </a:lnTo>
                  <a:lnTo>
                    <a:pt x="32" y="56"/>
                  </a:lnTo>
                  <a:lnTo>
                    <a:pt x="14" y="86"/>
                  </a:lnTo>
                  <a:lnTo>
                    <a:pt x="4" y="116"/>
                  </a:lnTo>
                  <a:lnTo>
                    <a:pt x="0" y="150"/>
                  </a:lnTo>
                  <a:lnTo>
                    <a:pt x="4" y="184"/>
                  </a:lnTo>
                  <a:lnTo>
                    <a:pt x="14" y="216"/>
                  </a:lnTo>
                  <a:lnTo>
                    <a:pt x="32" y="244"/>
                  </a:lnTo>
                  <a:lnTo>
                    <a:pt x="56" y="268"/>
                  </a:lnTo>
                  <a:lnTo>
                    <a:pt x="84" y="286"/>
                  </a:lnTo>
                  <a:lnTo>
                    <a:pt x="116" y="296"/>
                  </a:lnTo>
                  <a:lnTo>
                    <a:pt x="150" y="300"/>
                  </a:lnTo>
                  <a:lnTo>
                    <a:pt x="182" y="296"/>
                  </a:lnTo>
                  <a:lnTo>
                    <a:pt x="214" y="286"/>
                  </a:lnTo>
                  <a:lnTo>
                    <a:pt x="242" y="268"/>
                  </a:lnTo>
                  <a:lnTo>
                    <a:pt x="266" y="244"/>
                  </a:lnTo>
                  <a:lnTo>
                    <a:pt x="284" y="216"/>
                  </a:lnTo>
                  <a:lnTo>
                    <a:pt x="296" y="184"/>
                  </a:lnTo>
                  <a:lnTo>
                    <a:pt x="300" y="15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5560560" y="4970520"/>
              <a:ext cx="47592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296" y="116"/>
                  </a:lnTo>
                  <a:lnTo>
                    <a:pt x="284" y="86"/>
                  </a:lnTo>
                  <a:lnTo>
                    <a:pt x="266" y="56"/>
                  </a:lnTo>
                  <a:lnTo>
                    <a:pt x="244" y="34"/>
                  </a:lnTo>
                  <a:lnTo>
                    <a:pt x="214" y="16"/>
                  </a:lnTo>
                  <a:lnTo>
                    <a:pt x="182" y="4"/>
                  </a:lnTo>
                  <a:lnTo>
                    <a:pt x="150" y="0"/>
                  </a:lnTo>
                  <a:lnTo>
                    <a:pt x="116" y="4"/>
                  </a:lnTo>
                  <a:lnTo>
                    <a:pt x="84" y="16"/>
                  </a:lnTo>
                  <a:lnTo>
                    <a:pt x="56" y="34"/>
                  </a:lnTo>
                  <a:lnTo>
                    <a:pt x="32" y="56"/>
                  </a:lnTo>
                  <a:lnTo>
                    <a:pt x="14" y="86"/>
                  </a:lnTo>
                  <a:lnTo>
                    <a:pt x="4" y="116"/>
                  </a:lnTo>
                  <a:lnTo>
                    <a:pt x="0" y="150"/>
                  </a:lnTo>
                  <a:lnTo>
                    <a:pt x="4" y="184"/>
                  </a:lnTo>
                  <a:lnTo>
                    <a:pt x="14" y="216"/>
                  </a:lnTo>
                  <a:lnTo>
                    <a:pt x="32" y="244"/>
                  </a:lnTo>
                  <a:lnTo>
                    <a:pt x="56" y="268"/>
                  </a:lnTo>
                  <a:lnTo>
                    <a:pt x="84" y="286"/>
                  </a:lnTo>
                  <a:lnTo>
                    <a:pt x="116" y="296"/>
                  </a:lnTo>
                  <a:lnTo>
                    <a:pt x="150" y="300"/>
                  </a:lnTo>
                  <a:lnTo>
                    <a:pt x="182" y="296"/>
                  </a:lnTo>
                  <a:lnTo>
                    <a:pt x="214" y="286"/>
                  </a:lnTo>
                  <a:lnTo>
                    <a:pt x="244" y="268"/>
                  </a:lnTo>
                  <a:lnTo>
                    <a:pt x="266" y="244"/>
                  </a:lnTo>
                  <a:lnTo>
                    <a:pt x="284" y="216"/>
                  </a:lnTo>
                  <a:lnTo>
                    <a:pt x="296" y="184"/>
                  </a:lnTo>
                  <a:lnTo>
                    <a:pt x="300" y="15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511680" y="4970520"/>
              <a:ext cx="475920" cy="476280"/>
            </a:xfrm>
            <a:custGeom>
              <a:avLst/>
              <a:gdLst/>
              <a:ahLst/>
              <a:rect l="l" t="t" r="r" b="b"/>
              <a:pathLst>
                <a:path w="300" h="300">
                  <a:moveTo>
                    <a:pt x="300" y="150"/>
                  </a:moveTo>
                  <a:lnTo>
                    <a:pt x="296" y="116"/>
                  </a:lnTo>
                  <a:lnTo>
                    <a:pt x="284" y="86"/>
                  </a:lnTo>
                  <a:lnTo>
                    <a:pt x="268" y="56"/>
                  </a:lnTo>
                  <a:lnTo>
                    <a:pt x="244" y="34"/>
                  </a:lnTo>
                  <a:lnTo>
                    <a:pt x="214" y="16"/>
                  </a:lnTo>
                  <a:lnTo>
                    <a:pt x="184" y="4"/>
                  </a:lnTo>
                  <a:lnTo>
                    <a:pt x="150" y="0"/>
                  </a:lnTo>
                  <a:lnTo>
                    <a:pt x="116" y="4"/>
                  </a:lnTo>
                  <a:lnTo>
                    <a:pt x="84" y="16"/>
                  </a:lnTo>
                  <a:lnTo>
                    <a:pt x="56" y="34"/>
                  </a:lnTo>
                  <a:lnTo>
                    <a:pt x="32" y="56"/>
                  </a:lnTo>
                  <a:lnTo>
                    <a:pt x="14" y="86"/>
                  </a:lnTo>
                  <a:lnTo>
                    <a:pt x="4" y="116"/>
                  </a:lnTo>
                  <a:lnTo>
                    <a:pt x="0" y="150"/>
                  </a:lnTo>
                  <a:lnTo>
                    <a:pt x="4" y="184"/>
                  </a:lnTo>
                  <a:lnTo>
                    <a:pt x="14" y="216"/>
                  </a:lnTo>
                  <a:lnTo>
                    <a:pt x="32" y="244"/>
                  </a:lnTo>
                  <a:lnTo>
                    <a:pt x="56" y="268"/>
                  </a:lnTo>
                  <a:lnTo>
                    <a:pt x="84" y="286"/>
                  </a:lnTo>
                  <a:lnTo>
                    <a:pt x="116" y="296"/>
                  </a:lnTo>
                  <a:lnTo>
                    <a:pt x="150" y="300"/>
                  </a:lnTo>
                  <a:lnTo>
                    <a:pt x="184" y="296"/>
                  </a:lnTo>
                  <a:lnTo>
                    <a:pt x="214" y="286"/>
                  </a:lnTo>
                  <a:lnTo>
                    <a:pt x="244" y="268"/>
                  </a:lnTo>
                  <a:lnTo>
                    <a:pt x="268" y="244"/>
                  </a:lnTo>
                  <a:lnTo>
                    <a:pt x="284" y="216"/>
                  </a:lnTo>
                  <a:lnTo>
                    <a:pt x="296" y="184"/>
                  </a:lnTo>
                  <a:lnTo>
                    <a:pt x="300" y="15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 flipV="1">
              <a:off x="4489200" y="3593880"/>
              <a:ext cx="56880" cy="28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509560" y="3540240"/>
              <a:ext cx="372600" cy="48888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 flipV="1">
              <a:off x="2518560" y="3556080"/>
              <a:ext cx="1361880" cy="46368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933280" y="4495680"/>
              <a:ext cx="9360" cy="10051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874680" y="4495680"/>
              <a:ext cx="21960" cy="100512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349680" y="4483080"/>
              <a:ext cx="383760" cy="48744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370120" y="4486320"/>
              <a:ext cx="383760" cy="48744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4863600" y="4495680"/>
              <a:ext cx="442440" cy="474840"/>
            </a:xfrm>
            <a:prstGeom prst="line">
              <a:avLst/>
            </a:prstGeom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803200" y="5040360"/>
              <a:ext cx="12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738120" y="5040360"/>
              <a:ext cx="159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905560" y="40863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847320" y="408636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277960" y="4086360"/>
              <a:ext cx="2293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233040" y="4086360"/>
              <a:ext cx="212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2907720" y="5567400"/>
              <a:ext cx="194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3833640" y="5595840"/>
              <a:ext cx="247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89080" y="5040360"/>
              <a:ext cx="247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73360" y="3587760"/>
              <a:ext cx="15480" cy="604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501800" y="3711600"/>
              <a:ext cx="15480" cy="604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533480" y="3832200"/>
              <a:ext cx="12600" cy="637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562280" y="3956040"/>
              <a:ext cx="15480" cy="604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590720" y="4079880"/>
              <a:ext cx="15480" cy="604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622400" y="4200480"/>
              <a:ext cx="15480" cy="604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651200" y="4324320"/>
              <a:ext cx="15480" cy="604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682880" y="4444920"/>
              <a:ext cx="12240" cy="637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711320" y="4568760"/>
              <a:ext cx="15480" cy="604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40120" y="4692600"/>
              <a:ext cx="15480" cy="586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71800" y="4811760"/>
              <a:ext cx="1224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800240" y="4935600"/>
              <a:ext cx="9360" cy="381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403520" y="3587760"/>
              <a:ext cx="190080" cy="117360"/>
            </a:xfrm>
            <a:custGeom>
              <a:avLst/>
              <a:gdLst/>
              <a:ahLst/>
              <a:rect l="l" t="t" r="r" b="b"/>
              <a:pathLst>
                <a:path w="120" h="74">
                  <a:moveTo>
                    <a:pt x="120" y="44"/>
                  </a:moveTo>
                  <a:lnTo>
                    <a:pt x="44" y="0"/>
                  </a:lnTo>
                  <a:lnTo>
                    <a:pt x="0" y="74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689360" y="4856040"/>
              <a:ext cx="192960" cy="11772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0" y="28"/>
                  </a:moveTo>
                  <a:lnTo>
                    <a:pt x="76" y="74"/>
                  </a:lnTo>
                  <a:lnTo>
                    <a:pt x="122" y="0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362040" y="3841920"/>
              <a:ext cx="442440" cy="1965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H="1" flipV="1">
              <a:off x="3706200" y="5538960"/>
              <a:ext cx="900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H="1" flipV="1">
              <a:off x="3680640" y="5411880"/>
              <a:ext cx="1260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H="1" flipV="1">
              <a:off x="3659040" y="5284800"/>
              <a:ext cx="1224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H="1" flipV="1">
              <a:off x="3636720" y="5157360"/>
              <a:ext cx="12240" cy="637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 flipV="1">
              <a:off x="3614400" y="5031000"/>
              <a:ext cx="1224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H="1" flipV="1">
              <a:off x="3591720" y="4903920"/>
              <a:ext cx="1260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H="1" flipV="1">
              <a:off x="3570120" y="4776840"/>
              <a:ext cx="1224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 flipH="1" flipV="1">
              <a:off x="3547800" y="4651560"/>
              <a:ext cx="1224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H="1" flipV="1">
              <a:off x="3525480" y="4524480"/>
              <a:ext cx="1224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H="1" flipV="1">
              <a:off x="3503160" y="4397400"/>
              <a:ext cx="936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H="1" flipV="1">
              <a:off x="3482640" y="4269960"/>
              <a:ext cx="9360" cy="637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 flipV="1">
              <a:off x="3460320" y="4143600"/>
              <a:ext cx="936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 flipV="1">
              <a:off x="3438000" y="4016520"/>
              <a:ext cx="900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 flipV="1">
              <a:off x="3415680" y="3889440"/>
              <a:ext cx="900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3601800" y="5488200"/>
              <a:ext cx="193320" cy="114120"/>
            </a:xfrm>
            <a:custGeom>
              <a:avLst/>
              <a:gdLst/>
              <a:ahLst/>
              <a:rect l="l" t="t" r="r" b="b"/>
              <a:pathLst>
                <a:path w="122" h="72">
                  <a:moveTo>
                    <a:pt x="0" y="22"/>
                  </a:moveTo>
                  <a:lnTo>
                    <a:pt x="72" y="72"/>
                  </a:lnTo>
                  <a:lnTo>
                    <a:pt x="122" y="0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3330360" y="3861000"/>
              <a:ext cx="191520" cy="11088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21" y="50"/>
                  </a:moveTo>
                  <a:lnTo>
                    <a:pt x="50" y="0"/>
                  </a:lnTo>
                  <a:lnTo>
                    <a:pt x="0" y="70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952360" y="5462640"/>
              <a:ext cx="1260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V="1">
              <a:off x="2977920" y="5338800"/>
              <a:ext cx="15480" cy="604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V="1">
              <a:off x="3006360" y="5211360"/>
              <a:ext cx="12240" cy="637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3031920" y="5087880"/>
              <a:ext cx="15480" cy="604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V="1">
              <a:off x="3060360" y="4961160"/>
              <a:ext cx="1224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V="1">
              <a:off x="3085920" y="4834080"/>
              <a:ext cx="1224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V="1">
              <a:off x="3114360" y="4711680"/>
              <a:ext cx="12240" cy="61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3139920" y="4584240"/>
              <a:ext cx="12240" cy="637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flipV="1">
              <a:off x="3165120" y="4460760"/>
              <a:ext cx="15480" cy="604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V="1">
              <a:off x="3193920" y="4334040"/>
              <a:ext cx="1224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3219120" y="4209840"/>
              <a:ext cx="15480" cy="601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3247560" y="4083120"/>
              <a:ext cx="12600" cy="633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V="1">
              <a:off x="3273120" y="3955680"/>
              <a:ext cx="12240" cy="637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V="1">
              <a:off x="3301560" y="3831840"/>
              <a:ext cx="12600" cy="637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2876400" y="5408640"/>
              <a:ext cx="190080" cy="117360"/>
            </a:xfrm>
            <a:custGeom>
              <a:avLst/>
              <a:gdLst/>
              <a:ahLst/>
              <a:rect l="l" t="t" r="r" b="b"/>
              <a:pathLst>
                <a:path w="120" h="74">
                  <a:moveTo>
                    <a:pt x="0" y="0"/>
                  </a:moveTo>
                  <a:lnTo>
                    <a:pt x="48" y="74"/>
                  </a:lnTo>
                  <a:lnTo>
                    <a:pt x="120" y="28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209760" y="3784680"/>
              <a:ext cx="190080" cy="117360"/>
            </a:xfrm>
            <a:custGeom>
              <a:avLst/>
              <a:gdLst/>
              <a:ahLst/>
              <a:rect l="l" t="t" r="r" b="b"/>
              <a:pathLst>
                <a:path w="120" h="74">
                  <a:moveTo>
                    <a:pt x="120" y="74"/>
                  </a:moveTo>
                  <a:lnTo>
                    <a:pt x="72" y="0"/>
                  </a:lnTo>
                  <a:lnTo>
                    <a:pt x="0" y="48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549320" y="359100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654080" y="366408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762080" y="3733920"/>
              <a:ext cx="5040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863960" y="380376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968720" y="387684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076360" y="3946680"/>
              <a:ext cx="50760" cy="381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181480" y="4019760"/>
              <a:ext cx="5328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284440" y="408960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389200" y="416232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497200" y="4232160"/>
              <a:ext cx="50400" cy="381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5601960" y="430524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706720" y="4375080"/>
              <a:ext cx="5040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811480" y="4444920"/>
              <a:ext cx="50400" cy="3816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916240" y="451800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021000" y="459108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127560" y="4660920"/>
              <a:ext cx="5040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229080" y="472932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333840" y="480240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441840" y="4872240"/>
              <a:ext cx="5040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543360" y="4942080"/>
              <a:ext cx="53640" cy="3492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549320" y="3565440"/>
              <a:ext cx="136440" cy="162000"/>
            </a:xfrm>
            <a:custGeom>
              <a:avLst/>
              <a:gdLst/>
              <a:ahLst/>
              <a:rect l="l" t="t" r="r" b="b"/>
              <a:pathLst>
                <a:path w="86" h="102">
                  <a:moveTo>
                    <a:pt x="86" y="0"/>
                  </a:moveTo>
                  <a:lnTo>
                    <a:pt x="0" y="16"/>
                  </a:lnTo>
                  <a:lnTo>
                    <a:pt x="18" y="102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495840" y="4865760"/>
              <a:ext cx="136080" cy="162000"/>
            </a:xfrm>
            <a:custGeom>
              <a:avLst/>
              <a:gdLst/>
              <a:ahLst/>
              <a:rect l="l" t="t" r="r" b="b"/>
              <a:pathLst>
                <a:path w="86" h="102">
                  <a:moveTo>
                    <a:pt x="0" y="102"/>
                  </a:moveTo>
                  <a:lnTo>
                    <a:pt x="86" y="86"/>
                  </a:lnTo>
                  <a:lnTo>
                    <a:pt x="68" y="0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 flipV="1">
              <a:off x="3557160" y="3390840"/>
              <a:ext cx="60120" cy="1584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 flipV="1">
              <a:off x="3678120" y="3355560"/>
              <a:ext cx="59760" cy="190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V="1">
              <a:off x="3798720" y="3324240"/>
              <a:ext cx="59760" cy="1584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flipV="1">
              <a:off x="3919320" y="3292560"/>
              <a:ext cx="59760" cy="1584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4039920" y="3257280"/>
              <a:ext cx="60120" cy="19080"/>
            </a:xfrm>
            <a:prstGeom prst="line">
              <a:avLst/>
            </a:prstGeom>
            <a:ln w="316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557160" y="3286080"/>
              <a:ext cx="120600" cy="190440"/>
            </a:xfrm>
            <a:custGeom>
              <a:avLst/>
              <a:gdLst/>
              <a:ahLst/>
              <a:rect l="l" t="t" r="r" b="b"/>
              <a:pathLst>
                <a:path w="76" h="120">
                  <a:moveTo>
                    <a:pt x="44" y="0"/>
                  </a:moveTo>
                  <a:lnTo>
                    <a:pt x="0" y="76"/>
                  </a:lnTo>
                  <a:lnTo>
                    <a:pt x="76" y="120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020840" y="3178080"/>
              <a:ext cx="120240" cy="190800"/>
            </a:xfrm>
            <a:custGeom>
              <a:avLst/>
              <a:gdLst/>
              <a:ahLst/>
              <a:rect l="l" t="t" r="r" b="b"/>
              <a:pathLst>
                <a:path w="76" h="120">
                  <a:moveTo>
                    <a:pt x="32" y="120"/>
                  </a:moveTo>
                  <a:lnTo>
                    <a:pt x="76" y="44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>
              <a:off x="3028320" y="3500640"/>
              <a:ext cx="1233000" cy="5508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H="1">
              <a:off x="3957480" y="3543480"/>
              <a:ext cx="347040" cy="4791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406760" y="3543480"/>
              <a:ext cx="739440" cy="5666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4493880" y="3456000"/>
              <a:ext cx="1625400" cy="62388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3800" y="6072120"/>
            <a:ext cx="3469320" cy="739800"/>
            <a:chOff x="5473800" y="6072120"/>
            <a:chExt cx="3469320" cy="739800"/>
          </a:xfrm>
        </p:grpSpPr>
        <p:sp>
          <p:nvSpPr>
            <p:cNvPr id="2900" name=""/>
            <p:cNvSpPr/>
            <p:nvPr/>
          </p:nvSpPr>
          <p:spPr>
            <a:xfrm>
              <a:off x="5895720" y="6078240"/>
              <a:ext cx="3047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ntology subclass re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ther ontological rel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pplication specific mapping re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611680" y="6437160"/>
              <a:ext cx="304920" cy="284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613480" y="6632280"/>
              <a:ext cx="304920" cy="2880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611680" y="6203880"/>
              <a:ext cx="304920" cy="28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473800" y="6072120"/>
              <a:ext cx="3395520" cy="7398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5" name=""/>
          <p:cNvSpPr/>
          <p:nvPr/>
        </p:nvSpPr>
        <p:spPr>
          <a:xfrm>
            <a:off x="380880" y="7632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Implementing Mappings: Mapping an Application in the Ont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372960" y="1417680"/>
            <a:ext cx="852012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Mapped within the Ontology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application-specific mapping relation relates nodes in the ontology to their use in an ap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35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tologists need to be closely involved with representation of models, mapp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C215-5EBB-4C80-A4B6-3A9BF103CD6E}" type="slidenum">
              <a:t>19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8560" y="144288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al Caveat: “How I would do thing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ature of B2B E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tology Requirements for B2B E-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s and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app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spcBef>
                <a:spcPts val="7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6017-5692-4D1A-AFFC-EEB3E1445EA8}" type="slidenum">
              <a:t>2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Times New Roman"/>
              </a:rPr>
              <a:t>Context &amp; Mapping: Expressing the Same Concept in Different Contexts</a:t>
            </a: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product” ontology of one industry may overlap with that of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lass in one ontology may conceptually occur in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relationship between different classes in different ontologies that actually represent the same concept in different contex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everal classes for a single concept violates reusability principle of “represent o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Class “Word Processors” representing concep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ord 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n 3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all but one class “Word Processor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spcBef>
                <a:spcPts val="49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CE10-1D99-43BB-9815-ECB3682E5C40}" type="slidenum">
              <a:t>20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Cloud"/>
          <p:cNvSpPr/>
          <p:nvPr/>
        </p:nvSpPr>
        <p:spPr>
          <a:xfrm>
            <a:off x="442800" y="1512720"/>
            <a:ext cx="3810240" cy="2057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olog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Cloud"/>
          <p:cNvSpPr/>
          <p:nvPr/>
        </p:nvSpPr>
        <p:spPr>
          <a:xfrm>
            <a:off x="5243400" y="1665360"/>
            <a:ext cx="2438640" cy="1981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ology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11" name=""/>
          <p:cNvCxnSpPr>
            <a:endCxn id="2912" idx="4"/>
          </p:cNvCxnSpPr>
          <p:nvPr/>
        </p:nvCxnSpPr>
        <p:spPr>
          <a:xfrm>
            <a:off x="3798360" y="2427120"/>
            <a:ext cx="1907640" cy="534240"/>
          </a:xfrm>
          <a:prstGeom prst="curvedConnector5">
            <a:avLst>
              <a:gd name="adj1" fmla="val 49943"/>
              <a:gd name="adj2" fmla="val 49966"/>
              <a:gd name="adj3" fmla="val 49943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913" name=""/>
          <p:cNvSpPr/>
          <p:nvPr/>
        </p:nvSpPr>
        <p:spPr>
          <a:xfrm>
            <a:off x="442800" y="372276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Cloud"/>
          <p:cNvSpPr/>
          <p:nvPr/>
        </p:nvSpPr>
        <p:spPr>
          <a:xfrm>
            <a:off x="2424240" y="1893960"/>
            <a:ext cx="1523880" cy="106668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Subontology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Cloud"/>
          <p:cNvSpPr/>
          <p:nvPr/>
        </p:nvSpPr>
        <p:spPr>
          <a:xfrm>
            <a:off x="5700600" y="2427120"/>
            <a:ext cx="1600200" cy="106704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ge Subontology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Cloud"/>
          <p:cNvSpPr/>
          <p:nvPr/>
        </p:nvSpPr>
        <p:spPr>
          <a:xfrm>
            <a:off x="1281240" y="3798720"/>
            <a:ext cx="2666880" cy="198144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Subontology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Cloud"/>
          <p:cNvSpPr/>
          <p:nvPr/>
        </p:nvSpPr>
        <p:spPr>
          <a:xfrm>
            <a:off x="5548320" y="3798720"/>
            <a:ext cx="2438280" cy="198144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ontology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195640" y="4408560"/>
            <a:ext cx="609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195640" y="4941720"/>
            <a:ext cx="609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6234120" y="5170320"/>
            <a:ext cx="736560" cy="301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 f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662120" y="5170320"/>
            <a:ext cx="45720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6234120" y="4713120"/>
            <a:ext cx="736560" cy="254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ass f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2805120" y="4560840"/>
            <a:ext cx="34290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2805120" y="5094360"/>
            <a:ext cx="342900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 flipV="1">
            <a:off x="2500200" y="463716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5" name=""/>
          <p:cNvSpPr/>
          <p:nvPr/>
        </p:nvSpPr>
        <p:spPr>
          <a:xfrm flipV="1">
            <a:off x="6539040" y="486576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6" name=""/>
          <p:cNvSpPr/>
          <p:nvPr/>
        </p:nvSpPr>
        <p:spPr>
          <a:xfrm>
            <a:off x="4710240" y="2122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7" name=""/>
          <p:cNvSpPr/>
          <p:nvPr/>
        </p:nvSpPr>
        <p:spPr>
          <a:xfrm>
            <a:off x="4710240" y="417996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8" name=""/>
          <p:cNvSpPr/>
          <p:nvPr/>
        </p:nvSpPr>
        <p:spPr>
          <a:xfrm>
            <a:off x="4262400" y="2922480"/>
            <a:ext cx="609480" cy="1371600"/>
          </a:xfrm>
          <a:custGeom>
            <a:avLst/>
            <a:gdLst>
              <a:gd name="textAreaLeft" fmla="*/ 81360 w 609480"/>
              <a:gd name="textAreaRight" fmla="*/ 528120 w 6094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/>
          <p:nvPr/>
        </p:nvSpPr>
        <p:spPr>
          <a:xfrm>
            <a:off x="3414600" y="5703840"/>
            <a:ext cx="357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 is a relations-preserving function, e.g. preserving “subclass-of”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lass-of M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bclass-of 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/>
          <p:nvPr/>
        </p:nvSpPr>
        <p:spPr>
          <a:xfrm>
            <a:off x="380880" y="7632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Times New Roman"/>
              </a:rPr>
              <a:t>Context &amp; Mapp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Times New Roman"/>
              </a:rPr>
              <a:t>Relation-Preserving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4645080" y="4262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ED5D-1510-4A25-8B1D-B94BBF3A83CB}" type="slidenum">
              <a:t>21</a:t>
            </a:fld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"/>
          <p:cNvSpPr/>
          <p:nvPr/>
        </p:nvSpPr>
        <p:spPr>
          <a:xfrm>
            <a:off x="1495440" y="3286080"/>
            <a:ext cx="2286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1495440" y="4124160"/>
            <a:ext cx="2286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4467240" y="3591000"/>
            <a:ext cx="2286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4467240" y="2752560"/>
            <a:ext cx="2286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4467240" y="1914480"/>
            <a:ext cx="2286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6753240" y="3971880"/>
            <a:ext cx="2286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6753240" y="3133800"/>
            <a:ext cx="2286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 flipV="1">
            <a:off x="1647720" y="359064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 flipV="1">
            <a:off x="4619520" y="221904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 flipV="1">
            <a:off x="1724040" y="2066760"/>
            <a:ext cx="274320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 flipV="1">
            <a:off x="1724040" y="3743280"/>
            <a:ext cx="27432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 flipH="1" flipV="1">
            <a:off x="4695480" y="3743280"/>
            <a:ext cx="20574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 flipV="1">
            <a:off x="6905520" y="343836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 flipH="1" flipV="1">
            <a:off x="4695480" y="2980800"/>
            <a:ext cx="20574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 flipV="1">
            <a:off x="4619520" y="30574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4695840" y="1914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4695840" y="2752560"/>
            <a:ext cx="10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P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772160" y="35910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1724040" y="3514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Root_Im_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1724040" y="43527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dP_Im_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6981840" y="31338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Prep_Im_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6981840" y="3971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dP_Im_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809640" y="1990800"/>
            <a:ext cx="220968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991120" y="2295360"/>
            <a:ext cx="236232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3476520" y="1457280"/>
            <a:ext cx="236232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857760" y="4471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1114560" y="55674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6219720" y="52340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380880" y="7632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Times New Roman"/>
              </a:rPr>
              <a:t>Context &amp; Mapping: an Imple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940840" y="5802480"/>
            <a:ext cx="5884920" cy="885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: overload subclass re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? No Metaclasses or R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st Human User Policies to Preserve Rules &amp;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D1D2-479E-4D56-BC3D-53177A9DBEC6}" type="slidenum">
              <a:t>22</a:t>
            </a:fld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Ontology Mapping Methods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3000"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theories: Lena, Guha, et al, 1990, etc., Cycor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Theories” and Theory Interpretation: Farmer et al, 1994, MI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ulation Ontologies: Wiederhold, Mitra, Jannink, 2000, Stanford 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 Homomorphisms: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ptual Anchoring: Noy, 2001, S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Models Semantics (Context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iunchiglia, Ghidini, 1997, U. Tr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ized Context: McCarthy, Guha, Bu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990, etc. Stanford 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phisms (Category Theory): 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Flow Theory: Barwise &amp; Seligman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Flow Framework Candidate Upper Ontology (IEEE Standard Upper Ontology): Robert Kent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text Correlation: Skvortsov, Kalinichenko, 2001, Institute for Problems of Informatics, Russian Academy of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 Mapping: Rahm &amp; Bernstein, Univers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ä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ipzig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2A31-99D5-4AF2-86E1-44E82836D718}" type="slidenum">
              <a:t>23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Conclusions: Ontologies for B2B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7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B needs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B Ontology efforts can be a huge integration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41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the best ontology engineering methods, techniques + workable solutions for countless outstanding research problems + development of new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41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of standard taxonomies, vocabularies, languages, and the rectified reference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41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ology services for many types of applications (buyer, seller, search, retrieval, transaction, global markets/cultures/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41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tology integration/mapping (hardest technical prob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41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ology vers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y solutions must be sca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241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k classes, 49k relations in 6-8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educate a vast B2B user organization and community on esoteric advanced technolog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hardest people probl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7577-C61F-4101-841B-8D92F365FA7E}" type="slidenum">
              <a:t>24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Backup 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C99EE-8832-41CE-BA84-200B47F98D25}" type="slidenum">
              <a:t>25</a:t>
            </a:fld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44600" y="271080"/>
            <a:ext cx="82548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hat is B2B E-Commerce?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7200" y="1439640"/>
            <a:ext cx="8153280" cy="46717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6000"/>
          </a:bodyPr>
          <a:p>
            <a:pPr marL="385560" indent="-219240">
              <a:lnSpc>
                <a:spcPts val="25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n’t 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560" indent="-219240">
              <a:lnSpc>
                <a:spcPts val="2599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61272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B2B Services*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Life Cycle Manage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, Scheduling,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rehousing and Insp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ions/Campaign M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k mitigation servic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iling and person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alog display/maintenan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/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x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 Configur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vate markets, negotiated te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ivative instrum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t sale support, Warranty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ty news, employment, et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ables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urns processing, Repair Claim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rap management/Reverse Log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yment processing/order mgm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ntory avail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der explosion/rou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ner/team selling and promo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19240">
              <a:lnSpc>
                <a:spcPts val="1998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225440"/>
                <a:tab algn="l" pos="1838160"/>
                <a:tab algn="l" pos="2451240"/>
                <a:tab algn="l" pos="3063960"/>
                <a:tab algn="l" pos="3676680"/>
                <a:tab algn="l" pos="4289400"/>
                <a:tab algn="l" pos="4902120"/>
                <a:tab algn="l" pos="5514840"/>
                <a:tab algn="l" pos="6127920"/>
                <a:tab algn="l" pos="6740640"/>
                <a:tab algn="l" pos="7353360"/>
                <a:tab algn="l" pos="7966080"/>
                <a:tab algn="l" pos="8578800"/>
                <a:tab algn="l" pos="9191520"/>
                <a:tab algn="l" pos="9804240"/>
                <a:tab algn="l" pos="104173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flow and Business ru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ord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637800" y="6426360"/>
            <a:ext cx="123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* Morgan Stanle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7B07-4C20-4081-8770-15429B56C4AE}" type="slidenum">
              <a:t>26</a:t>
            </a:fld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hat Problems Do Ontologies Solve?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 databas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organizational units, Service Needers/Providers have radically different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tactical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’s the form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ucturally:</a:t>
            </a:r>
            <a:r>
              <a:rPr b="0" lang="en-US" sz="2000" spc="-1" strike="noStrike">
                <a:solidFill>
                  <a:srgbClr val="c2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y structu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mantical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do they mea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l speak different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and Common conceptual mode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ies act as semantic conceptual model representing comm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, sound, consistent, extensible, reusable, mod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0">
              <a:spcBef>
                <a:spcPts val="499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7063F-DC1B-4960-AEBA-F6396CA682F2}" type="slidenum">
              <a:t>27</a:t>
            </a:fld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"/>
          <p:cNvSpPr/>
          <p:nvPr/>
        </p:nvSpPr>
        <p:spPr>
          <a:xfrm>
            <a:off x="2436840" y="1450800"/>
            <a:ext cx="147924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imple Metada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Advancing Along the Interpretation Continuum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1438200" y="5600880"/>
            <a:ext cx="5935680" cy="230040"/>
          </a:xfrm>
          <a:custGeom>
            <a:avLst/>
            <a:gdLst>
              <a:gd name="textAreaLeft" fmla="*/ 927360 w 5935680"/>
              <a:gd name="textAreaRight" fmla="*/ 5193720 w 5935680"/>
              <a:gd name="textAreaTop" fmla="*/ 57600 h 230040"/>
              <a:gd name="textAreaBottom" fmla="*/ 172800 h 230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459000" y="1849320"/>
            <a:ext cx="198072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uman interpr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6422400" y="1817640"/>
            <a:ext cx="2250360" cy="3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uter interpr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963360" y="266400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950880" y="2651040"/>
            <a:ext cx="15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444960" y="2928960"/>
            <a:ext cx="227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latively unstruct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6943680" y="2889360"/>
            <a:ext cx="161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y struct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620280" y="5791320"/>
            <a:ext cx="763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ving to the right depends on increasing automated semantic 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2422440" y="364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6210360" y="2679840"/>
            <a:ext cx="0" cy="6966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2695680" y="2657520"/>
            <a:ext cx="0" cy="7398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4251240" y="2666880"/>
            <a:ext cx="0" cy="73656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2023920" y="3397320"/>
            <a:ext cx="14479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>
              <a:lnSpc>
                <a:spcPct val="89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Info retrie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89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404520" y="3413160"/>
            <a:ext cx="219996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7360" indent="-117360">
              <a:lnSpc>
                <a:spcPct val="89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ext summa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89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ontent ext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>
              <a:lnSpc>
                <a:spcPct val="89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opic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"/>
          <p:cNvSpPr/>
          <p:nvPr/>
        </p:nvSpPr>
        <p:spPr>
          <a:xfrm>
            <a:off x="5456160" y="3416400"/>
            <a:ext cx="16700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360" indent="-117360" algn="ctr">
              <a:lnSpc>
                <a:spcPct val="89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Reasoning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7360" indent="-117360" algn="ctr">
              <a:lnSpc>
                <a:spcPct val="89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Ontology In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9" name="" descr=""/>
          <p:cNvPicPr/>
          <p:nvPr/>
        </p:nvPicPr>
        <p:blipFill>
          <a:blip r:embed="rId1"/>
          <a:stretch/>
        </p:blipFill>
        <p:spPr>
          <a:xfrm>
            <a:off x="596880" y="3578400"/>
            <a:ext cx="1066680" cy="645840"/>
          </a:xfrm>
          <a:prstGeom prst="rect">
            <a:avLst/>
          </a:prstGeom>
          <a:ln w="0">
            <a:noFill/>
          </a:ln>
        </p:spPr>
      </p:pic>
      <p:grpSp>
        <p:nvGrpSpPr>
          <p:cNvPr id="2990" name=""/>
          <p:cNvGrpSpPr/>
          <p:nvPr/>
        </p:nvGrpSpPr>
        <p:grpSpPr>
          <a:xfrm>
            <a:off x="7441560" y="3298680"/>
            <a:ext cx="1262880" cy="964080"/>
            <a:chOff x="7441560" y="3298680"/>
            <a:chExt cx="1262880" cy="964080"/>
          </a:xfrm>
        </p:grpSpPr>
        <p:sp>
          <p:nvSpPr>
            <p:cNvPr id="2991" name=""/>
            <p:cNvSpPr/>
            <p:nvPr/>
          </p:nvSpPr>
          <p:spPr>
            <a:xfrm>
              <a:off x="7899480" y="329868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7594920" y="3603600"/>
              <a:ext cx="7596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975800" y="360360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747200" y="3908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204400" y="3908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8356680" y="3603600"/>
              <a:ext cx="76320" cy="75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442280" y="3908160"/>
              <a:ext cx="76320" cy="76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8" name=""/>
            <p:cNvCxnSpPr>
              <a:stCxn id="2991" idx="3"/>
              <a:endCxn id="2992" idx="7"/>
            </p:cNvCxnSpPr>
            <p:nvPr/>
          </p:nvCxnSpPr>
          <p:spPr>
            <a:xfrm flipH="1">
              <a:off x="7659000" y="3363480"/>
              <a:ext cx="251640" cy="2516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999" name=""/>
            <p:cNvCxnSpPr>
              <a:stCxn id="2992" idx="3"/>
              <a:endCxn id="2997" idx="2"/>
            </p:cNvCxnSpPr>
            <p:nvPr/>
          </p:nvCxnSpPr>
          <p:spPr>
            <a:xfrm flipH="1">
              <a:off x="7441560" y="3668400"/>
              <a:ext cx="164520" cy="2782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00" name=""/>
            <p:cNvCxnSpPr>
              <a:stCxn id="2992" idx="6"/>
              <a:endCxn id="2994" idx="7"/>
            </p:cNvCxnSpPr>
            <p:nvPr/>
          </p:nvCxnSpPr>
          <p:spPr>
            <a:xfrm>
              <a:off x="7670520" y="3641400"/>
              <a:ext cx="142200" cy="2782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01" name=""/>
            <p:cNvCxnSpPr>
              <a:stCxn id="2993" idx="0"/>
              <a:endCxn id="2994" idx="7"/>
            </p:cNvCxnSpPr>
            <p:nvPr/>
          </p:nvCxnSpPr>
          <p:spPr>
            <a:xfrm flipH="1">
              <a:off x="7812000" y="3603240"/>
              <a:ext cx="202320" cy="3164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02" name=""/>
            <p:cNvCxnSpPr>
              <a:stCxn id="2993" idx="6"/>
              <a:endCxn id="2995" idx="7"/>
            </p:cNvCxnSpPr>
            <p:nvPr/>
          </p:nvCxnSpPr>
          <p:spPr>
            <a:xfrm>
              <a:off x="8052120" y="3641400"/>
              <a:ext cx="218160" cy="2782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03" name=""/>
            <p:cNvCxnSpPr>
              <a:stCxn id="2991" idx="5"/>
              <a:endCxn id="2996" idx="6"/>
            </p:cNvCxnSpPr>
            <p:nvPr/>
          </p:nvCxnSpPr>
          <p:spPr>
            <a:xfrm>
              <a:off x="7964280" y="3363840"/>
              <a:ext cx="469080" cy="2782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04" name=""/>
            <p:cNvCxnSpPr>
              <a:stCxn id="2991" idx="4"/>
              <a:endCxn id="2993" idx="5"/>
            </p:cNvCxnSpPr>
            <p:nvPr/>
          </p:nvCxnSpPr>
          <p:spPr>
            <a:xfrm>
              <a:off x="7937280" y="3375000"/>
              <a:ext cx="104040" cy="29448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05" name=""/>
            <p:cNvSpPr/>
            <p:nvPr/>
          </p:nvSpPr>
          <p:spPr>
            <a:xfrm>
              <a:off x="8185320" y="368136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6" name=""/>
          <p:cNvSpPr/>
          <p:nvPr/>
        </p:nvSpPr>
        <p:spPr>
          <a:xfrm>
            <a:off x="660240" y="4351320"/>
            <a:ext cx="1332000" cy="10335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7" name="" descr=""/>
          <p:cNvPicPr/>
          <p:nvPr/>
        </p:nvPicPr>
        <p:blipFill>
          <a:blip r:embed="rId2"/>
          <a:stretch/>
        </p:blipFill>
        <p:spPr>
          <a:xfrm>
            <a:off x="520560" y="3425760"/>
            <a:ext cx="1067040" cy="646200"/>
          </a:xfrm>
          <a:prstGeom prst="rect">
            <a:avLst/>
          </a:prstGeom>
          <a:ln w="0">
            <a:noFill/>
          </a:ln>
        </p:spPr>
      </p:pic>
      <p:sp>
        <p:nvSpPr>
          <p:cNvPr id="3008" name=""/>
          <p:cNvSpPr/>
          <p:nvPr/>
        </p:nvSpPr>
        <p:spPr>
          <a:xfrm>
            <a:off x="2104920" y="4351320"/>
            <a:ext cx="1295640" cy="10209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3581280" y="4336920"/>
            <a:ext cx="1333800" cy="12160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5075280" y="4336920"/>
            <a:ext cx="1633320" cy="1192320"/>
          </a:xfrm>
          <a:prstGeom prst="foldedCorner">
            <a:avLst>
              <a:gd name="adj" fmla="val 962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6859440" y="4335480"/>
            <a:ext cx="1570320" cy="11905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674640" y="4419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raw documen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nterpretation done by hu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2082960" y="4365720"/>
            <a:ext cx="1371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nd correlate patterns in raw docs; display matche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3527280" y="4324320"/>
            <a:ext cx="1489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and connect patterns via conceptual model (i.e,. an ontology); link to docs to aid retrie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5060880" y="4305240"/>
            <a:ext cx="1828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ally acquire concepts; evolve ontologies into domain theories; link to institution repositories (e.g., M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6" name=""/>
          <p:cNvSpPr/>
          <p:nvPr/>
        </p:nvSpPr>
        <p:spPr>
          <a:xfrm>
            <a:off x="3783960" y="1116000"/>
            <a:ext cx="145332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icher Metada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DF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4773960" y="1535040"/>
            <a:ext cx="168336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Very Rich Metada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AML+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6821640" y="4314960"/>
            <a:ext cx="1644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matically span domain theories and institution repositories; inter-operate with fully interpreting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1022400" y="2031840"/>
            <a:ext cx="7084800" cy="797040"/>
          </a:xfrm>
          <a:prstGeom prst="leftRightArrow">
            <a:avLst>
              <a:gd name="adj1" fmla="val 50000"/>
              <a:gd name="adj2" fmla="val 176955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ation Continu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6877-5DE9-4474-BB31-73D340DF0794}" type="slidenum">
              <a:t>28</a:t>
            </a:fld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"/>
          <p:cNvSpPr/>
          <p:nvPr/>
        </p:nvSpPr>
        <p:spPr>
          <a:xfrm>
            <a:off x="228600" y="990720"/>
            <a:ext cx="8915400" cy="5638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Ontology Spectrum</a:t>
            </a:r>
            <a:br>
              <a:rPr sz="4000"/>
            </a:b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4864320" y="1258920"/>
            <a:ext cx="3550320" cy="419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ogical Domai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3" name=""/>
          <p:cNvSpPr/>
          <p:nvPr/>
        </p:nvSpPr>
        <p:spPr>
          <a:xfrm>
            <a:off x="565560" y="3354480"/>
            <a:ext cx="6469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4" name=""/>
          <p:cNvSpPr/>
          <p:nvPr/>
        </p:nvSpPr>
        <p:spPr>
          <a:xfrm>
            <a:off x="123480" y="3992400"/>
            <a:ext cx="7642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5" name=""/>
          <p:cNvSpPr/>
          <p:nvPr/>
        </p:nvSpPr>
        <p:spPr>
          <a:xfrm>
            <a:off x="672840" y="4121280"/>
            <a:ext cx="6562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6" name=""/>
          <p:cNvSpPr/>
          <p:nvPr/>
        </p:nvSpPr>
        <p:spPr>
          <a:xfrm>
            <a:off x="1293120" y="4316400"/>
            <a:ext cx="452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 flipH="1">
            <a:off x="569880" y="3562200"/>
            <a:ext cx="31608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"/>
          <p:cNvSpPr/>
          <p:nvPr/>
        </p:nvSpPr>
        <p:spPr>
          <a:xfrm>
            <a:off x="885960" y="3573360"/>
            <a:ext cx="9684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"/>
          <p:cNvSpPr/>
          <p:nvPr/>
        </p:nvSpPr>
        <p:spPr>
          <a:xfrm>
            <a:off x="922320" y="3595680"/>
            <a:ext cx="48744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/>
          <p:cNvSpPr/>
          <p:nvPr/>
        </p:nvSpPr>
        <p:spPr>
          <a:xfrm>
            <a:off x="28800" y="4584600"/>
            <a:ext cx="461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1045800" y="4619520"/>
            <a:ext cx="6152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2" name=""/>
          <p:cNvSpPr/>
          <p:nvPr/>
        </p:nvSpPr>
        <p:spPr>
          <a:xfrm>
            <a:off x="1049400" y="4346640"/>
            <a:ext cx="12204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296640" y="4232160"/>
            <a:ext cx="176040" cy="37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478800" y="4578480"/>
            <a:ext cx="4183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496800" y="4240080"/>
            <a:ext cx="155520" cy="3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303120" y="4840200"/>
            <a:ext cx="15552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"/>
          <p:cNvSpPr/>
          <p:nvPr/>
        </p:nvSpPr>
        <p:spPr>
          <a:xfrm>
            <a:off x="-16560" y="5156280"/>
            <a:ext cx="12171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ker Spani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542880" y="5383080"/>
            <a:ext cx="155520" cy="357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9" name=""/>
          <p:cNvSpPr/>
          <p:nvPr/>
        </p:nvSpPr>
        <p:spPr>
          <a:xfrm>
            <a:off x="6048360" y="5227560"/>
            <a:ext cx="3095640" cy="168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Entities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etal working  machinery, equipment and supplies, metal-cutting machinery, metal-turning equipment, metal-milling equipment, milling insert, turning insert,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Rela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subclass-of; instance-of; part-of; has-geometry; performs, used-on;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Properties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eometry; material; length; operation; UN/SPSC-code; ISO-code;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1; 2; 3; “2.5 inches”; “85-degree-diamond”; “231716”; “boring”; “drilling”;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Axioms/Rules: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 milling-insert(X) &amp; operation(Y) &amp; material(Z)=HG_Steel &amp; performs(X, Y, Z), then has-geometry(X, 85-degree-diamond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0" name=""/>
          <p:cNvSpPr/>
          <p:nvPr/>
        </p:nvSpPr>
        <p:spPr>
          <a:xfrm flipH="1">
            <a:off x="337680" y="1409760"/>
            <a:ext cx="8496360" cy="5010120"/>
          </a:xfrm>
          <a:prstGeom prst="line">
            <a:avLst/>
          </a:prstGeom>
          <a:ln w="38160">
            <a:solidFill>
              <a:srgbClr val="ff81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1" name=""/>
          <p:cNvGrpSpPr/>
          <p:nvPr/>
        </p:nvGrpSpPr>
        <p:grpSpPr>
          <a:xfrm>
            <a:off x="-114480" y="1127880"/>
            <a:ext cx="4814640" cy="2746080"/>
            <a:chOff x="-114480" y="1127880"/>
            <a:chExt cx="4814640" cy="2746080"/>
          </a:xfrm>
        </p:grpSpPr>
        <p:sp>
          <p:nvSpPr>
            <p:cNvPr id="3042" name=""/>
            <p:cNvSpPr txBox="1"/>
            <p:nvPr/>
          </p:nvSpPr>
          <p:spPr>
            <a:xfrm rot="20394600">
              <a:off x="0" y="1644120"/>
              <a:ext cx="3225600" cy="123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337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381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Ontology</a:t>
              </a:r>
              <a:endPara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3043" name=""/>
            <p:cNvSpPr txBox="1"/>
            <p:nvPr/>
          </p:nvSpPr>
          <p:spPr>
            <a:xfrm rot="20394600">
              <a:off x="1360080" y="2120400"/>
              <a:ext cx="3225600" cy="123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3370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381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pectrum</a:t>
              </a:r>
              <a:endParaRPr b="0" lang="en-US" sz="24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5378760" y="3602160"/>
            <a:ext cx="3402720" cy="1545480"/>
            <a:chOff x="5378760" y="3602160"/>
            <a:chExt cx="3402720" cy="1545480"/>
          </a:xfrm>
        </p:grpSpPr>
        <p:sp>
          <p:nvSpPr>
            <p:cNvPr id="3045" name=""/>
            <p:cNvSpPr/>
            <p:nvPr/>
          </p:nvSpPr>
          <p:spPr>
            <a:xfrm>
              <a:off x="7817040" y="4349880"/>
              <a:ext cx="30888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822720" y="4008600"/>
              <a:ext cx="6289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H="1">
              <a:off x="6941520" y="4038120"/>
              <a:ext cx="193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35200" y="4046040"/>
              <a:ext cx="19368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604200" y="4241880"/>
              <a:ext cx="5083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echnic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7110360" y="4241880"/>
              <a:ext cx="4748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084080" y="3759120"/>
              <a:ext cx="5252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H="1">
              <a:off x="7135200" y="3792960"/>
              <a:ext cx="19368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469280" y="3953160"/>
              <a:ext cx="26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342200" y="3792960"/>
              <a:ext cx="19332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581160" y="4579920"/>
              <a:ext cx="51156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sistant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448320" y="4462560"/>
              <a:ext cx="4489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irect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7029360" y="4489560"/>
              <a:ext cx="4413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ARP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7213680" y="4538880"/>
              <a:ext cx="3546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Nav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7311600" y="4615200"/>
              <a:ext cx="5677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telligenc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H="1">
              <a:off x="6648120" y="4275720"/>
              <a:ext cx="19368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H="1">
              <a:off x="6819840" y="4287600"/>
              <a:ext cx="33120" cy="24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867360" y="4273920"/>
              <a:ext cx="14580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897240" y="4486320"/>
              <a:ext cx="3117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H="1">
              <a:off x="7226640" y="4265280"/>
              <a:ext cx="12240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7349040" y="4269600"/>
              <a:ext cx="37440" cy="21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363080" y="4278240"/>
              <a:ext cx="18900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264720" y="4651560"/>
              <a:ext cx="3589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z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555240" y="4854600"/>
              <a:ext cx="4442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owar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H="1">
              <a:off x="6465960" y="4486320"/>
              <a:ext cx="13644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H="1">
              <a:off x="6796080" y="4666320"/>
              <a:ext cx="18360" cy="13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977520" y="4700520"/>
              <a:ext cx="31644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H="1">
              <a:off x="7135200" y="4502880"/>
              <a:ext cx="6840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7162920" y="4719960"/>
              <a:ext cx="3423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Bra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H="1">
              <a:off x="7333920" y="4553640"/>
              <a:ext cx="4716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440840" y="4178520"/>
              <a:ext cx="2736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6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613640" y="4178520"/>
              <a:ext cx="2736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804080" y="4178520"/>
              <a:ext cx="2736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7585200" y="4035600"/>
              <a:ext cx="13320" cy="9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603920" y="4031280"/>
              <a:ext cx="14148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608960" y="4026240"/>
              <a:ext cx="32508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H="1">
              <a:off x="7571160" y="4201920"/>
              <a:ext cx="18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7421040" y="4398840"/>
              <a:ext cx="3330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Pau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7543440" y="4403880"/>
              <a:ext cx="4795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Inderj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7754760" y="4202640"/>
              <a:ext cx="1476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7943400" y="4202640"/>
              <a:ext cx="1908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6" name=""/>
            <p:cNvGrpSpPr/>
            <p:nvPr/>
          </p:nvGrpSpPr>
          <p:grpSpPr>
            <a:xfrm>
              <a:off x="5378760" y="3759120"/>
              <a:ext cx="1130400" cy="781920"/>
              <a:chOff x="5378760" y="3759120"/>
              <a:chExt cx="1130400" cy="781920"/>
            </a:xfrm>
          </p:grpSpPr>
          <p:sp>
            <p:nvSpPr>
              <p:cNvPr id="3087" name=""/>
              <p:cNvSpPr/>
              <p:nvPr/>
            </p:nvSpPr>
            <p:spPr>
              <a:xfrm>
                <a:off x="5572080" y="3759120"/>
                <a:ext cx="636480" cy="17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echnologi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 flipH="1">
                <a:off x="5632920" y="3780000"/>
                <a:ext cx="208080" cy="28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378760" y="4365720"/>
                <a:ext cx="883440" cy="17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elecommunication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451840" y="4118040"/>
                <a:ext cx="380520" cy="17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808600" y="3986280"/>
                <a:ext cx="700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Knowledge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Representati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738040" y="4175280"/>
                <a:ext cx="52200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Natura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851080" y="3778920"/>
                <a:ext cx="25488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H="1">
                <a:off x="5718600" y="3783240"/>
                <a:ext cx="123120" cy="54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845680" y="3787560"/>
                <a:ext cx="104040" cy="33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"/>
            <p:cNvGrpSpPr/>
            <p:nvPr/>
          </p:nvGrpSpPr>
          <p:grpSpPr>
            <a:xfrm>
              <a:off x="5785200" y="3755880"/>
              <a:ext cx="1339200" cy="967680"/>
              <a:chOff x="5785200" y="3755880"/>
              <a:chExt cx="1339200" cy="967680"/>
            </a:xfrm>
          </p:grpSpPr>
          <p:sp>
            <p:nvSpPr>
              <p:cNvPr id="3097" name=""/>
              <p:cNvSpPr/>
              <p:nvPr/>
            </p:nvSpPr>
            <p:spPr>
              <a:xfrm flipH="1">
                <a:off x="6672240" y="3793320"/>
                <a:ext cx="193680" cy="14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6649560" y="3755880"/>
                <a:ext cx="474840" cy="17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rogram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6438960" y="3987000"/>
                <a:ext cx="418320" cy="17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204960" y="4233600"/>
                <a:ext cx="346680" cy="17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Task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H="1">
                <a:off x="6406920" y="4021920"/>
                <a:ext cx="193680" cy="14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785200" y="4466880"/>
                <a:ext cx="68364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Semanti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Interoperability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H="1">
                <a:off x="6145920" y="4255200"/>
                <a:ext cx="193680" cy="14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4" name=""/>
            <p:cNvSpPr/>
            <p:nvPr/>
          </p:nvSpPr>
          <p:spPr>
            <a:xfrm>
              <a:off x="5765400" y="4062600"/>
              <a:ext cx="506880" cy="659880"/>
            </a:xfrm>
            <a:custGeom>
              <a:avLst/>
              <a:gdLst/>
              <a:ahLst/>
              <a:rect l="l" t="t" r="r" b="b"/>
              <a:pathLst>
                <a:path w="877" h="1195">
                  <a:moveTo>
                    <a:pt x="558" y="906"/>
                  </a:moveTo>
                  <a:cubicBezTo>
                    <a:pt x="450" y="1050"/>
                    <a:pt x="342" y="1195"/>
                    <a:pt x="264" y="1191"/>
                  </a:cubicBezTo>
                  <a:cubicBezTo>
                    <a:pt x="185" y="1186"/>
                    <a:pt x="0" y="1045"/>
                    <a:pt x="85" y="881"/>
                  </a:cubicBezTo>
                  <a:cubicBezTo>
                    <a:pt x="169" y="716"/>
                    <a:pt x="664" y="350"/>
                    <a:pt x="771" y="204"/>
                  </a:cubicBezTo>
                  <a:cubicBezTo>
                    <a:pt x="877" y="57"/>
                    <a:pt x="799" y="28"/>
                    <a:pt x="722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782400" y="3783240"/>
              <a:ext cx="424800" cy="653400"/>
            </a:xfrm>
            <a:custGeom>
              <a:avLst/>
              <a:gdLst/>
              <a:ahLst/>
              <a:rect l="l" t="t" r="r" b="b"/>
              <a:pathLst>
                <a:path w="734" h="1183">
                  <a:moveTo>
                    <a:pt x="154" y="0"/>
                  </a:moveTo>
                  <a:cubicBezTo>
                    <a:pt x="77" y="194"/>
                    <a:pt x="0" y="388"/>
                    <a:pt x="56" y="514"/>
                  </a:cubicBezTo>
                  <a:cubicBezTo>
                    <a:pt x="111" y="639"/>
                    <a:pt x="376" y="639"/>
                    <a:pt x="489" y="751"/>
                  </a:cubicBezTo>
                  <a:cubicBezTo>
                    <a:pt x="602" y="862"/>
                    <a:pt x="668" y="1022"/>
                    <a:pt x="734" y="118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136200" y="4060800"/>
              <a:ext cx="1875960" cy="934560"/>
            </a:xfrm>
            <a:custGeom>
              <a:avLst/>
              <a:gdLst/>
              <a:ahLst/>
              <a:rect l="l" t="t" r="r" b="b"/>
              <a:pathLst>
                <a:path w="3243" h="1693">
                  <a:moveTo>
                    <a:pt x="161" y="3"/>
                  </a:moveTo>
                  <a:cubicBezTo>
                    <a:pt x="270" y="1"/>
                    <a:pt x="379" y="0"/>
                    <a:pt x="373" y="68"/>
                  </a:cubicBezTo>
                  <a:cubicBezTo>
                    <a:pt x="366" y="136"/>
                    <a:pt x="100" y="306"/>
                    <a:pt x="120" y="411"/>
                  </a:cubicBezTo>
                  <a:cubicBezTo>
                    <a:pt x="139" y="515"/>
                    <a:pt x="492" y="525"/>
                    <a:pt x="488" y="697"/>
                  </a:cubicBezTo>
                  <a:cubicBezTo>
                    <a:pt x="484" y="868"/>
                    <a:pt x="0" y="1277"/>
                    <a:pt x="96" y="1439"/>
                  </a:cubicBezTo>
                  <a:cubicBezTo>
                    <a:pt x="191" y="1600"/>
                    <a:pt x="593" y="1655"/>
                    <a:pt x="1059" y="1668"/>
                  </a:cubicBezTo>
                  <a:cubicBezTo>
                    <a:pt x="1524" y="1680"/>
                    <a:pt x="2532" y="1693"/>
                    <a:pt x="2888" y="1513"/>
                  </a:cubicBezTo>
                  <a:cubicBezTo>
                    <a:pt x="3243" y="1332"/>
                    <a:pt x="3216" y="957"/>
                    <a:pt x="3190" y="58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7" name=""/>
            <p:cNvGrpSpPr/>
            <p:nvPr/>
          </p:nvGrpSpPr>
          <p:grpSpPr>
            <a:xfrm>
              <a:off x="7580880" y="3759120"/>
              <a:ext cx="1200600" cy="871920"/>
              <a:chOff x="7580880" y="3759120"/>
              <a:chExt cx="1200600" cy="871920"/>
            </a:xfrm>
          </p:grpSpPr>
          <p:grpSp>
            <p:nvGrpSpPr>
              <p:cNvPr id="3108" name=""/>
              <p:cNvGrpSpPr/>
              <p:nvPr/>
            </p:nvGrpSpPr>
            <p:grpSpPr>
              <a:xfrm>
                <a:off x="7580880" y="3759120"/>
                <a:ext cx="1063080" cy="642240"/>
                <a:chOff x="7580880" y="3759120"/>
                <a:chExt cx="1063080" cy="642240"/>
              </a:xfrm>
            </p:grpSpPr>
            <p:sp>
              <p:nvSpPr>
                <p:cNvPr id="3109" name=""/>
                <p:cNvSpPr/>
                <p:nvPr/>
              </p:nvSpPr>
              <p:spPr>
                <a:xfrm>
                  <a:off x="7580880" y="3759120"/>
                  <a:ext cx="508320" cy="1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ompany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7853400" y="4002120"/>
                  <a:ext cx="447480" cy="1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ivision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7840080" y="3793680"/>
                  <a:ext cx="193680" cy="14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8062560" y="4226040"/>
                  <a:ext cx="581400" cy="1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89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epartment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8121960" y="4027680"/>
                  <a:ext cx="193680" cy="14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4" name=""/>
              <p:cNvSpPr/>
              <p:nvPr/>
            </p:nvSpPr>
            <p:spPr>
              <a:xfrm>
                <a:off x="8400960" y="4455720"/>
                <a:ext cx="380520" cy="17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W15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8366040" y="4247640"/>
                <a:ext cx="193680" cy="14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6" name=""/>
            <p:cNvSpPr/>
            <p:nvPr/>
          </p:nvSpPr>
          <p:spPr>
            <a:xfrm>
              <a:off x="7339680" y="3642840"/>
              <a:ext cx="1289520" cy="1047240"/>
            </a:xfrm>
            <a:custGeom>
              <a:avLst/>
              <a:gdLst/>
              <a:ahLst/>
              <a:rect l="l" t="t" r="r" b="b"/>
              <a:pathLst>
                <a:path w="2230" h="1896">
                  <a:moveTo>
                    <a:pt x="2204" y="1519"/>
                  </a:moveTo>
                  <a:cubicBezTo>
                    <a:pt x="2217" y="1707"/>
                    <a:pt x="2230" y="1896"/>
                    <a:pt x="2097" y="1854"/>
                  </a:cubicBezTo>
                  <a:cubicBezTo>
                    <a:pt x="1963" y="1811"/>
                    <a:pt x="1595" y="1471"/>
                    <a:pt x="1404" y="1266"/>
                  </a:cubicBezTo>
                  <a:cubicBezTo>
                    <a:pt x="1212" y="1060"/>
                    <a:pt x="1133" y="818"/>
                    <a:pt x="946" y="621"/>
                  </a:cubicBezTo>
                  <a:cubicBezTo>
                    <a:pt x="758" y="423"/>
                    <a:pt x="434" y="163"/>
                    <a:pt x="277" y="82"/>
                  </a:cubicBezTo>
                  <a:cubicBezTo>
                    <a:pt x="119" y="0"/>
                    <a:pt x="59" y="65"/>
                    <a:pt x="0" y="13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900480" y="3615120"/>
              <a:ext cx="486360" cy="95760"/>
            </a:xfrm>
            <a:custGeom>
              <a:avLst/>
              <a:gdLst/>
              <a:ahLst/>
              <a:rect l="l" t="t" r="r" b="b"/>
              <a:pathLst>
                <a:path w="1069" h="141">
                  <a:moveTo>
                    <a:pt x="1069" y="84"/>
                  </a:moveTo>
                  <a:cubicBezTo>
                    <a:pt x="803" y="42"/>
                    <a:pt x="537" y="0"/>
                    <a:pt x="359" y="10"/>
                  </a:cubicBezTo>
                  <a:cubicBezTo>
                    <a:pt x="180" y="19"/>
                    <a:pt x="90" y="80"/>
                    <a:pt x="0" y="14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927400" y="3602160"/>
              <a:ext cx="1081440" cy="108720"/>
            </a:xfrm>
            <a:custGeom>
              <a:avLst/>
              <a:gdLst/>
              <a:ahLst/>
              <a:rect l="l" t="t" r="r" b="b"/>
              <a:pathLst>
                <a:path w="1869" h="197">
                  <a:moveTo>
                    <a:pt x="1869" y="50"/>
                  </a:moveTo>
                  <a:cubicBezTo>
                    <a:pt x="1277" y="25"/>
                    <a:pt x="686" y="0"/>
                    <a:pt x="375" y="25"/>
                  </a:cubicBezTo>
                  <a:cubicBezTo>
                    <a:pt x="63" y="49"/>
                    <a:pt x="31" y="123"/>
                    <a:pt x="0" y="197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581800" y="4575240"/>
              <a:ext cx="4579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qui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409440" y="4972320"/>
              <a:ext cx="39708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now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038280" y="3673440"/>
              <a:ext cx="75996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as_expertise_i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956640" y="3678480"/>
              <a:ext cx="3805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ork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8156520" y="4489560"/>
              <a:ext cx="30420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h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4" name=""/>
          <p:cNvSpPr/>
          <p:nvPr/>
        </p:nvSpPr>
        <p:spPr>
          <a:xfrm>
            <a:off x="4969800" y="2198520"/>
            <a:ext cx="427716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chine Interpretable Vocabulary and Typ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ities, Relations, Properties, Values, Constraint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, Axio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-1800" y="5956200"/>
            <a:ext cx="2261160" cy="25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Minimal Hierarch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1709280" y="4334040"/>
            <a:ext cx="3885480" cy="25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yntax/Format &amp; Well-defined NL Definition: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3363840" y="2898720"/>
            <a:ext cx="4199400" cy="25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yntax/Format, Structure, Semantics: Terms + Mea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4460760" y="1766880"/>
            <a:ext cx="4683240" cy="41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Mathematically Rigorous, Rich &amp; Consistent Formal Syntax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Structure, Semantics: Terms + Machine-Interpretable Mea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2150640" y="4624560"/>
            <a:ext cx="1720080" cy="419400"/>
          </a:xfrm>
          <a:prstGeom prst="rect">
            <a:avLst/>
          </a:pr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sau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3650400" y="3176640"/>
            <a:ext cx="2805120" cy="419400"/>
          </a:xfrm>
          <a:prstGeom prst="rect">
            <a:avLst/>
          </a:pr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onceptu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462960" y="5748480"/>
            <a:ext cx="5374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3289320" y="4951800"/>
            <a:ext cx="357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s Narrower Meaning T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1379520" y="6564960"/>
            <a:ext cx="4618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s Sub-Classificatio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6172200" y="3324600"/>
            <a:ext cx="20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s Subclas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6753240" y="763920"/>
            <a:ext cx="2390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s Disjoint Subclass of with transitivity 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1189800" y="54820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3377880" y="4050360"/>
            <a:ext cx="12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Object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5456160" y="82440"/>
            <a:ext cx="3313080" cy="5806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mmunities: AI/KR/NL, DB, Library/Info. Science, O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3940200" y="2461680"/>
            <a:ext cx="1098360" cy="33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AI/KR/N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1319040" y="5087520"/>
            <a:ext cx="615960" cy="33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2544840" y="3947760"/>
            <a:ext cx="677880" cy="33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Li/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3427560" y="3604680"/>
            <a:ext cx="528480" cy="3373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7446960" y="2647800"/>
            <a:ext cx="1407960" cy="2511720"/>
          </a:xfrm>
          <a:custGeom>
            <a:avLst/>
            <a:gdLst/>
            <a:ahLst/>
            <a:rect l="l" t="t" r="r" b="b"/>
            <a:pathLst>
              <a:path w="887" h="1582">
                <a:moveTo>
                  <a:pt x="0" y="0"/>
                </a:moveTo>
                <a:cubicBezTo>
                  <a:pt x="248" y="141"/>
                  <a:pt x="497" y="283"/>
                  <a:pt x="639" y="421"/>
                </a:cubicBezTo>
                <a:cubicBezTo>
                  <a:pt x="781" y="559"/>
                  <a:pt x="814" y="668"/>
                  <a:pt x="850" y="826"/>
                </a:cubicBezTo>
                <a:cubicBezTo>
                  <a:pt x="886" y="984"/>
                  <a:pt x="887" y="1245"/>
                  <a:pt x="857" y="1371"/>
                </a:cubicBezTo>
                <a:cubicBezTo>
                  <a:pt x="827" y="1497"/>
                  <a:pt x="748" y="1539"/>
                  <a:pt x="670" y="1582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>
            <a:off x="4552920" y="362808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U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>
            <a:off x="6391440" y="258660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>
            <a:off x="8629560" y="127836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8274960" y="14562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F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1098720" y="57106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1992600" y="5177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4232880" y="37929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Arial"/>
              </a:rPr>
              <a:t>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-3960" y="6205680"/>
            <a:ext cx="5025600" cy="419400"/>
          </a:xfrm>
          <a:prstGeom prst="rect">
            <a:avLst/>
          </a:prstGeom>
          <a:solidFill>
            <a:srgbClr val="66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axonomy/ Classificat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rot="19860000">
            <a:off x="1760400" y="5497920"/>
            <a:ext cx="15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ak seman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 rot="19860000">
            <a:off x="6929280" y="2856240"/>
            <a:ext cx="15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ong seman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3038400" y="5349960"/>
            <a:ext cx="3095640" cy="82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Term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: Metal working  machinery, equipment and supplies, metal-cutting machinery, metal-turning equipment, metal-milling equipment, milling insert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urning insert,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Relations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use, used-for, broader-term, narrower-term, related-te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6522480" y="5051880"/>
            <a:ext cx="16635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gical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3205440" y="5180040"/>
            <a:ext cx="20811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led Vocabul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7" name=""/>
          <p:cNvGrpSpPr/>
          <p:nvPr/>
        </p:nvGrpSpPr>
        <p:grpSpPr>
          <a:xfrm>
            <a:off x="0" y="1981080"/>
            <a:ext cx="8673840" cy="3970440"/>
            <a:chOff x="0" y="1981080"/>
            <a:chExt cx="8673840" cy="3970440"/>
          </a:xfrm>
        </p:grpSpPr>
        <p:grpSp>
          <p:nvGrpSpPr>
            <p:cNvPr id="3158" name=""/>
            <p:cNvGrpSpPr/>
            <p:nvPr/>
          </p:nvGrpSpPr>
          <p:grpSpPr>
            <a:xfrm>
              <a:off x="5245200" y="1981080"/>
              <a:ext cx="3428640" cy="503280"/>
              <a:chOff x="5245200" y="1981080"/>
              <a:chExt cx="3428640" cy="503280"/>
            </a:xfrm>
          </p:grpSpPr>
          <p:sp>
            <p:nvSpPr>
              <p:cNvPr id="3159" name=""/>
              <p:cNvSpPr/>
              <p:nvPr/>
            </p:nvSpPr>
            <p:spPr>
              <a:xfrm>
                <a:off x="5245200" y="1981080"/>
                <a:ext cx="3428640" cy="490320"/>
              </a:xfrm>
              <a:prstGeom prst="plus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5537160" y="2035440"/>
                <a:ext cx="284436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blem: Very Gene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mantic Expressivity: Very 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1" name=""/>
            <p:cNvGrpSpPr/>
            <p:nvPr/>
          </p:nvGrpSpPr>
          <p:grpSpPr>
            <a:xfrm>
              <a:off x="0" y="5448240"/>
              <a:ext cx="2997000" cy="503280"/>
              <a:chOff x="0" y="5448240"/>
              <a:chExt cx="2997000" cy="503280"/>
            </a:xfrm>
          </p:grpSpPr>
          <p:sp>
            <p:nvSpPr>
              <p:cNvPr id="3162" name=""/>
              <p:cNvSpPr/>
              <p:nvPr/>
            </p:nvSpPr>
            <p:spPr>
              <a:xfrm>
                <a:off x="0" y="5448240"/>
                <a:ext cx="2997000" cy="490320"/>
              </a:xfrm>
              <a:prstGeom prst="plus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255240" y="5502600"/>
                <a:ext cx="248616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blem: Local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mantic Expressivity: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1447920" y="4280040"/>
              <a:ext cx="3225240" cy="503280"/>
              <a:chOff x="1447920" y="4280040"/>
              <a:chExt cx="3225240" cy="503280"/>
            </a:xfrm>
          </p:grpSpPr>
          <p:sp>
            <p:nvSpPr>
              <p:cNvPr id="3165" name=""/>
              <p:cNvSpPr/>
              <p:nvPr/>
            </p:nvSpPr>
            <p:spPr>
              <a:xfrm>
                <a:off x="1447920" y="4280040"/>
                <a:ext cx="3225240" cy="489960"/>
              </a:xfrm>
              <a:prstGeom prst="plus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1722600" y="4334400"/>
                <a:ext cx="267552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blem: Gene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mantic Expressivity: Medi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7" name=""/>
            <p:cNvGrpSpPr/>
            <p:nvPr/>
          </p:nvGrpSpPr>
          <p:grpSpPr>
            <a:xfrm>
              <a:off x="3340080" y="3137040"/>
              <a:ext cx="3263400" cy="503280"/>
              <a:chOff x="3340080" y="3137040"/>
              <a:chExt cx="3263400" cy="503280"/>
            </a:xfrm>
          </p:grpSpPr>
          <p:sp>
            <p:nvSpPr>
              <p:cNvPr id="3168" name=""/>
              <p:cNvSpPr/>
              <p:nvPr/>
            </p:nvSpPr>
            <p:spPr>
              <a:xfrm>
                <a:off x="3340080" y="3137040"/>
                <a:ext cx="3263400" cy="489960"/>
              </a:xfrm>
              <a:prstGeom prst="plus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3618000" y="3191400"/>
                <a:ext cx="2707200" cy="44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oblem: Local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mantic Expressivity: 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13FA-5268-47AF-86CD-5060D3DA4B28}" type="slidenum">
              <a:t>29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What is B2B E-Commerce?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0000"/>
          </a:bodyPr>
          <a:p>
            <a:pPr marL="27972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2B electronic commerce is everything that land commerce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ed support for information and transac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for vertical and horizontal commercial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marketplace platforms on the Internet that support multiple trading models for and by commercial organiz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6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ctions, reverse auctions, exchang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6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uest-For-Proposal/Request-For-Quote (RFP/RFQ), bookstores, trading hu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720" indent="-279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rich information content on product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6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both buyers and sell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4200" indent="-185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talogs, product guides, market and domain editorial content, news, advert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6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for buying and s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4200" indent="-185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ng, privacy/security, payment processing, order management, profiling/personalization, product configuration, planning/scheduling and forecasting, product life cycle and inventory management, business processes, workflow, and rules, logistics, distribution, and deliver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085F-2C8B-4C0F-BBD4-4FC1597167B4}" type="slidenum">
              <a:t>3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"/>
          <p:cNvSpPr/>
          <p:nvPr/>
        </p:nvSpPr>
        <p:spPr>
          <a:xfrm>
            <a:off x="1495440" y="3657600"/>
            <a:ext cx="2286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1495440" y="4495680"/>
            <a:ext cx="2286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4467240" y="3962520"/>
            <a:ext cx="2286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4467240" y="3124080"/>
            <a:ext cx="2286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4467240" y="2286000"/>
            <a:ext cx="22860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753240" y="4343400"/>
            <a:ext cx="2286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6753240" y="3505320"/>
            <a:ext cx="2286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 flipV="1">
            <a:off x="1647720" y="39621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 flipV="1">
            <a:off x="4619520" y="25905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 flipV="1">
            <a:off x="6905520" y="380988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 flipV="1">
            <a:off x="4619520" y="34290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4695840" y="2286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4695840" y="3124080"/>
            <a:ext cx="92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P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4772160" y="3962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724040" y="3886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1724040" y="4724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6981840" y="3505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cP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6981840" y="43434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809640" y="2362320"/>
            <a:ext cx="220968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5991120" y="2666880"/>
            <a:ext cx="236232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3476520" y="1828800"/>
            <a:ext cx="2362320" cy="29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3800520" y="4915080"/>
            <a:ext cx="20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” Ontology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185760" y="609588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” Ontolog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5805360" y="5791320"/>
            <a:ext cx="35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” Ontology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380880" y="7632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  <a:ea typeface="Times New Roman"/>
              </a:rPr>
              <a:t>Context &amp; Mapping: an Imple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3241800" y="610560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iminate &amp; map how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698480" y="4950000"/>
            <a:ext cx="2133720" cy="1131840"/>
          </a:xfrm>
          <a:custGeom>
            <a:avLst/>
            <a:gdLst/>
            <a:ahLst/>
            <a:rect l="l" t="t" r="r" b="b"/>
            <a:pathLst>
              <a:path w="1344" h="713">
                <a:moveTo>
                  <a:pt x="1344" y="713"/>
                </a:moveTo>
                <a:cubicBezTo>
                  <a:pt x="1242" y="487"/>
                  <a:pt x="1140" y="262"/>
                  <a:pt x="969" y="183"/>
                </a:cubicBezTo>
                <a:cubicBezTo>
                  <a:pt x="798" y="104"/>
                  <a:pt x="481" y="267"/>
                  <a:pt x="320" y="237"/>
                </a:cubicBezTo>
                <a:cubicBezTo>
                  <a:pt x="159" y="207"/>
                  <a:pt x="79" y="103"/>
                  <a:pt x="0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5195880" y="4761000"/>
            <a:ext cx="1760400" cy="1393560"/>
          </a:xfrm>
          <a:custGeom>
            <a:avLst/>
            <a:gdLst/>
            <a:ahLst/>
            <a:rect l="l" t="t" r="r" b="b"/>
            <a:pathLst>
              <a:path w="1137" h="823">
                <a:moveTo>
                  <a:pt x="0" y="823"/>
                </a:moveTo>
                <a:cubicBezTo>
                  <a:pt x="67" y="681"/>
                  <a:pt x="134" y="539"/>
                  <a:pt x="302" y="448"/>
                </a:cubicBezTo>
                <a:cubicBezTo>
                  <a:pt x="470" y="357"/>
                  <a:pt x="875" y="349"/>
                  <a:pt x="1006" y="274"/>
                </a:cubicBezTo>
                <a:cubicBezTo>
                  <a:pt x="1137" y="199"/>
                  <a:pt x="1112" y="99"/>
                  <a:pt x="1088" y="0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FB7A-C1B8-4D63-88ED-FA8900F8DBF6}" type="slidenum">
              <a:t>30</a:t>
            </a:fld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Approach: Context &amp; Mapping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58560" y="158256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_Process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cept to appear in all 3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mapp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have to modify “domain”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s modularity: “domain” ontologies remain stand-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ves domain expert responsible for a given industry’s “domain” for dealing with the domain ontology’s class relationships to other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preserve directed paths or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304A-8611-494C-BC06-87CD10CF8675}" type="slidenum">
              <a:t>31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Times New Roman"/>
              </a:rPr>
              <a:t>An Implementation Plan for an Ontology Editor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/>
          </p:nvPr>
        </p:nvSpPr>
        <p:spPr>
          <a:xfrm>
            <a:off x="358560" y="1553760"/>
            <a:ext cx="8391240" cy="43369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9000"/>
          </a:bodyPr>
          <a:p>
            <a:pPr marL="27648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ion1 implementation: Overload subclass-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er enforces relation-preserving properties according to docum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648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ion2 implementation (when meta-classes are availabl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1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metaclass called "Dom( f )" by Dom( f ) = { ITRoot, WordP } in Ontology 3.  (This is M in diagram.)  ( Note that "Dom( f )" is merely a label in this discussion.  No function Dom( . ) need be define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metaclass called "Ran( f )" by Ran( f ) = { ITRoot_Im_f, WordP_Im_f } in Ontology 2.  (This is N in diagra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ontology called "View( Ontology 3 , Ontology 1 )" that uses both Ontology 3 and Ontology 1.  Then, create a slot called "f" with domain Dom( f ) and range Ran( f 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f by f = { (Ontology 3Root, Ontology 3Root_Im_f), (WordP, WordP_Im_f) }, i.e. attach the slot f to the domain class Dom( f ), and edit each instance of Dom( f ) by entering the target value from Ran( f).  For example, edit the instance Ontology 3Root of Dom( f ) by entering the value Ontology 3Root_Im_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6480" indent="-276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ion3 implementation (when rules are availabl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ep 4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fine rules.For example, define Rule1 on f:  If (X, Y) and (X, Z) are in f, then Y = Z.  (I.e. the relation f is a function). For example, define Rule2 on f:  If X * Y in A, then f(X) * f(Y) in B , where * denotes some binary relation on A and (by abuse of notation) the similarly defined binary relation on 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0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6480"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6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E089-BD39-488F-B85E-CAFB48890F46}" type="slidenum">
              <a:t>32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Ontology of Applications: Context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03" name=""/>
          <p:cNvGrpSpPr/>
          <p:nvPr/>
        </p:nvGrpSpPr>
        <p:grpSpPr>
          <a:xfrm>
            <a:off x="984240" y="1671480"/>
            <a:ext cx="7862760" cy="5186520"/>
            <a:chOff x="984240" y="1671480"/>
            <a:chExt cx="7862760" cy="5186520"/>
          </a:xfrm>
        </p:grpSpPr>
        <p:sp>
          <p:nvSpPr>
            <p:cNvPr id="3204" name=""/>
            <p:cNvSpPr/>
            <p:nvPr/>
          </p:nvSpPr>
          <p:spPr>
            <a:xfrm>
              <a:off x="6833160" y="2739960"/>
              <a:ext cx="11955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ampl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5" name=""/>
            <p:cNvGrpSpPr/>
            <p:nvPr/>
          </p:nvGrpSpPr>
          <p:grpSpPr>
            <a:xfrm>
              <a:off x="984240" y="1671480"/>
              <a:ext cx="7862760" cy="5186520"/>
              <a:chOff x="984240" y="1671480"/>
              <a:chExt cx="7862760" cy="5186520"/>
            </a:xfrm>
          </p:grpSpPr>
          <p:sp>
            <p:nvSpPr>
              <p:cNvPr id="3206" name=""/>
              <p:cNvSpPr/>
              <p:nvPr/>
            </p:nvSpPr>
            <p:spPr>
              <a:xfrm>
                <a:off x="2077920" y="2698920"/>
                <a:ext cx="5108760" cy="2006280"/>
              </a:xfrm>
              <a:custGeom>
                <a:avLst/>
                <a:gdLst/>
                <a:ahLst/>
                <a:rect l="l" t="t" r="r" b="b"/>
                <a:pathLst>
                  <a:path w="3218" h="1264">
                    <a:moveTo>
                      <a:pt x="0" y="0"/>
                    </a:moveTo>
                    <a:cubicBezTo>
                      <a:pt x="745" y="399"/>
                      <a:pt x="1491" y="798"/>
                      <a:pt x="2027" y="1009"/>
                    </a:cubicBezTo>
                    <a:cubicBezTo>
                      <a:pt x="2563" y="1220"/>
                      <a:pt x="2890" y="1242"/>
                      <a:pt x="3218" y="1264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07" name=""/>
              <p:cNvGrpSpPr/>
              <p:nvPr/>
            </p:nvGrpSpPr>
            <p:grpSpPr>
              <a:xfrm>
                <a:off x="984240" y="1671480"/>
                <a:ext cx="7862760" cy="5186520"/>
                <a:chOff x="984240" y="1671480"/>
                <a:chExt cx="7862760" cy="5186520"/>
              </a:xfrm>
            </p:grpSpPr>
            <p:grpSp>
              <p:nvGrpSpPr>
                <p:cNvPr id="3208" name=""/>
                <p:cNvGrpSpPr/>
                <p:nvPr/>
              </p:nvGrpSpPr>
              <p:grpSpPr>
                <a:xfrm>
                  <a:off x="984240" y="1671480"/>
                  <a:ext cx="5372280" cy="2286000"/>
                  <a:chOff x="984240" y="1671480"/>
                  <a:chExt cx="5372280" cy="2286000"/>
                </a:xfrm>
              </p:grpSpPr>
              <p:sp>
                <p:nvSpPr>
                  <p:cNvPr id="3209" name=""/>
                  <p:cNvSpPr/>
                  <p:nvPr/>
                </p:nvSpPr>
                <p:spPr>
                  <a:xfrm>
                    <a:off x="2938320" y="1671480"/>
                    <a:ext cx="1339920" cy="379440"/>
                  </a:xfrm>
                  <a:prstGeom prst="rect">
                    <a:avLst/>
                  </a:prstGeom>
                  <a:solidFill>
                    <a:srgbClr val="ffff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Meta-Knowledg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988920" y="2050920"/>
                    <a:ext cx="5346720" cy="381240"/>
                  </a:xfrm>
                  <a:prstGeom prst="rect">
                    <a:avLst/>
                  </a:prstGeom>
                  <a:solidFill>
                    <a:srgbClr val="cc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pper Ontology: Generic Bas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>
                    <a:off x="2308320" y="2827440"/>
                    <a:ext cx="1339920" cy="379440"/>
                  </a:xfrm>
                  <a:prstGeom prst="rect">
                    <a:avLst/>
                  </a:prstGeom>
                  <a:solidFill>
                    <a:srgbClr val="00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Organization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>
                    <a:off x="2336760" y="3201840"/>
                    <a:ext cx="1339920" cy="381240"/>
                  </a:xfrm>
                  <a:prstGeom prst="rect">
                    <a:avLst/>
                  </a:prstGeom>
                  <a:solidFill>
                    <a:srgbClr val="0000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Interaction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Knowledg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>
                    <a:off x="2335320" y="2460600"/>
                    <a:ext cx="1338120" cy="38088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Workflow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>
                    <a:off x="995400" y="2460600"/>
                    <a:ext cx="1339920" cy="38088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rocess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>
                    <a:off x="984240" y="2822400"/>
                    <a:ext cx="1339920" cy="381240"/>
                  </a:xfrm>
                  <a:prstGeom prst="rect">
                    <a:avLst/>
                  </a:prstGeom>
                  <a:solidFill>
                    <a:srgbClr val="ff81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Products &amp;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Servic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>
                    <a:off x="3675240" y="2460600"/>
                    <a:ext cx="1339560" cy="380880"/>
                  </a:xfrm>
                  <a:prstGeom prst="rect">
                    <a:avLst/>
                  </a:prstGeom>
                  <a:solidFill>
                    <a:srgbClr val="99f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roble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>
                    <a:off x="5002200" y="2836800"/>
                    <a:ext cx="1339920" cy="381240"/>
                  </a:xfrm>
                  <a:prstGeom prst="rect">
                    <a:avLst/>
                  </a:prstGeom>
                  <a:solidFill>
                    <a:srgbClr val="cc00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User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3656160" y="2838600"/>
                    <a:ext cx="1339560" cy="380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pplica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5016600" y="2454120"/>
                    <a:ext cx="1339920" cy="38124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enefits/Qualit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>
                    <a:off x="3040200" y="3576600"/>
                    <a:ext cx="1339560" cy="380880"/>
                  </a:xfrm>
                  <a:prstGeom prst="rect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View/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Presenta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>
                    <a:off x="3681360" y="3208320"/>
                    <a:ext cx="1324080" cy="376200"/>
                  </a:xfrm>
                  <a:prstGeom prst="rect">
                    <a:avLst/>
                  </a:prstGeom>
                  <a:solidFill>
                    <a:srgbClr val="cc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Mapping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Knowledg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2" name=""/>
                <p:cNvGrpSpPr/>
                <p:nvPr/>
              </p:nvGrpSpPr>
              <p:grpSpPr>
                <a:xfrm>
                  <a:off x="5975280" y="3073320"/>
                  <a:ext cx="2871720" cy="3784680"/>
                  <a:chOff x="5975280" y="3073320"/>
                  <a:chExt cx="2871720" cy="3784680"/>
                </a:xfrm>
              </p:grpSpPr>
              <p:sp>
                <p:nvSpPr>
                  <p:cNvPr id="3223" name=""/>
                  <p:cNvSpPr/>
                  <p:nvPr/>
                </p:nvSpPr>
                <p:spPr>
                  <a:xfrm>
                    <a:off x="5975280" y="3073320"/>
                    <a:ext cx="2871720" cy="3784680"/>
                  </a:xfrm>
                  <a:prstGeom prst="ellipse">
                    <a:avLst/>
                  </a:prstGeom>
                  <a:solidFill>
                    <a:srgbClr val="81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>
                    <a:off x="6727680" y="4087800"/>
                    <a:ext cx="1339920" cy="380880"/>
                  </a:xfrm>
                  <a:prstGeom prst="rect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Application: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uyer’s Guid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>
                    <a:off x="6877440" y="3525840"/>
                    <a:ext cx="1031040" cy="33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89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Context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>
                    <a:off x="7175520" y="6369120"/>
                    <a:ext cx="431640" cy="380880"/>
                  </a:xfrm>
                  <a:prstGeom prst="rect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V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>
                    <a:off x="7175520" y="5986440"/>
                    <a:ext cx="431640" cy="380880"/>
                  </a:xfrm>
                  <a:prstGeom prst="rect">
                    <a:avLst/>
                  </a:prstGeom>
                  <a:solidFill>
                    <a:srgbClr val="ff81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>
                    <a:off x="7175520" y="5605560"/>
                    <a:ext cx="431640" cy="380880"/>
                  </a:xfrm>
                  <a:prstGeom prst="rect">
                    <a:avLst/>
                  </a:prstGeom>
                  <a:solidFill>
                    <a:srgbClr val="d6009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>
                    <a:off x="7175520" y="4857840"/>
                    <a:ext cx="431640" cy="380880"/>
                  </a:xfrm>
                  <a:prstGeom prst="rect">
                    <a:avLst/>
                  </a:prstGeom>
                  <a:solidFill>
                    <a:srgbClr val="99f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ro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>
                    <a:off x="7175520" y="5224320"/>
                    <a:ext cx="431640" cy="38124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>
                    <a:off x="7169040" y="4479840"/>
                    <a:ext cx="432000" cy="381240"/>
                  </a:xfrm>
                  <a:prstGeom prst="rect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Pro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2" name=""/>
                <p:cNvSpPr/>
                <p:nvPr/>
              </p:nvSpPr>
              <p:spPr>
                <a:xfrm>
                  <a:off x="5729400" y="2755800"/>
                  <a:ext cx="1414440" cy="2710080"/>
                </a:xfrm>
                <a:custGeom>
                  <a:avLst/>
                  <a:gdLst/>
                  <a:ahLst/>
                  <a:rect l="l" t="t" r="r" b="b"/>
                  <a:pathLst>
                    <a:path w="891" h="1707">
                      <a:moveTo>
                        <a:pt x="0" y="0"/>
                      </a:moveTo>
                      <a:cubicBezTo>
                        <a:pt x="7" y="574"/>
                        <a:pt x="15" y="1149"/>
                        <a:pt x="163" y="1428"/>
                      </a:cubicBezTo>
                      <a:cubicBezTo>
                        <a:pt x="311" y="1707"/>
                        <a:pt x="601" y="1690"/>
                        <a:pt x="891" y="1673"/>
                      </a:cubicBezTo>
                    </a:path>
                  </a:pathLst>
                </a:custGeom>
                <a:noFill/>
                <a:ln w="28440">
                  <a:solidFill>
                    <a:srgbClr val="33cc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5415120" y="3174840"/>
                  <a:ext cx="1698480" cy="2660760"/>
                </a:xfrm>
                <a:custGeom>
                  <a:avLst/>
                  <a:gdLst/>
                  <a:ahLst/>
                  <a:rect l="l" t="t" r="r" b="b"/>
                  <a:pathLst>
                    <a:path w="1070" h="1676">
                      <a:moveTo>
                        <a:pt x="107" y="0"/>
                      </a:moveTo>
                      <a:cubicBezTo>
                        <a:pt x="53" y="562"/>
                        <a:pt x="0" y="1124"/>
                        <a:pt x="161" y="1400"/>
                      </a:cubicBezTo>
                      <a:cubicBezTo>
                        <a:pt x="322" y="1676"/>
                        <a:pt x="696" y="1665"/>
                        <a:pt x="1070" y="1655"/>
                      </a:cubicBezTo>
                    </a:path>
                  </a:pathLst>
                </a:custGeom>
                <a:noFill/>
                <a:ln w="28440">
                  <a:solidFill>
                    <a:srgbClr val="d6009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>
                  <a:off x="2003400" y="3203640"/>
                  <a:ext cx="5124600" cy="3002040"/>
                </a:xfrm>
                <a:custGeom>
                  <a:avLst/>
                  <a:gdLst/>
                  <a:ahLst/>
                  <a:rect l="l" t="t" r="r" b="b"/>
                  <a:pathLst>
                    <a:path w="3228" h="1891">
                      <a:moveTo>
                        <a:pt x="2" y="0"/>
                      </a:moveTo>
                      <a:cubicBezTo>
                        <a:pt x="1" y="336"/>
                        <a:pt x="0" y="673"/>
                        <a:pt x="138" y="946"/>
                      </a:cubicBezTo>
                      <a:cubicBezTo>
                        <a:pt x="276" y="1219"/>
                        <a:pt x="314" y="1480"/>
                        <a:pt x="829" y="1637"/>
                      </a:cubicBezTo>
                      <a:cubicBezTo>
                        <a:pt x="1344" y="1794"/>
                        <a:pt x="2286" y="1842"/>
                        <a:pt x="3228" y="1891"/>
                      </a:cubicBezTo>
                    </a:path>
                  </a:pathLst>
                </a:custGeom>
                <a:noFill/>
                <a:ln w="28440">
                  <a:solidFill>
                    <a:srgbClr val="ff81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>
                  <a:off x="3666960" y="4011480"/>
                  <a:ext cx="3418200" cy="2570400"/>
                </a:xfrm>
                <a:custGeom>
                  <a:avLst/>
                  <a:gdLst/>
                  <a:ahLst/>
                  <a:rect l="l" t="t" r="r" b="b"/>
                  <a:pathLst>
                    <a:path w="2153" h="1619">
                      <a:moveTo>
                        <a:pt x="35" y="0"/>
                      </a:moveTo>
                      <a:cubicBezTo>
                        <a:pt x="17" y="533"/>
                        <a:pt x="0" y="1067"/>
                        <a:pt x="353" y="1337"/>
                      </a:cubicBezTo>
                      <a:cubicBezTo>
                        <a:pt x="706" y="1607"/>
                        <a:pt x="1429" y="1613"/>
                        <a:pt x="2153" y="1619"/>
                      </a:cubicBezTo>
                    </a:path>
                  </a:pathLst>
                </a:custGeom>
                <a:noFill/>
                <a:ln w="28440">
                  <a:solidFill>
                    <a:srgbClr val="99663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4734000" y="2727360"/>
                  <a:ext cx="2409840" cy="2236680"/>
                </a:xfrm>
                <a:custGeom>
                  <a:avLst/>
                  <a:gdLst/>
                  <a:ahLst/>
                  <a:rect l="l" t="t" r="r" b="b"/>
                  <a:pathLst>
                    <a:path w="1518" h="1409">
                      <a:moveTo>
                        <a:pt x="0" y="0"/>
                      </a:moveTo>
                      <a:cubicBezTo>
                        <a:pt x="100" y="223"/>
                        <a:pt x="201" y="447"/>
                        <a:pt x="454" y="682"/>
                      </a:cubicBezTo>
                      <a:cubicBezTo>
                        <a:pt x="707" y="917"/>
                        <a:pt x="1112" y="1163"/>
                        <a:pt x="1518" y="1409"/>
                      </a:cubicBezTo>
                    </a:path>
                  </a:pathLst>
                </a:custGeom>
                <a:noFill/>
                <a:ln w="28440">
                  <a:solidFill>
                    <a:srgbClr val="99cc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37" name=""/>
          <p:cNvGrpSpPr/>
          <p:nvPr/>
        </p:nvGrpSpPr>
        <p:grpSpPr>
          <a:xfrm>
            <a:off x="19080" y="3581280"/>
            <a:ext cx="2895480" cy="3219480"/>
            <a:chOff x="19080" y="3581280"/>
            <a:chExt cx="2895480" cy="3219480"/>
          </a:xfrm>
        </p:grpSpPr>
        <p:grpSp>
          <p:nvGrpSpPr>
            <p:cNvPr id="3238" name=""/>
            <p:cNvGrpSpPr/>
            <p:nvPr/>
          </p:nvGrpSpPr>
          <p:grpSpPr>
            <a:xfrm>
              <a:off x="762120" y="4083120"/>
              <a:ext cx="699840" cy="922320"/>
              <a:chOff x="762120" y="4083120"/>
              <a:chExt cx="699840" cy="922320"/>
            </a:xfrm>
          </p:grpSpPr>
          <p:sp>
            <p:nvSpPr>
              <p:cNvPr id="3239" name=""/>
              <p:cNvSpPr/>
              <p:nvPr/>
            </p:nvSpPr>
            <p:spPr>
              <a:xfrm>
                <a:off x="762120" y="4083120"/>
                <a:ext cx="699840" cy="922320"/>
              </a:xfrm>
              <a:prstGeom prst="ellipse">
                <a:avLst/>
              </a:prstGeom>
              <a:solidFill>
                <a:srgbClr val="81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945360" y="4330080"/>
                <a:ext cx="326520" cy="9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828360" y="4098960"/>
                <a:ext cx="55872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ntex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054440" y="4886280"/>
                <a:ext cx="105120" cy="925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1054440" y="4793040"/>
                <a:ext cx="105120" cy="92520"/>
              </a:xfrm>
              <a:prstGeom prst="rect">
                <a:avLst/>
              </a:prstGeom>
              <a:solidFill>
                <a:srgbClr val="ff81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1054440" y="4700160"/>
                <a:ext cx="105120" cy="92520"/>
              </a:xfrm>
              <a:prstGeom prst="rect">
                <a:avLst/>
              </a:prstGeom>
              <a:solidFill>
                <a:srgbClr val="d600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1054440" y="4518000"/>
                <a:ext cx="105120" cy="9252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1054440" y="4607280"/>
                <a:ext cx="105120" cy="92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1053000" y="4425840"/>
                <a:ext cx="105120" cy="92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8" name=""/>
            <p:cNvGrpSpPr/>
            <p:nvPr/>
          </p:nvGrpSpPr>
          <p:grpSpPr>
            <a:xfrm>
              <a:off x="1257480" y="5321160"/>
              <a:ext cx="699840" cy="922320"/>
              <a:chOff x="1257480" y="5321160"/>
              <a:chExt cx="699840" cy="922320"/>
            </a:xfrm>
          </p:grpSpPr>
          <p:sp>
            <p:nvSpPr>
              <p:cNvPr id="3249" name=""/>
              <p:cNvSpPr/>
              <p:nvPr/>
            </p:nvSpPr>
            <p:spPr>
              <a:xfrm>
                <a:off x="1257480" y="5321160"/>
                <a:ext cx="699840" cy="922320"/>
              </a:xfrm>
              <a:prstGeom prst="ellipse">
                <a:avLst/>
              </a:prstGeom>
              <a:solidFill>
                <a:srgbClr val="81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1440720" y="5568120"/>
                <a:ext cx="326520" cy="925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1323720" y="5337000"/>
                <a:ext cx="55872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ntex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1549800" y="6124320"/>
                <a:ext cx="105120" cy="9252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1549800" y="6031080"/>
                <a:ext cx="105120" cy="92520"/>
              </a:xfrm>
              <a:prstGeom prst="rect">
                <a:avLst/>
              </a:prstGeom>
              <a:solidFill>
                <a:srgbClr val="ff81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1549800" y="5938200"/>
                <a:ext cx="105120" cy="92520"/>
              </a:xfrm>
              <a:prstGeom prst="rect">
                <a:avLst/>
              </a:prstGeom>
              <a:solidFill>
                <a:srgbClr val="d600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1549800" y="5756040"/>
                <a:ext cx="105120" cy="9252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1549800" y="5845320"/>
                <a:ext cx="105120" cy="92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1548360" y="5663880"/>
                <a:ext cx="105120" cy="92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8" name=""/>
            <p:cNvGrpSpPr/>
            <p:nvPr/>
          </p:nvGrpSpPr>
          <p:grpSpPr>
            <a:xfrm>
              <a:off x="285840" y="5302080"/>
              <a:ext cx="699840" cy="922680"/>
              <a:chOff x="285840" y="5302080"/>
              <a:chExt cx="699840" cy="922680"/>
            </a:xfrm>
          </p:grpSpPr>
          <p:sp>
            <p:nvSpPr>
              <p:cNvPr id="3259" name=""/>
              <p:cNvSpPr/>
              <p:nvPr/>
            </p:nvSpPr>
            <p:spPr>
              <a:xfrm>
                <a:off x="285840" y="5302080"/>
                <a:ext cx="699840" cy="922680"/>
              </a:xfrm>
              <a:prstGeom prst="ellipse">
                <a:avLst/>
              </a:prstGeom>
              <a:solidFill>
                <a:srgbClr val="81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69080" y="5549400"/>
                <a:ext cx="326520" cy="928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352080" y="5317920"/>
                <a:ext cx="55872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Contex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78160" y="6105600"/>
                <a:ext cx="105120" cy="9288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78160" y="6012360"/>
                <a:ext cx="105120" cy="92880"/>
              </a:xfrm>
              <a:prstGeom prst="rect">
                <a:avLst/>
              </a:prstGeom>
              <a:solidFill>
                <a:srgbClr val="ff81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78160" y="5919480"/>
                <a:ext cx="105120" cy="92880"/>
              </a:xfrm>
              <a:prstGeom prst="rect">
                <a:avLst/>
              </a:prstGeom>
              <a:solidFill>
                <a:srgbClr val="d600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78160" y="5736960"/>
                <a:ext cx="105120" cy="9288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78160" y="5826600"/>
                <a:ext cx="105120" cy="92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76720" y="5644800"/>
                <a:ext cx="105120" cy="92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8" name=""/>
            <p:cNvSpPr/>
            <p:nvPr/>
          </p:nvSpPr>
          <p:spPr>
            <a:xfrm flipH="1">
              <a:off x="742680" y="5029200"/>
              <a:ext cx="32364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219320" y="5048280"/>
              <a:ext cx="32364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95120" y="6337440"/>
              <a:ext cx="2306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b-ontology of Applic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9080" y="3581280"/>
              <a:ext cx="2895480" cy="3219480"/>
            </a:xfrm>
            <a:custGeom>
              <a:avLst/>
              <a:gdLst/>
              <a:ahLst/>
              <a:rect l="l" t="t" r="r" b="b"/>
              <a:pathLst>
                <a:path w="1680" h="1680">
                  <a:moveTo>
                    <a:pt x="0" y="0"/>
                  </a:moveTo>
                  <a:lnTo>
                    <a:pt x="996" y="264"/>
                  </a:lnTo>
                  <a:lnTo>
                    <a:pt x="1260" y="912"/>
                  </a:lnTo>
                  <a:lnTo>
                    <a:pt x="1680" y="168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9F83-AA81-4E9E-8548-B02BE35B435B}" type="slidenum">
              <a:t>33</a:t>
            </a:fld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rchitecture: Ontology &amp; Applications</a:t>
            </a:r>
            <a:endParaRPr b="0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2571840" y="5869080"/>
            <a:ext cx="5219640" cy="641160"/>
          </a:xfrm>
          <a:prstGeom prst="rect">
            <a:avLst/>
          </a:prstGeom>
          <a:solidFill>
            <a:srgbClr val="81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tology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2571840" y="4916520"/>
            <a:ext cx="5219640" cy="641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ology Application Services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2571840" y="3962520"/>
            <a:ext cx="5219640" cy="641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2571840" y="3009960"/>
            <a:ext cx="5219640" cy="64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 Interface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3067200" y="3371760"/>
            <a:ext cx="380880" cy="819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 flipH="1">
            <a:off x="3104640" y="4286160"/>
            <a:ext cx="419400" cy="704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3181320" y="5505480"/>
            <a:ext cx="36216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2057400" y="5048280"/>
            <a:ext cx="266760" cy="1390680"/>
          </a:xfrm>
          <a:custGeom>
            <a:avLst/>
            <a:gdLst>
              <a:gd name="textAreaLeft" fmla="*/ 170640 w 266760"/>
              <a:gd name="textAreaRight" fmla="*/ 266760 w 266760"/>
              <a:gd name="textAreaTop" fmla="*/ 36000 h 1390680"/>
              <a:gd name="textAreaBottom" fmla="*/ 1354680 h 139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459360" y="5737320"/>
            <a:ext cx="165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Seman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095560" y="3119400"/>
            <a:ext cx="266760" cy="1390680"/>
          </a:xfrm>
          <a:custGeom>
            <a:avLst/>
            <a:gdLst>
              <a:gd name="textAreaLeft" fmla="*/ 170640 w 266760"/>
              <a:gd name="textAreaRight" fmla="*/ 266760 w 266760"/>
              <a:gd name="textAreaTop" fmla="*/ 36000 h 1390680"/>
              <a:gd name="textAreaBottom" fmla="*/ 1354680 h 139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64120" y="3255840"/>
            <a:ext cx="153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1844640" y="4057560"/>
            <a:ext cx="266760" cy="1390680"/>
          </a:xfrm>
          <a:custGeom>
            <a:avLst/>
            <a:gdLst>
              <a:gd name="textAreaLeft" fmla="*/ 170640 w 266760"/>
              <a:gd name="textAreaRight" fmla="*/ 266760 w 266760"/>
              <a:gd name="textAreaTop" fmla="*/ 36000 h 1390680"/>
              <a:gd name="textAreaBottom" fmla="*/ 1354680 h 139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5040" y="4441680"/>
            <a:ext cx="190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Support for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o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4228200" y="26528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4970880" y="265284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5925240" y="2247840"/>
            <a:ext cx="215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ser R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uyer (Engr., Analy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3561480" y="366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4304160" y="3662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237280" y="3662280"/>
            <a:ext cx="94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vi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6192720" y="368136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et/Pu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3563640" y="4633920"/>
            <a:ext cx="15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ke/Get Al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>
            <a:off x="5046480" y="4633920"/>
            <a:ext cx="92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ok-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>
            <a:off x="5855040" y="4633920"/>
            <a:ext cx="137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textual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>
            <a:off x="7200720" y="46339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>
            <a:off x="3294360" y="55738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N/SP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>
            <a:off x="4223160" y="55738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N/SPSC+Attri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5860440" y="5573880"/>
            <a:ext cx="20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N/SPSC+Sub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A6CA-0AE9-44F2-999F-2EAC6185E410}" type="slidenum">
              <a:t>34</a:t>
            </a:fld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Emerging XML Stack Architecture for the Web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80880" y="1854360"/>
            <a:ext cx="44323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Logic: Reasoning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ML-OIL: 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F Schema: 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F: Inst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Schema: Encodings of Data Elements &amp; Descriptions v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056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 Types, Elements, Content Models, Structures, Local Usage Constraints: structural, cardinality, dataty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: Base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rot="16200000">
            <a:off x="-1911240" y="3841200"/>
            <a:ext cx="4356360" cy="216000"/>
          </a:xfrm>
          <a:custGeom>
            <a:avLst/>
            <a:gdLst>
              <a:gd name="textAreaLeft" fmla="*/ 680400 w 4356360"/>
              <a:gd name="textAreaRight" fmla="*/ 3812040 w 4356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4965840" y="2322000"/>
            <a:ext cx="3867120" cy="448920"/>
          </a:xfrm>
          <a:prstGeom prst="bevel">
            <a:avLst>
              <a:gd name="adj" fmla="val 12500"/>
            </a:avLst>
          </a:prstGeom>
          <a:solidFill>
            <a:srgbClr val="66ff3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lligent” Domain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4800600" y="5603760"/>
            <a:ext cx="36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main Nam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5" name=""/>
          <p:cNvGrpSpPr/>
          <p:nvPr/>
        </p:nvGrpSpPr>
        <p:grpSpPr>
          <a:xfrm>
            <a:off x="4699080" y="2946240"/>
            <a:ext cx="4317840" cy="2667240"/>
            <a:chOff x="4699080" y="2946240"/>
            <a:chExt cx="4317840" cy="2667240"/>
          </a:xfrm>
        </p:grpSpPr>
        <p:grpSp>
          <p:nvGrpSpPr>
            <p:cNvPr id="3306" name=""/>
            <p:cNvGrpSpPr/>
            <p:nvPr/>
          </p:nvGrpSpPr>
          <p:grpSpPr>
            <a:xfrm>
              <a:off x="4997520" y="3371760"/>
              <a:ext cx="1816200" cy="1864080"/>
              <a:chOff x="4997520" y="3371760"/>
              <a:chExt cx="1816200" cy="1864080"/>
            </a:xfrm>
          </p:grpSpPr>
          <p:sp>
            <p:nvSpPr>
              <p:cNvPr id="3307" name=""/>
              <p:cNvSpPr/>
              <p:nvPr/>
            </p:nvSpPr>
            <p:spPr>
              <a:xfrm>
                <a:off x="4997520" y="4959360"/>
                <a:ext cx="1816200" cy="27648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yntax: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4997520" y="4562640"/>
                <a:ext cx="1816200" cy="276480"/>
              </a:xfrm>
              <a:prstGeom prst="rect">
                <a:avLst/>
              </a:prstGeom>
              <a:solidFill>
                <a:srgbClr val="ff66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truc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4997520" y="4165560"/>
                <a:ext cx="1816200" cy="276480"/>
              </a:xfrm>
              <a:prstGeom prst="rect">
                <a:avLst/>
              </a:prstGeom>
              <a:solidFill>
                <a:srgbClr val="66ff33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manti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4997520" y="3768840"/>
                <a:ext cx="1816200" cy="2764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igher Semanti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997520" y="3371760"/>
                <a:ext cx="1816200" cy="276480"/>
              </a:xfrm>
              <a:prstGeom prst="rect">
                <a:avLst/>
              </a:prstGeom>
              <a:solidFill>
                <a:srgbClr val="cc99ff"/>
              </a:solidFill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easo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2" name=""/>
            <p:cNvSpPr/>
            <p:nvPr/>
          </p:nvSpPr>
          <p:spPr>
            <a:xfrm>
              <a:off x="6826320" y="4959360"/>
              <a:ext cx="1816200" cy="27648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6826320" y="4562640"/>
              <a:ext cx="1816200" cy="276480"/>
            </a:xfrm>
            <a:prstGeom prst="rect">
              <a:avLst/>
            </a:prstGeom>
            <a:solidFill>
              <a:srgbClr val="ff66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XML Sch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826320" y="4165560"/>
              <a:ext cx="1816200" cy="27648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DF/RDF Sch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6826320" y="3768840"/>
              <a:ext cx="1816200" cy="2764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ML-O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826320" y="3371760"/>
              <a:ext cx="1816200" cy="2764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699080" y="2946240"/>
              <a:ext cx="4317840" cy="266724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7053-0C4E-478B-8B55-76D1C754F535}" type="slidenum">
              <a:t>35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B2B &amp; Ontology: Information &amp; Transaction Needs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e &amp; Manage a Standard Shared Information Space across B2B Content &amp; Commerc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a Common Representation for B2B Products &amp;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usable Shared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le, Extensible, Maintainable Consistent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Representation will Suppo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zation of Products &amp; Services from both Buyer &amp; Seller Perspectives: Buyers’ Guides, Sellers’ Catalogs, Buyer’s Navigation &amp;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ric Search: identification and definition of properties &amp; attributes of Products &amp; Services for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” Representation beyond Databases En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” Search: rich search based on interrelationships and meaning, not just keyword occurrence in product spec sheets and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Assistance to Buyers &amp; Sellers: related products, cross-selling, context-based classification/search/navigation/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80D5-AAE6-4B14-B527-AF082DA7177B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Cloud"/>
          <p:cNvSpPr/>
          <p:nvPr/>
        </p:nvSpPr>
        <p:spPr>
          <a:xfrm>
            <a:off x="1752480" y="1066680"/>
            <a:ext cx="4572000" cy="213372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886200"/>
            <a:ext cx="2133360" cy="900000"/>
            <a:chOff x="304920" y="3886200"/>
            <a:chExt cx="2133360" cy="900000"/>
          </a:xfrm>
        </p:grpSpPr>
        <p:sp>
          <p:nvSpPr>
            <p:cNvPr id="111" name=""/>
            <p:cNvSpPr/>
            <p:nvPr/>
          </p:nvSpPr>
          <p:spPr>
            <a:xfrm>
              <a:off x="2286000" y="4557600"/>
              <a:ext cx="152280" cy="2286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4557600"/>
              <a:ext cx="457200" cy="2286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71600" y="4557600"/>
              <a:ext cx="457200" cy="2286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1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8080" y="4557600"/>
              <a:ext cx="533520" cy="2286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qu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4920" y="4557600"/>
              <a:ext cx="533160" cy="22860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XAB0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251240"/>
              <a:ext cx="152280" cy="3063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4251240"/>
              <a:ext cx="457200" cy="3063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4251240"/>
              <a:ext cx="457200" cy="3063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1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080" y="4251240"/>
              <a:ext cx="533520" cy="3063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920" y="4251240"/>
              <a:ext cx="533160" cy="30636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XAB0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3886200"/>
              <a:ext cx="152280" cy="36504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886200"/>
              <a:ext cx="457200" cy="36504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ice ($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71600" y="3886200"/>
              <a:ext cx="457200" cy="36504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ize (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3886200"/>
              <a:ext cx="533520" cy="36504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h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3886200"/>
              <a:ext cx="533160" cy="36504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atalog N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920" y="3886200"/>
              <a:ext cx="2133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920" y="4251240"/>
              <a:ext cx="21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20" y="4557600"/>
              <a:ext cx="21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920" y="4786200"/>
              <a:ext cx="2133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920" y="3886200"/>
              <a:ext cx="0" cy="90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080" y="3886200"/>
              <a:ext cx="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1600" y="3886200"/>
              <a:ext cx="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8800" y="3886200"/>
              <a:ext cx="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0" y="3886200"/>
              <a:ext cx="0" cy="90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38280" y="3886200"/>
              <a:ext cx="0" cy="90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743200" y="4038480"/>
            <a:ext cx="2133720" cy="900360"/>
            <a:chOff x="2743200" y="4038480"/>
            <a:chExt cx="2133720" cy="900360"/>
          </a:xfrm>
        </p:grpSpPr>
        <p:sp>
          <p:nvSpPr>
            <p:cNvPr id="137" name=""/>
            <p:cNvSpPr/>
            <p:nvPr/>
          </p:nvSpPr>
          <p:spPr>
            <a:xfrm>
              <a:off x="4648320" y="4710240"/>
              <a:ext cx="22860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14800" y="4710240"/>
              <a:ext cx="5335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.4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57600" y="4710240"/>
              <a:ext cx="45720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0400" y="4710240"/>
              <a:ext cx="45720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43200" y="4710240"/>
              <a:ext cx="45720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5502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48320" y="4403880"/>
              <a:ext cx="228600" cy="3063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4403880"/>
              <a:ext cx="533520" cy="3063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.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7600" y="4403880"/>
              <a:ext cx="457200" cy="3063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3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400" y="4403880"/>
              <a:ext cx="457200" cy="3063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4403880"/>
              <a:ext cx="457200" cy="3063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4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5502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8320" y="4038480"/>
              <a:ext cx="228600" cy="365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14800" y="4038480"/>
              <a:ext cx="533520" cy="365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ice ($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57600" y="4038480"/>
              <a:ext cx="457200" cy="365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iam (m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4038480"/>
              <a:ext cx="457200" cy="365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Geo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3200" y="4038480"/>
              <a:ext cx="457200" cy="365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t N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3200" y="4038480"/>
              <a:ext cx="2133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4403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3200" y="471024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43200" y="4938840"/>
              <a:ext cx="2133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3200" y="4038480"/>
              <a:ext cx="0" cy="90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4038480"/>
              <a:ext cx="0" cy="9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57600" y="4038480"/>
              <a:ext cx="0" cy="9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14800" y="4038480"/>
              <a:ext cx="0" cy="9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8320" y="4038480"/>
              <a:ext cx="0" cy="90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4038480"/>
              <a:ext cx="0" cy="900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4114800" y="1447920"/>
            <a:ext cx="80028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as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20600" y="198108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talog 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58680" y="213372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8520" y="2209680"/>
            <a:ext cx="4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2" idx="2"/>
            <a:endCxn id="163" idx="0"/>
          </p:cNvCxnSpPr>
          <p:nvPr/>
        </p:nvCxnSpPr>
        <p:spPr>
          <a:xfrm flipH="1">
            <a:off x="3242520" y="1676520"/>
            <a:ext cx="872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2" idx="3"/>
            <a:endCxn id="164" idx="0"/>
          </p:cNvCxnSpPr>
          <p:nvPr/>
        </p:nvCxnSpPr>
        <p:spPr>
          <a:xfrm flipH="1">
            <a:off x="3931560" y="1837800"/>
            <a:ext cx="3006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2" idx="4"/>
            <a:endCxn id="165" idx="0"/>
          </p:cNvCxnSpPr>
          <p:nvPr/>
        </p:nvCxnSpPr>
        <p:spPr>
          <a:xfrm flipH="1">
            <a:off x="4481280" y="1905120"/>
            <a:ext cx="3384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" name=""/>
          <p:cNvSpPr/>
          <p:nvPr/>
        </p:nvSpPr>
        <p:spPr>
          <a:xfrm flipV="1">
            <a:off x="609480" y="2209320"/>
            <a:ext cx="2362320" cy="1676520"/>
          </a:xfrm>
          <a:prstGeom prst="line">
            <a:avLst/>
          </a:prstGeom>
          <a:ln w="284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066680" y="2361960"/>
            <a:ext cx="2743200" cy="1523880"/>
          </a:xfrm>
          <a:prstGeom prst="line">
            <a:avLst/>
          </a:prstGeom>
          <a:ln w="284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00200" y="2438280"/>
            <a:ext cx="2743200" cy="1447920"/>
          </a:xfrm>
          <a:prstGeom prst="line">
            <a:avLst/>
          </a:prstGeom>
          <a:ln w="284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8000" y="228600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2" idx="5"/>
            <a:endCxn id="172" idx="0"/>
          </p:cNvCxnSpPr>
          <p:nvPr/>
        </p:nvCxnSpPr>
        <p:spPr>
          <a:xfrm>
            <a:off x="4797000" y="1838160"/>
            <a:ext cx="315000" cy="448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 flipV="1">
            <a:off x="2057400" y="2514600"/>
            <a:ext cx="2895480" cy="1371600"/>
          </a:xfrm>
          <a:prstGeom prst="line">
            <a:avLst/>
          </a:prstGeom>
          <a:ln w="2844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971800" y="2209680"/>
            <a:ext cx="76320" cy="18288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429000" y="2362320"/>
            <a:ext cx="457200" cy="1676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886200" y="2437920"/>
            <a:ext cx="609480" cy="1600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419720" y="2514240"/>
            <a:ext cx="609480" cy="1523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486400" y="3581280"/>
            <a:ext cx="3429000" cy="1322640"/>
            <a:chOff x="5486400" y="3581280"/>
            <a:chExt cx="3429000" cy="1322640"/>
          </a:xfrm>
        </p:grpSpPr>
        <p:sp>
          <p:nvSpPr>
            <p:cNvPr id="180" name=""/>
            <p:cNvSpPr/>
            <p:nvPr/>
          </p:nvSpPr>
          <p:spPr>
            <a:xfrm>
              <a:off x="5486400" y="4662360"/>
              <a:ext cx="838080" cy="24156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Metal Cor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6400" y="4433760"/>
              <a:ext cx="838080" cy="2286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E-Mach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86400" y="4191120"/>
              <a:ext cx="838080" cy="2426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Metal Cor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3946680"/>
              <a:ext cx="838080" cy="2444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E-Mach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86400" y="3581280"/>
              <a:ext cx="838080" cy="3654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anufactu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45400" y="4433760"/>
              <a:ext cx="270000" cy="2286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37360" y="4433760"/>
              <a:ext cx="608040" cy="2286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.4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9640" y="4433760"/>
              <a:ext cx="477720" cy="2286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1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21360" y="4433760"/>
              <a:ext cx="638280" cy="2286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qu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4480" y="4433760"/>
              <a:ext cx="596880" cy="2286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5502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645400" y="3946680"/>
              <a:ext cx="270000" cy="2444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37360" y="3946680"/>
              <a:ext cx="608040" cy="2444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.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9640" y="3946680"/>
              <a:ext cx="477720" cy="2444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1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1360" y="3946680"/>
              <a:ext cx="638280" cy="2444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480" y="3946680"/>
              <a:ext cx="596880" cy="2444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5502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45400" y="4191120"/>
              <a:ext cx="270000" cy="2426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37360" y="4191120"/>
              <a:ext cx="608040" cy="2426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.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59640" y="4191120"/>
              <a:ext cx="477720" cy="2426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1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21360" y="4191120"/>
              <a:ext cx="638280" cy="2426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Rou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24480" y="4191120"/>
              <a:ext cx="596880" cy="24264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XAB0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645400" y="4662360"/>
              <a:ext cx="270000" cy="24156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37360" y="4662360"/>
              <a:ext cx="608040" cy="24156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59640" y="4662360"/>
              <a:ext cx="477720" cy="24156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1.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1360" y="4662360"/>
              <a:ext cx="638280" cy="24156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qu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24480" y="4662360"/>
              <a:ext cx="596880" cy="24156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XAB03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45400" y="3581280"/>
              <a:ext cx="270000" cy="3654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37360" y="3581280"/>
              <a:ext cx="608040" cy="3654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ice ($U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59640" y="3581280"/>
              <a:ext cx="477720" cy="3654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5000"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ize (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21360" y="3581280"/>
              <a:ext cx="638280" cy="3654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Sha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24480" y="3581280"/>
              <a:ext cx="596880" cy="365400"/>
            </a:xfrm>
            <a:prstGeom prst="rect">
              <a:avLst/>
            </a:prstGeom>
            <a:solidFill>
              <a:srgbClr val="ff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Mfr N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86400" y="358128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6400" y="394668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6400" y="4903920"/>
              <a:ext cx="3429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6400" y="3581280"/>
              <a:ext cx="0" cy="1322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21360" y="3581280"/>
              <a:ext cx="0" cy="132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59640" y="3581280"/>
              <a:ext cx="0" cy="132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37360" y="3581280"/>
              <a:ext cx="0" cy="132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45400" y="3581280"/>
              <a:ext cx="0" cy="132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15400" y="3581280"/>
              <a:ext cx="0" cy="1322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86400" y="443376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86400" y="419112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86400" y="4662360"/>
              <a:ext cx="342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24480" y="3581280"/>
              <a:ext cx="0" cy="132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181480" y="2590920"/>
            <a:ext cx="3200400" cy="9144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2514600"/>
            <a:ext cx="3276720" cy="9907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38480" y="2438280"/>
            <a:ext cx="3124440" cy="10670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286000"/>
            <a:ext cx="3276360" cy="121932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762120" y="5638680"/>
            <a:ext cx="1142640" cy="841320"/>
            <a:chOff x="762120" y="5638680"/>
            <a:chExt cx="1142640" cy="841320"/>
          </a:xfrm>
        </p:grpSpPr>
        <p:sp>
          <p:nvSpPr>
            <p:cNvPr id="228" name=""/>
            <p:cNvSpPr/>
            <p:nvPr/>
          </p:nvSpPr>
          <p:spPr>
            <a:xfrm>
              <a:off x="762120" y="5638680"/>
              <a:ext cx="1142640" cy="841320"/>
            </a:xfrm>
            <a:prstGeom prst="can">
              <a:avLst>
                <a:gd name="adj" fmla="val 25000"/>
              </a:avLst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9880" y="5916600"/>
              <a:ext cx="1012680" cy="33732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upplier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290760" y="5791320"/>
            <a:ext cx="1004760" cy="912240"/>
            <a:chOff x="3290760" y="5791320"/>
            <a:chExt cx="1004760" cy="912240"/>
          </a:xfrm>
        </p:grpSpPr>
        <p:sp>
          <p:nvSpPr>
            <p:cNvPr id="231" name=""/>
            <p:cNvSpPr/>
            <p:nvPr/>
          </p:nvSpPr>
          <p:spPr>
            <a:xfrm>
              <a:off x="3290760" y="5791320"/>
              <a:ext cx="1004760" cy="912240"/>
            </a:xfrm>
            <a:prstGeom prst="can">
              <a:avLst>
                <a:gd name="adj" fmla="val 25000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41160" y="6083640"/>
              <a:ext cx="892440" cy="5806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Suppli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90720" y="4876920"/>
            <a:ext cx="685800" cy="609480"/>
          </a:xfrm>
          <a:prstGeom prst="upArrow">
            <a:avLst>
              <a:gd name="adj1" fmla="val 50000"/>
              <a:gd name="adj2" fmla="val 53273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05320" y="5029200"/>
            <a:ext cx="685800" cy="609480"/>
          </a:xfrm>
          <a:prstGeom prst="upArrow">
            <a:avLst>
              <a:gd name="adj1" fmla="val 50000"/>
              <a:gd name="adj2" fmla="val 5327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81640" y="5099040"/>
            <a:ext cx="762120" cy="457200"/>
          </a:xfrm>
          <a:prstGeom prst="downArrow">
            <a:avLst>
              <a:gd name="adj1" fmla="val 50000"/>
              <a:gd name="adj2" fmla="val 55954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aptop"/>
          <p:cNvSpPr/>
          <p:nvPr/>
        </p:nvSpPr>
        <p:spPr>
          <a:xfrm>
            <a:off x="6019920" y="5638680"/>
            <a:ext cx="1295280" cy="905040"/>
          </a:xfrm>
          <a:prstGeom prst="pi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4480" y="137016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657600"/>
            <a:ext cx="76212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90920" y="3809880"/>
            <a:ext cx="76176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1752480"/>
            <a:ext cx="76176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48520" y="3352680"/>
            <a:ext cx="76176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120" y="208080"/>
            <a:ext cx="757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A Business Example of Ontolog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9FE2-C7F9-4B26-877C-97DEA5C395DD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304920" y="609480"/>
            <a:ext cx="8418240" cy="6174360"/>
            <a:chOff x="304920" y="609480"/>
            <a:chExt cx="8418240" cy="6174360"/>
          </a:xfrm>
        </p:grpSpPr>
        <p:sp>
          <p:nvSpPr>
            <p:cNvPr id="244" name=""/>
            <p:cNvSpPr/>
            <p:nvPr/>
          </p:nvSpPr>
          <p:spPr>
            <a:xfrm>
              <a:off x="304920" y="1219320"/>
              <a:ext cx="8418240" cy="52466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87760" y="1771560"/>
              <a:ext cx="2550960" cy="1387440"/>
            </a:xfrm>
            <a:custGeom>
              <a:avLst/>
              <a:gdLst/>
              <a:ahLst/>
              <a:rect l="l" t="t" r="r" b="b"/>
              <a:pathLst>
                <a:path w="1607" h="874">
                  <a:moveTo>
                    <a:pt x="1416" y="871"/>
                  </a:moveTo>
                  <a:cubicBezTo>
                    <a:pt x="1264" y="861"/>
                    <a:pt x="1104" y="861"/>
                    <a:pt x="956" y="817"/>
                  </a:cubicBezTo>
                  <a:cubicBezTo>
                    <a:pt x="882" y="795"/>
                    <a:pt x="814" y="764"/>
                    <a:pt x="738" y="747"/>
                  </a:cubicBezTo>
                  <a:cubicBezTo>
                    <a:pt x="701" y="728"/>
                    <a:pt x="661" y="720"/>
                    <a:pt x="621" y="708"/>
                  </a:cubicBezTo>
                  <a:lnTo>
                    <a:pt x="559" y="637"/>
                  </a:lnTo>
                  <a:cubicBezTo>
                    <a:pt x="559" y="637"/>
                    <a:pt x="559" y="637"/>
                    <a:pt x="559" y="637"/>
                  </a:cubicBezTo>
                  <a:cubicBezTo>
                    <a:pt x="516" y="573"/>
                    <a:pt x="469" y="515"/>
                    <a:pt x="403" y="474"/>
                  </a:cubicBezTo>
                  <a:cubicBezTo>
                    <a:pt x="378" y="434"/>
                    <a:pt x="348" y="421"/>
                    <a:pt x="310" y="396"/>
                  </a:cubicBezTo>
                  <a:cubicBezTo>
                    <a:pt x="278" y="348"/>
                    <a:pt x="208" y="334"/>
                    <a:pt x="154" y="318"/>
                  </a:cubicBezTo>
                  <a:cubicBezTo>
                    <a:pt x="128" y="311"/>
                    <a:pt x="109" y="296"/>
                    <a:pt x="84" y="287"/>
                  </a:cubicBezTo>
                  <a:cubicBezTo>
                    <a:pt x="68" y="266"/>
                    <a:pt x="52" y="245"/>
                    <a:pt x="37" y="224"/>
                  </a:cubicBezTo>
                  <a:cubicBezTo>
                    <a:pt x="26" y="209"/>
                    <a:pt x="6" y="178"/>
                    <a:pt x="6" y="178"/>
                  </a:cubicBezTo>
                  <a:cubicBezTo>
                    <a:pt x="10" y="144"/>
                    <a:pt x="0" y="103"/>
                    <a:pt x="21" y="76"/>
                  </a:cubicBezTo>
                  <a:cubicBezTo>
                    <a:pt x="68" y="17"/>
                    <a:pt x="255" y="11"/>
                    <a:pt x="317" y="6"/>
                  </a:cubicBezTo>
                  <a:cubicBezTo>
                    <a:pt x="675" y="10"/>
                    <a:pt x="1019" y="0"/>
                    <a:pt x="1369" y="61"/>
                  </a:cubicBezTo>
                  <a:cubicBezTo>
                    <a:pt x="1402" y="77"/>
                    <a:pt x="1427" y="85"/>
                    <a:pt x="1463" y="92"/>
                  </a:cubicBezTo>
                  <a:cubicBezTo>
                    <a:pt x="1483" y="104"/>
                    <a:pt x="1507" y="108"/>
                    <a:pt x="1525" y="123"/>
                  </a:cubicBezTo>
                  <a:cubicBezTo>
                    <a:pt x="1549" y="143"/>
                    <a:pt x="1566" y="182"/>
                    <a:pt x="1580" y="209"/>
                  </a:cubicBezTo>
                  <a:cubicBezTo>
                    <a:pt x="1597" y="326"/>
                    <a:pt x="1607" y="442"/>
                    <a:pt x="1580" y="560"/>
                  </a:cubicBezTo>
                  <a:cubicBezTo>
                    <a:pt x="1572" y="596"/>
                    <a:pt x="1557" y="640"/>
                    <a:pt x="1533" y="669"/>
                  </a:cubicBezTo>
                  <a:cubicBezTo>
                    <a:pt x="1519" y="686"/>
                    <a:pt x="1486" y="715"/>
                    <a:pt x="1486" y="715"/>
                  </a:cubicBezTo>
                  <a:cubicBezTo>
                    <a:pt x="1484" y="723"/>
                    <a:pt x="1483" y="732"/>
                    <a:pt x="1479" y="739"/>
                  </a:cubicBezTo>
                  <a:cubicBezTo>
                    <a:pt x="1475" y="747"/>
                    <a:pt x="1466" y="753"/>
                    <a:pt x="1463" y="762"/>
                  </a:cubicBezTo>
                  <a:cubicBezTo>
                    <a:pt x="1449" y="799"/>
                    <a:pt x="1450" y="811"/>
                    <a:pt x="1432" y="848"/>
                  </a:cubicBezTo>
                  <a:cubicBezTo>
                    <a:pt x="1420" y="874"/>
                    <a:pt x="1433" y="871"/>
                    <a:pt x="1416" y="871"/>
                  </a:cubicBez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8920" y="2076480"/>
              <a:ext cx="3390840" cy="4292640"/>
            </a:xfrm>
            <a:custGeom>
              <a:avLst/>
              <a:gdLst/>
              <a:ahLst/>
              <a:rect l="l" t="t" r="r" b="b"/>
              <a:pathLst>
                <a:path w="2136" h="2704">
                  <a:moveTo>
                    <a:pt x="1262" y="152"/>
                  </a:moveTo>
                  <a:cubicBezTo>
                    <a:pt x="1088" y="128"/>
                    <a:pt x="760" y="0"/>
                    <a:pt x="566" y="32"/>
                  </a:cubicBezTo>
                  <a:cubicBezTo>
                    <a:pt x="372" y="64"/>
                    <a:pt x="178" y="4"/>
                    <a:pt x="98" y="344"/>
                  </a:cubicBezTo>
                  <a:cubicBezTo>
                    <a:pt x="18" y="684"/>
                    <a:pt x="60" y="1696"/>
                    <a:pt x="86" y="2072"/>
                  </a:cubicBezTo>
                  <a:cubicBezTo>
                    <a:pt x="112" y="2448"/>
                    <a:pt x="0" y="2526"/>
                    <a:pt x="254" y="2600"/>
                  </a:cubicBezTo>
                  <a:cubicBezTo>
                    <a:pt x="508" y="2674"/>
                    <a:pt x="1304" y="2704"/>
                    <a:pt x="1610" y="2516"/>
                  </a:cubicBezTo>
                  <a:cubicBezTo>
                    <a:pt x="1916" y="2328"/>
                    <a:pt x="2044" y="1784"/>
                    <a:pt x="2090" y="1472"/>
                  </a:cubicBezTo>
                  <a:cubicBezTo>
                    <a:pt x="2136" y="1160"/>
                    <a:pt x="1966" y="860"/>
                    <a:pt x="1886" y="644"/>
                  </a:cubicBezTo>
                  <a:cubicBezTo>
                    <a:pt x="1806" y="428"/>
                    <a:pt x="1716" y="260"/>
                    <a:pt x="1610" y="176"/>
                  </a:cubicBezTo>
                  <a:cubicBezTo>
                    <a:pt x="1504" y="92"/>
                    <a:pt x="1436" y="176"/>
                    <a:pt x="1262" y="152"/>
                  </a:cubicBez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00360" y="5022720"/>
              <a:ext cx="736560" cy="666720"/>
            </a:xfrm>
            <a:prstGeom prst="line">
              <a:avLst/>
            </a:prstGeom>
            <a:ln w="1908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80400" y="559260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E-comme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Area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Inter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Mostly Th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752120" y="2719440"/>
              <a:ext cx="952920" cy="765000"/>
              <a:chOff x="1752120" y="2719440"/>
              <a:chExt cx="952920" cy="765000"/>
            </a:xfrm>
          </p:grpSpPr>
          <p:sp>
            <p:nvSpPr>
              <p:cNvPr id="250" name=""/>
              <p:cNvSpPr/>
              <p:nvPr/>
            </p:nvSpPr>
            <p:spPr>
              <a:xfrm flipH="1">
                <a:off x="1752120" y="2719440"/>
                <a:ext cx="476280" cy="763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228760" y="2719440"/>
                <a:ext cx="476280" cy="763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752480" y="3484440"/>
                <a:ext cx="952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3695400" y="2719440"/>
              <a:ext cx="952920" cy="765000"/>
              <a:chOff x="3695400" y="2719440"/>
              <a:chExt cx="952920" cy="76500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3695400" y="2719440"/>
                <a:ext cx="476280" cy="763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72040" y="2719440"/>
                <a:ext cx="476280" cy="76356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95760" y="3484440"/>
                <a:ext cx="952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486400" y="2643120"/>
              <a:ext cx="704880" cy="878040"/>
            </a:xfrm>
            <a:custGeom>
              <a:avLst/>
              <a:gdLst>
                <a:gd name="textAreaLeft" fmla="*/ 0 w 704880"/>
                <a:gd name="textAreaRight" fmla="*/ 254520 w 704880"/>
                <a:gd name="textAreaTop" fmla="*/ 22680 h 878040"/>
                <a:gd name="textAreaBottom" fmla="*/ 855360 h 87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67840" y="2774880"/>
              <a:ext cx="19562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ddle 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Domain-span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nowled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92080" y="1314360"/>
              <a:ext cx="207036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st General T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7320" y="1574640"/>
              <a:ext cx="704880" cy="992520"/>
            </a:xfrm>
            <a:custGeom>
              <a:avLst/>
              <a:gdLst>
                <a:gd name="textAreaLeft" fmla="*/ 0 w 704880"/>
                <a:gd name="textAreaRight" fmla="*/ 254520 w 704880"/>
                <a:gd name="textAreaTop" fmla="*/ 25560 h 992520"/>
                <a:gd name="textAreaBottom" fmla="*/ 966960 h 99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1280" y="1803240"/>
              <a:ext cx="199116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pper 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Generic Comm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nowled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2209680" y="1536840"/>
              <a:ext cx="3009960" cy="1182600"/>
              <a:chOff x="2209680" y="1536840"/>
              <a:chExt cx="3009960" cy="11826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2209680" y="1536840"/>
                <a:ext cx="3009960" cy="1182600"/>
                <a:chOff x="2209680" y="1536840"/>
                <a:chExt cx="3009960" cy="1182600"/>
              </a:xfrm>
            </p:grpSpPr>
            <p:sp>
              <p:nvSpPr>
                <p:cNvPr id="264" name=""/>
                <p:cNvSpPr/>
                <p:nvPr/>
              </p:nvSpPr>
              <p:spPr>
                <a:xfrm flipH="1">
                  <a:off x="2209680" y="1536840"/>
                  <a:ext cx="1504800" cy="118260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714480" y="1536840"/>
                  <a:ext cx="1505160" cy="1182600"/>
                </a:xfrm>
                <a:prstGeom prst="line">
                  <a:avLst/>
                </a:prstGeom>
                <a:ln w="2844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2228760" y="2719440"/>
                <a:ext cx="2962080" cy="0"/>
              </a:xfrm>
              <a:prstGeom prst="line">
                <a:avLst/>
              </a:prstGeom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958320" y="2509920"/>
              <a:ext cx="195012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s/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36720" y="1866960"/>
              <a:ext cx="119556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42760" y="2338560"/>
              <a:ext cx="15310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87720" y="1866960"/>
              <a:ext cx="113616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c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257480" y="3490920"/>
              <a:ext cx="952200" cy="765000"/>
              <a:chOff x="1257480" y="3490920"/>
              <a:chExt cx="952200" cy="76500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1257480" y="3490920"/>
                <a:ext cx="475920" cy="7635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33400" y="3490920"/>
                <a:ext cx="475920" cy="7635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57480" y="4255920"/>
                <a:ext cx="95220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247480" y="3490920"/>
              <a:ext cx="952920" cy="765000"/>
              <a:chOff x="2247480" y="3490920"/>
              <a:chExt cx="952920" cy="765000"/>
            </a:xfrm>
          </p:grpSpPr>
          <p:sp>
            <p:nvSpPr>
              <p:cNvPr id="276" name=""/>
              <p:cNvSpPr/>
              <p:nvPr/>
            </p:nvSpPr>
            <p:spPr>
              <a:xfrm flipH="1">
                <a:off x="2247480" y="3490920"/>
                <a:ext cx="476280" cy="7635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724120" y="3490920"/>
                <a:ext cx="476280" cy="7635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47840" y="4255920"/>
                <a:ext cx="95256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171680" y="3490920"/>
              <a:ext cx="952920" cy="765000"/>
              <a:chOff x="4171680" y="3490920"/>
              <a:chExt cx="952920" cy="7650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4171680" y="3490920"/>
                <a:ext cx="476280" cy="7635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648320" y="3490920"/>
                <a:ext cx="476280" cy="7635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172040" y="4255920"/>
                <a:ext cx="95256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180960" y="3490920"/>
              <a:ext cx="952920" cy="765000"/>
              <a:chOff x="3180960" y="3490920"/>
              <a:chExt cx="952920" cy="765000"/>
            </a:xfrm>
          </p:grpSpPr>
          <p:sp>
            <p:nvSpPr>
              <p:cNvPr id="284" name=""/>
              <p:cNvSpPr/>
              <p:nvPr/>
            </p:nvSpPr>
            <p:spPr>
              <a:xfrm flipH="1">
                <a:off x="3180960" y="3490920"/>
                <a:ext cx="476280" cy="7635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657600" y="3490920"/>
                <a:ext cx="476280" cy="76356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181320" y="4255920"/>
                <a:ext cx="952560" cy="0"/>
              </a:xfrm>
              <a:prstGeom prst="line">
                <a:avLst/>
              </a:prstGeom>
              <a:ln w="2844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486400" y="3614760"/>
              <a:ext cx="704880" cy="668160"/>
            </a:xfrm>
            <a:custGeom>
              <a:avLst/>
              <a:gdLst>
                <a:gd name="textAreaLeft" fmla="*/ 0 w 704880"/>
                <a:gd name="textAreaRight" fmla="*/ 254520 w 704880"/>
                <a:gd name="textAreaTop" fmla="*/ 17280 h 668160"/>
                <a:gd name="textAreaBottom" fmla="*/ 650880 h 66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72800" y="3632040"/>
              <a:ext cx="214812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wer 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individual domain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6800" y="3562200"/>
              <a:ext cx="144252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inery &amp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97360" y="3790800"/>
              <a:ext cx="141660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ectro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047240" y="4262400"/>
              <a:ext cx="476640" cy="1393560"/>
              <a:chOff x="1047240" y="4262400"/>
              <a:chExt cx="476640" cy="139356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1047240" y="4262400"/>
                <a:ext cx="237960" cy="1390680"/>
              </a:xfrm>
              <a:prstGeom prst="line">
                <a:avLst/>
              </a:prstGeom>
              <a:ln w="2844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285560" y="4262400"/>
                <a:ext cx="237960" cy="1390680"/>
              </a:xfrm>
              <a:prstGeom prst="line">
                <a:avLst/>
              </a:prstGeom>
              <a:ln w="2844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47600" y="5655960"/>
                <a:ext cx="476280" cy="0"/>
              </a:xfrm>
              <a:prstGeom prst="line">
                <a:avLst/>
              </a:prstGeom>
              <a:ln w="2844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618920" y="4262400"/>
              <a:ext cx="476640" cy="1393560"/>
              <a:chOff x="1618920" y="4262400"/>
              <a:chExt cx="476640" cy="1393560"/>
            </a:xfrm>
          </p:grpSpPr>
          <p:sp>
            <p:nvSpPr>
              <p:cNvPr id="296" name=""/>
              <p:cNvSpPr/>
              <p:nvPr/>
            </p:nvSpPr>
            <p:spPr>
              <a:xfrm flipH="1">
                <a:off x="1618920" y="4262400"/>
                <a:ext cx="237960" cy="1390680"/>
              </a:xfrm>
              <a:prstGeom prst="line">
                <a:avLst/>
              </a:prstGeom>
              <a:ln w="2844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57240" y="4262400"/>
                <a:ext cx="237960" cy="1390680"/>
              </a:xfrm>
              <a:prstGeom prst="line">
                <a:avLst/>
              </a:prstGeom>
              <a:ln w="2844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19280" y="5655960"/>
                <a:ext cx="476280" cy="0"/>
              </a:xfrm>
              <a:prstGeom prst="line">
                <a:avLst/>
              </a:prstGeom>
              <a:ln w="28440">
                <a:solidFill>
                  <a:srgbClr val="99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5524560" y="4395960"/>
              <a:ext cx="704880" cy="1163520"/>
            </a:xfrm>
            <a:custGeom>
              <a:avLst/>
              <a:gdLst>
                <a:gd name="textAreaLeft" fmla="*/ 0 w 704880"/>
                <a:gd name="textAreaRight" fmla="*/ 254520 w 704880"/>
                <a:gd name="textAreaTop" fmla="*/ 30240 h 1163520"/>
                <a:gd name="textAreaBottom" fmla="*/ 1133280 h 116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37320" y="4737240"/>
              <a:ext cx="182052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owest Ont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sub-domain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2880" y="5410080"/>
              <a:ext cx="887760" cy="52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t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la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4800600" y="914400"/>
              <a:ext cx="1447920" cy="914400"/>
            </a:xfrm>
            <a:prstGeom prst="line">
              <a:avLst/>
            </a:prstGeom>
            <a:ln w="19080">
              <a:solidFill>
                <a:srgbClr val="3333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73640" y="60948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But Also Thi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80880" y="76320"/>
            <a:ext cx="842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Ontology: General Pi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F542-6B48-4B33-AA5A-F6EB56CD5D98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1117440"/>
            <a:ext cx="827244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Semantically Interoperable Electronic Commerce Marketplace</a:t>
            </a:r>
            <a:endParaRPr b="0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24680" y="1066680"/>
            <a:ext cx="121932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02080" y="5435640"/>
            <a:ext cx="990720" cy="380880"/>
          </a:xfrm>
          <a:prstGeom prst="bevel">
            <a:avLst>
              <a:gd name="adj" fmla="val 125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73960" y="5435640"/>
            <a:ext cx="990360" cy="380880"/>
          </a:xfrm>
          <a:prstGeom prst="bevel">
            <a:avLst>
              <a:gd name="adj" fmla="val 125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68760" y="5435640"/>
            <a:ext cx="990720" cy="380880"/>
          </a:xfrm>
          <a:prstGeom prst="bevel">
            <a:avLst>
              <a:gd name="adj" fmla="val 125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35400" y="5435640"/>
            <a:ext cx="990360" cy="380880"/>
          </a:xfrm>
          <a:prstGeom prst="bevel">
            <a:avLst>
              <a:gd name="adj" fmla="val 125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373560" y="3902040"/>
            <a:ext cx="4152600" cy="914400"/>
            <a:chOff x="3373560" y="3902040"/>
            <a:chExt cx="4152600" cy="914400"/>
          </a:xfrm>
        </p:grpSpPr>
        <p:sp>
          <p:nvSpPr>
            <p:cNvPr id="313" name=""/>
            <p:cNvSpPr/>
            <p:nvPr/>
          </p:nvSpPr>
          <p:spPr>
            <a:xfrm>
              <a:off x="3373560" y="3902040"/>
              <a:ext cx="914400" cy="914400"/>
            </a:xfrm>
            <a:prstGeom prst="donut">
              <a:avLst>
                <a:gd name="adj" fmla="val 937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ines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0240" y="3902040"/>
              <a:ext cx="914400" cy="914400"/>
            </a:xfrm>
            <a:prstGeom prst="donut">
              <a:avLst>
                <a:gd name="adj" fmla="val 937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506920" y="3902040"/>
              <a:ext cx="914400" cy="914400"/>
            </a:xfrm>
            <a:prstGeom prst="donut">
              <a:avLst>
                <a:gd name="adj" fmla="val 937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11760" y="3902040"/>
              <a:ext cx="914400" cy="914400"/>
            </a:xfrm>
            <a:prstGeom prst="donut">
              <a:avLst>
                <a:gd name="adj" fmla="val 937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in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636560" y="1685880"/>
            <a:ext cx="1339920" cy="37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-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5400" y="2065320"/>
            <a:ext cx="26780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per Ontology: Generic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95520" y="1287360"/>
            <a:ext cx="15188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44440" y="3219480"/>
            <a:ext cx="12124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60480" y="6281640"/>
            <a:ext cx="170316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46920" y="1289160"/>
            <a:ext cx="12124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3852720" y="4784760"/>
            <a:ext cx="3268800" cy="577800"/>
            <a:chOff x="3852720" y="4784760"/>
            <a:chExt cx="3268800" cy="577800"/>
          </a:xfrm>
        </p:grpSpPr>
        <p:sp>
          <p:nvSpPr>
            <p:cNvPr id="324" name=""/>
            <p:cNvSpPr/>
            <p:nvPr/>
          </p:nvSpPr>
          <p:spPr>
            <a:xfrm>
              <a:off x="3852720" y="4784760"/>
              <a:ext cx="0" cy="577800"/>
            </a:xfrm>
            <a:prstGeom prst="line">
              <a:avLst/>
            </a:prstGeom>
            <a:ln w="28440">
              <a:solidFill>
                <a:srgbClr val="ff8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41720" y="4784760"/>
              <a:ext cx="0" cy="577800"/>
            </a:xfrm>
            <a:prstGeom prst="line">
              <a:avLst/>
            </a:prstGeom>
            <a:ln w="28440">
              <a:solidFill>
                <a:srgbClr val="ff8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31080" y="4784760"/>
              <a:ext cx="0" cy="577800"/>
            </a:xfrm>
            <a:prstGeom prst="line">
              <a:avLst/>
            </a:prstGeom>
            <a:ln w="28440">
              <a:solidFill>
                <a:srgbClr val="ff8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21520" y="4784760"/>
              <a:ext cx="0" cy="577800"/>
            </a:xfrm>
            <a:prstGeom prst="line">
              <a:avLst/>
            </a:prstGeom>
            <a:ln w="28440">
              <a:solidFill>
                <a:srgbClr val="ff81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651120" y="5981760"/>
            <a:ext cx="433440" cy="40464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13120" y="5981760"/>
            <a:ext cx="433440" cy="40464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76920" y="5981760"/>
            <a:ext cx="433440" cy="40464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40360" y="5932440"/>
            <a:ext cx="433440" cy="40500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98960" y="5870520"/>
            <a:ext cx="166680" cy="317520"/>
          </a:xfrm>
          <a:custGeom>
            <a:avLst/>
            <a:gdLst/>
            <a:ahLst/>
            <a:rect l="l" t="t" r="r" b="b"/>
            <a:pathLst>
              <a:path w="105" h="200">
                <a:moveTo>
                  <a:pt x="27" y="200"/>
                </a:moveTo>
                <a:cubicBezTo>
                  <a:pt x="66" y="162"/>
                  <a:pt x="105" y="124"/>
                  <a:pt x="100" y="91"/>
                </a:cubicBezTo>
                <a:cubicBezTo>
                  <a:pt x="95" y="58"/>
                  <a:pt x="18" y="14"/>
                  <a:pt x="0" y="0"/>
                </a:cubicBezTo>
              </a:path>
            </a:pathLst>
          </a:custGeom>
          <a:noFill/>
          <a:ln w="2844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68880" y="5870520"/>
            <a:ext cx="166680" cy="317520"/>
          </a:xfrm>
          <a:custGeom>
            <a:avLst/>
            <a:gdLst/>
            <a:ahLst/>
            <a:rect l="l" t="t" r="r" b="b"/>
            <a:pathLst>
              <a:path w="105" h="200">
                <a:moveTo>
                  <a:pt x="27" y="200"/>
                </a:moveTo>
                <a:cubicBezTo>
                  <a:pt x="66" y="162"/>
                  <a:pt x="105" y="124"/>
                  <a:pt x="100" y="91"/>
                </a:cubicBezTo>
                <a:cubicBezTo>
                  <a:pt x="95" y="58"/>
                  <a:pt x="18" y="14"/>
                  <a:pt x="0" y="0"/>
                </a:cubicBezTo>
              </a:path>
            </a:pathLst>
          </a:custGeom>
          <a:noFill/>
          <a:ln w="2844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40600" y="5870520"/>
            <a:ext cx="166680" cy="317520"/>
          </a:xfrm>
          <a:custGeom>
            <a:avLst/>
            <a:gdLst/>
            <a:ahLst/>
            <a:rect l="l" t="t" r="r" b="b"/>
            <a:pathLst>
              <a:path w="105" h="200">
                <a:moveTo>
                  <a:pt x="27" y="200"/>
                </a:moveTo>
                <a:cubicBezTo>
                  <a:pt x="66" y="162"/>
                  <a:pt x="105" y="124"/>
                  <a:pt x="100" y="91"/>
                </a:cubicBezTo>
                <a:cubicBezTo>
                  <a:pt x="95" y="58"/>
                  <a:pt x="18" y="14"/>
                  <a:pt x="0" y="0"/>
                </a:cubicBezTo>
              </a:path>
            </a:pathLst>
          </a:custGeom>
          <a:noFill/>
          <a:ln w="2844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97560" y="5870520"/>
            <a:ext cx="167040" cy="317520"/>
          </a:xfrm>
          <a:custGeom>
            <a:avLst/>
            <a:gdLst/>
            <a:ahLst/>
            <a:rect l="l" t="t" r="r" b="b"/>
            <a:pathLst>
              <a:path w="105" h="200">
                <a:moveTo>
                  <a:pt x="27" y="200"/>
                </a:moveTo>
                <a:cubicBezTo>
                  <a:pt x="66" y="162"/>
                  <a:pt x="105" y="124"/>
                  <a:pt x="100" y="91"/>
                </a:cubicBezTo>
                <a:cubicBezTo>
                  <a:pt x="95" y="58"/>
                  <a:pt x="18" y="14"/>
                  <a:pt x="0" y="0"/>
                </a:cubicBezTo>
              </a:path>
            </a:pathLst>
          </a:custGeom>
          <a:noFill/>
          <a:ln w="2844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687840" y="3589200"/>
            <a:ext cx="3489120" cy="142920"/>
            <a:chOff x="3687840" y="3589200"/>
            <a:chExt cx="3489120" cy="142920"/>
          </a:xfrm>
        </p:grpSpPr>
        <p:sp>
          <p:nvSpPr>
            <p:cNvPr id="337" name=""/>
            <p:cNvSpPr/>
            <p:nvPr/>
          </p:nvSpPr>
          <p:spPr>
            <a:xfrm>
              <a:off x="3687840" y="3595320"/>
              <a:ext cx="1636560" cy="86040"/>
            </a:xfrm>
            <a:custGeom>
              <a:avLst/>
              <a:gdLst/>
              <a:ahLst/>
              <a:rect l="l" t="t" r="r" b="b"/>
              <a:pathLst>
                <a:path w="1031" h="54">
                  <a:moveTo>
                    <a:pt x="1031" y="8"/>
                  </a:moveTo>
                  <a:cubicBezTo>
                    <a:pt x="674" y="4"/>
                    <a:pt x="318" y="0"/>
                    <a:pt x="159" y="8"/>
                  </a:cubicBezTo>
                  <a:cubicBezTo>
                    <a:pt x="0" y="16"/>
                    <a:pt x="38" y="35"/>
                    <a:pt x="77" y="54"/>
                  </a:cubicBezTo>
                </a:path>
              </a:pathLst>
            </a:custGeom>
            <a:noFill/>
            <a:ln w="28440">
              <a:solidFill>
                <a:srgbClr val="ff81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540400" y="3589200"/>
              <a:ext cx="1636560" cy="85680"/>
            </a:xfrm>
            <a:custGeom>
              <a:avLst/>
              <a:gdLst/>
              <a:ahLst/>
              <a:rect l="l" t="t" r="r" b="b"/>
              <a:pathLst>
                <a:path w="1031" h="54">
                  <a:moveTo>
                    <a:pt x="1031" y="8"/>
                  </a:moveTo>
                  <a:cubicBezTo>
                    <a:pt x="674" y="4"/>
                    <a:pt x="318" y="0"/>
                    <a:pt x="159" y="8"/>
                  </a:cubicBezTo>
                  <a:cubicBezTo>
                    <a:pt x="0" y="16"/>
                    <a:pt x="38" y="35"/>
                    <a:pt x="77" y="54"/>
                  </a:cubicBezTo>
                </a:path>
              </a:pathLst>
            </a:custGeom>
            <a:noFill/>
            <a:ln w="28440">
              <a:solidFill>
                <a:srgbClr val="ff81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48120" y="3608280"/>
              <a:ext cx="231840" cy="115920"/>
            </a:xfrm>
            <a:custGeom>
              <a:avLst/>
              <a:gdLst/>
              <a:ahLst/>
              <a:rect l="l" t="t" r="r" b="b"/>
              <a:pathLst>
                <a:path w="146" h="73">
                  <a:moveTo>
                    <a:pt x="146" y="0"/>
                  </a:moveTo>
                  <a:cubicBezTo>
                    <a:pt x="85" y="31"/>
                    <a:pt x="24" y="62"/>
                    <a:pt x="0" y="73"/>
                  </a:cubicBezTo>
                </a:path>
              </a:pathLst>
            </a:custGeom>
            <a:noFill/>
            <a:ln w="28440">
              <a:solidFill>
                <a:srgbClr val="ff81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708520" y="3616200"/>
              <a:ext cx="231840" cy="115920"/>
            </a:xfrm>
            <a:custGeom>
              <a:avLst/>
              <a:gdLst/>
              <a:ahLst/>
              <a:rect l="l" t="t" r="r" b="b"/>
              <a:pathLst>
                <a:path w="146" h="73">
                  <a:moveTo>
                    <a:pt x="146" y="0"/>
                  </a:moveTo>
                  <a:cubicBezTo>
                    <a:pt x="85" y="31"/>
                    <a:pt x="24" y="62"/>
                    <a:pt x="0" y="73"/>
                  </a:cubicBezTo>
                </a:path>
              </a:pathLst>
            </a:custGeom>
            <a:noFill/>
            <a:ln w="28440">
              <a:solidFill>
                <a:srgbClr val="ff81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005360" y="4851000"/>
            <a:ext cx="3268440" cy="577800"/>
            <a:chOff x="4005360" y="4851000"/>
            <a:chExt cx="3268440" cy="577800"/>
          </a:xfrm>
        </p:grpSpPr>
        <p:sp>
          <p:nvSpPr>
            <p:cNvPr id="342" name=""/>
            <p:cNvSpPr/>
            <p:nvPr/>
          </p:nvSpPr>
          <p:spPr>
            <a:xfrm flipV="1">
              <a:off x="4005360" y="4851000"/>
              <a:ext cx="0" cy="5778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94000" y="4851000"/>
              <a:ext cx="0" cy="5778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183360" y="4851000"/>
              <a:ext cx="0" cy="5778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7273800" y="4851000"/>
              <a:ext cx="0" cy="5778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840120" y="3727080"/>
            <a:ext cx="3489120" cy="142920"/>
            <a:chOff x="3840120" y="3727080"/>
            <a:chExt cx="3489120" cy="142920"/>
          </a:xfrm>
        </p:grpSpPr>
        <p:sp>
          <p:nvSpPr>
            <p:cNvPr id="347" name=""/>
            <p:cNvSpPr/>
            <p:nvPr/>
          </p:nvSpPr>
          <p:spPr>
            <a:xfrm flipV="1">
              <a:off x="3840120" y="3777480"/>
              <a:ext cx="1636560" cy="86040"/>
            </a:xfrm>
            <a:custGeom>
              <a:avLst/>
              <a:gdLst/>
              <a:ahLst/>
              <a:rect l="l" t="t" r="r" b="b"/>
              <a:pathLst>
                <a:path w="1031" h="54">
                  <a:moveTo>
                    <a:pt x="1031" y="8"/>
                  </a:moveTo>
                  <a:cubicBezTo>
                    <a:pt x="674" y="4"/>
                    <a:pt x="318" y="0"/>
                    <a:pt x="159" y="8"/>
                  </a:cubicBezTo>
                  <a:cubicBezTo>
                    <a:pt x="0" y="16"/>
                    <a:pt x="38" y="35"/>
                    <a:pt x="77" y="54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5692680" y="3784320"/>
              <a:ext cx="1636560" cy="85680"/>
            </a:xfrm>
            <a:custGeom>
              <a:avLst/>
              <a:gdLst/>
              <a:ahLst/>
              <a:rect l="l" t="t" r="r" b="b"/>
              <a:pathLst>
                <a:path w="1031" h="54">
                  <a:moveTo>
                    <a:pt x="1031" y="8"/>
                  </a:moveTo>
                  <a:cubicBezTo>
                    <a:pt x="674" y="4"/>
                    <a:pt x="318" y="0"/>
                    <a:pt x="159" y="8"/>
                  </a:cubicBezTo>
                  <a:cubicBezTo>
                    <a:pt x="0" y="16"/>
                    <a:pt x="38" y="35"/>
                    <a:pt x="77" y="54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000400" y="3735000"/>
              <a:ext cx="231840" cy="115920"/>
            </a:xfrm>
            <a:custGeom>
              <a:avLst/>
              <a:gdLst/>
              <a:ahLst/>
              <a:rect l="l" t="t" r="r" b="b"/>
              <a:pathLst>
                <a:path w="146" h="73">
                  <a:moveTo>
                    <a:pt x="146" y="0"/>
                  </a:moveTo>
                  <a:cubicBezTo>
                    <a:pt x="85" y="31"/>
                    <a:pt x="24" y="62"/>
                    <a:pt x="0" y="73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5860800" y="3727080"/>
              <a:ext cx="231840" cy="115920"/>
            </a:xfrm>
            <a:custGeom>
              <a:avLst/>
              <a:gdLst/>
              <a:ahLst/>
              <a:rect l="l" t="t" r="r" b="b"/>
              <a:pathLst>
                <a:path w="146" h="73">
                  <a:moveTo>
                    <a:pt x="146" y="0"/>
                  </a:moveTo>
                  <a:cubicBezTo>
                    <a:pt x="85" y="31"/>
                    <a:pt x="24" y="62"/>
                    <a:pt x="0" y="73"/>
                  </a:cubicBezTo>
                </a:path>
              </a:pathLst>
            </a:custGeom>
            <a:noFill/>
            <a:ln w="2844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3170160" y="6070680"/>
            <a:ext cx="3622680" cy="453600"/>
            <a:chOff x="3170160" y="6070680"/>
            <a:chExt cx="3622680" cy="453600"/>
          </a:xfrm>
        </p:grpSpPr>
        <p:sp>
          <p:nvSpPr>
            <p:cNvPr id="352" name=""/>
            <p:cNvSpPr/>
            <p:nvPr/>
          </p:nvSpPr>
          <p:spPr>
            <a:xfrm>
              <a:off x="3170160" y="6119640"/>
              <a:ext cx="433440" cy="40464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32160" y="6119640"/>
              <a:ext cx="433440" cy="40464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95600" y="6119640"/>
              <a:ext cx="433440" cy="40464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59400" y="6070680"/>
              <a:ext cx="433440" cy="404640"/>
            </a:xfrm>
            <a:prstGeom prst="can">
              <a:avLst>
                <a:gd name="adj" fmla="val 25000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02960" y="5827680"/>
            <a:ext cx="1602720" cy="74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90840" y="6431040"/>
            <a:ext cx="504720" cy="301680"/>
          </a:xfrm>
          <a:custGeom>
            <a:avLst/>
            <a:gdLst/>
            <a:ahLst/>
            <a:rect l="l" t="t" r="r" b="b"/>
            <a:pathLst>
              <a:path w="318" h="190">
                <a:moveTo>
                  <a:pt x="0" y="100"/>
                </a:moveTo>
                <a:cubicBezTo>
                  <a:pt x="60" y="145"/>
                  <a:pt x="120" y="190"/>
                  <a:pt x="173" y="173"/>
                </a:cubicBezTo>
                <a:cubicBezTo>
                  <a:pt x="226" y="156"/>
                  <a:pt x="294" y="29"/>
                  <a:pt x="318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83080" y="6431040"/>
            <a:ext cx="504720" cy="301680"/>
          </a:xfrm>
          <a:custGeom>
            <a:avLst/>
            <a:gdLst/>
            <a:ahLst/>
            <a:rect l="l" t="t" r="r" b="b"/>
            <a:pathLst>
              <a:path w="318" h="190">
                <a:moveTo>
                  <a:pt x="0" y="100"/>
                </a:moveTo>
                <a:cubicBezTo>
                  <a:pt x="60" y="145"/>
                  <a:pt x="120" y="190"/>
                  <a:pt x="173" y="173"/>
                </a:cubicBezTo>
                <a:cubicBezTo>
                  <a:pt x="226" y="156"/>
                  <a:pt x="294" y="29"/>
                  <a:pt x="318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575320" y="6431040"/>
            <a:ext cx="504720" cy="301680"/>
          </a:xfrm>
          <a:custGeom>
            <a:avLst/>
            <a:gdLst/>
            <a:ahLst/>
            <a:rect l="l" t="t" r="r" b="b"/>
            <a:pathLst>
              <a:path w="318" h="190">
                <a:moveTo>
                  <a:pt x="0" y="100"/>
                </a:moveTo>
                <a:cubicBezTo>
                  <a:pt x="60" y="145"/>
                  <a:pt x="120" y="190"/>
                  <a:pt x="173" y="173"/>
                </a:cubicBezTo>
                <a:cubicBezTo>
                  <a:pt x="226" y="156"/>
                  <a:pt x="294" y="29"/>
                  <a:pt x="318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667560" y="6429240"/>
            <a:ext cx="504720" cy="301680"/>
          </a:xfrm>
          <a:custGeom>
            <a:avLst/>
            <a:gdLst/>
            <a:ahLst/>
            <a:rect l="l" t="t" r="r" b="b"/>
            <a:pathLst>
              <a:path w="318" h="190">
                <a:moveTo>
                  <a:pt x="0" y="100"/>
                </a:moveTo>
                <a:cubicBezTo>
                  <a:pt x="60" y="145"/>
                  <a:pt x="120" y="190"/>
                  <a:pt x="173" y="173"/>
                </a:cubicBezTo>
                <a:cubicBezTo>
                  <a:pt x="226" y="156"/>
                  <a:pt x="294" y="29"/>
                  <a:pt x="318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66920" y="3808440"/>
            <a:ext cx="1790640" cy="54756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Meta-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02360" y="2109960"/>
            <a:ext cx="2043000" cy="785520"/>
          </a:xfrm>
          <a:prstGeom prst="bevel">
            <a:avLst>
              <a:gd name="adj" fmla="val 125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Knowledge/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56240" y="1515960"/>
            <a:ext cx="547560" cy="519120"/>
          </a:xfrm>
          <a:custGeom>
            <a:avLst/>
            <a:gdLst/>
            <a:ahLst/>
            <a:rect l="l" t="t" r="r" b="b"/>
            <a:pathLst>
              <a:path w="345" h="327">
                <a:moveTo>
                  <a:pt x="345" y="0"/>
                </a:moveTo>
                <a:cubicBezTo>
                  <a:pt x="241" y="0"/>
                  <a:pt x="138" y="0"/>
                  <a:pt x="81" y="54"/>
                </a:cubicBezTo>
                <a:cubicBezTo>
                  <a:pt x="24" y="108"/>
                  <a:pt x="15" y="281"/>
                  <a:pt x="0" y="327"/>
                </a:cubicBezTo>
              </a:path>
            </a:pathLst>
          </a:custGeom>
          <a:noFill/>
          <a:ln w="28440">
            <a:solidFill>
              <a:srgbClr val="ff81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43600" y="2959200"/>
            <a:ext cx="1390680" cy="274680"/>
          </a:xfrm>
          <a:custGeom>
            <a:avLst/>
            <a:gdLst/>
            <a:ahLst/>
            <a:rect l="l" t="t" r="r" b="b"/>
            <a:pathLst>
              <a:path w="876" h="173">
                <a:moveTo>
                  <a:pt x="769" y="0"/>
                </a:moveTo>
                <a:cubicBezTo>
                  <a:pt x="822" y="60"/>
                  <a:pt x="876" y="121"/>
                  <a:pt x="769" y="136"/>
                </a:cubicBezTo>
                <a:cubicBezTo>
                  <a:pt x="662" y="151"/>
                  <a:pt x="248" y="85"/>
                  <a:pt x="124" y="91"/>
                </a:cubicBezTo>
                <a:cubicBezTo>
                  <a:pt x="0" y="97"/>
                  <a:pt x="12" y="135"/>
                  <a:pt x="24" y="173"/>
                </a:cubicBezTo>
              </a:path>
            </a:pathLst>
          </a:custGeom>
          <a:noFill/>
          <a:ln w="28440">
            <a:solidFill>
              <a:srgbClr val="ff81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551640" y="1660680"/>
            <a:ext cx="347760" cy="388800"/>
          </a:xfrm>
          <a:custGeom>
            <a:avLst/>
            <a:gdLst/>
            <a:ahLst/>
            <a:rect l="l" t="t" r="r" b="b"/>
            <a:pathLst>
              <a:path w="219" h="245">
                <a:moveTo>
                  <a:pt x="0" y="245"/>
                </a:moveTo>
                <a:cubicBezTo>
                  <a:pt x="99" y="224"/>
                  <a:pt x="199" y="204"/>
                  <a:pt x="209" y="163"/>
                </a:cubicBezTo>
                <a:cubicBezTo>
                  <a:pt x="219" y="122"/>
                  <a:pt x="141" y="61"/>
                  <a:pt x="63" y="0"/>
                </a:cubicBezTo>
              </a:path>
            </a:pathLst>
          </a:custGeom>
          <a:noFill/>
          <a:ln w="2844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4400" y="2944800"/>
            <a:ext cx="1476360" cy="415800"/>
          </a:xfrm>
          <a:custGeom>
            <a:avLst/>
            <a:gdLst/>
            <a:ahLst/>
            <a:rect l="l" t="t" r="r" b="b"/>
            <a:pathLst>
              <a:path w="930" h="262">
                <a:moveTo>
                  <a:pt x="0" y="236"/>
                </a:moveTo>
                <a:cubicBezTo>
                  <a:pt x="8" y="202"/>
                  <a:pt x="16" y="169"/>
                  <a:pt x="146" y="172"/>
                </a:cubicBezTo>
                <a:cubicBezTo>
                  <a:pt x="276" y="175"/>
                  <a:pt x="652" y="246"/>
                  <a:pt x="782" y="254"/>
                </a:cubicBezTo>
                <a:cubicBezTo>
                  <a:pt x="912" y="262"/>
                  <a:pt x="924" y="260"/>
                  <a:pt x="927" y="218"/>
                </a:cubicBezTo>
                <a:cubicBezTo>
                  <a:pt x="930" y="176"/>
                  <a:pt x="865" y="88"/>
                  <a:pt x="800" y="0"/>
                </a:cubicBezTo>
              </a:path>
            </a:pathLst>
          </a:custGeom>
          <a:noFill/>
          <a:ln w="2844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76280" y="4408560"/>
            <a:ext cx="1790640" cy="54756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ny  Meta-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65360" y="2827440"/>
            <a:ext cx="1339920" cy="37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65360" y="3201840"/>
            <a:ext cx="1339920" cy="381240"/>
          </a:xfrm>
          <a:prstGeom prst="rect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a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35320" y="2446200"/>
            <a:ext cx="1338120" cy="38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5400" y="2446200"/>
            <a:ext cx="1339920" cy="38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09960" y="2836800"/>
            <a:ext cx="13399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pp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6880" y="2836800"/>
            <a:ext cx="133992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91040" y="2460600"/>
            <a:ext cx="2077920" cy="2112840"/>
          </a:xfrm>
          <a:custGeom>
            <a:avLst/>
            <a:gdLst/>
            <a:ahLst/>
            <a:rect l="l" t="t" r="r" b="b"/>
            <a:pathLst>
              <a:path w="1218" h="1322">
                <a:moveTo>
                  <a:pt x="1218" y="68"/>
                </a:moveTo>
                <a:cubicBezTo>
                  <a:pt x="1166" y="34"/>
                  <a:pt x="1115" y="0"/>
                  <a:pt x="1054" y="77"/>
                </a:cubicBezTo>
                <a:cubicBezTo>
                  <a:pt x="993" y="154"/>
                  <a:pt x="975" y="446"/>
                  <a:pt x="854" y="531"/>
                </a:cubicBezTo>
                <a:cubicBezTo>
                  <a:pt x="733" y="616"/>
                  <a:pt x="456" y="488"/>
                  <a:pt x="327" y="586"/>
                </a:cubicBezTo>
                <a:cubicBezTo>
                  <a:pt x="198" y="684"/>
                  <a:pt x="135" y="999"/>
                  <a:pt x="81" y="1122"/>
                </a:cubicBezTo>
                <a:cubicBezTo>
                  <a:pt x="27" y="1245"/>
                  <a:pt x="13" y="1283"/>
                  <a:pt x="0" y="1322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71960" y="2671920"/>
            <a:ext cx="2047680" cy="1406520"/>
          </a:xfrm>
          <a:custGeom>
            <a:avLst/>
            <a:gdLst/>
            <a:ahLst/>
            <a:rect l="l" t="t" r="r" b="b"/>
            <a:pathLst>
              <a:path w="1218" h="1322">
                <a:moveTo>
                  <a:pt x="1218" y="68"/>
                </a:moveTo>
                <a:cubicBezTo>
                  <a:pt x="1166" y="34"/>
                  <a:pt x="1115" y="0"/>
                  <a:pt x="1054" y="77"/>
                </a:cubicBezTo>
                <a:cubicBezTo>
                  <a:pt x="993" y="154"/>
                  <a:pt x="975" y="446"/>
                  <a:pt x="854" y="531"/>
                </a:cubicBezTo>
                <a:cubicBezTo>
                  <a:pt x="733" y="616"/>
                  <a:pt x="456" y="488"/>
                  <a:pt x="327" y="586"/>
                </a:cubicBezTo>
                <a:cubicBezTo>
                  <a:pt x="198" y="684"/>
                  <a:pt x="135" y="999"/>
                  <a:pt x="81" y="1122"/>
                </a:cubicBezTo>
                <a:cubicBezTo>
                  <a:pt x="27" y="1245"/>
                  <a:pt x="13" y="1283"/>
                  <a:pt x="0" y="1322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-33480" y="1192320"/>
            <a:ext cx="5199120" cy="4883040"/>
            <a:chOff x="-33480" y="1192320"/>
            <a:chExt cx="5199120" cy="4883040"/>
          </a:xfrm>
        </p:grpSpPr>
        <p:sp>
          <p:nvSpPr>
            <p:cNvPr id="377" name=""/>
            <p:cNvSpPr/>
            <p:nvPr/>
          </p:nvSpPr>
          <p:spPr>
            <a:xfrm flipH="1">
              <a:off x="793440" y="3276720"/>
              <a:ext cx="692280" cy="67788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-33480" y="1192320"/>
              <a:ext cx="5199120" cy="4883040"/>
              <a:chOff x="-33480" y="1192320"/>
              <a:chExt cx="5199120" cy="4883040"/>
            </a:xfrm>
          </p:grpSpPr>
          <p:sp>
            <p:nvSpPr>
              <p:cNvPr id="379" name=""/>
              <p:cNvSpPr/>
              <p:nvPr/>
            </p:nvSpPr>
            <p:spPr>
              <a:xfrm>
                <a:off x="187200" y="4025880"/>
                <a:ext cx="1055880" cy="1298520"/>
              </a:xfrm>
              <a:prstGeom prst="cube">
                <a:avLst>
                  <a:gd name="adj" fmla="val 25000"/>
                </a:avLst>
              </a:prstGeom>
              <a:solidFill>
                <a:srgbClr val="81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ntology &amp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ason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9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ervi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39760" y="5253120"/>
                <a:ext cx="2049480" cy="822240"/>
              </a:xfrm>
              <a:custGeom>
                <a:avLst/>
                <a:gdLst/>
                <a:ahLst/>
                <a:rect l="l" t="t" r="r" b="b"/>
                <a:pathLst>
                  <a:path w="1291" h="518">
                    <a:moveTo>
                      <a:pt x="0" y="0"/>
                    </a:moveTo>
                    <a:cubicBezTo>
                      <a:pt x="167" y="106"/>
                      <a:pt x="335" y="212"/>
                      <a:pt x="500" y="255"/>
                    </a:cubicBezTo>
                    <a:cubicBezTo>
                      <a:pt x="665" y="298"/>
                      <a:pt x="859" y="211"/>
                      <a:pt x="991" y="255"/>
                    </a:cubicBezTo>
                    <a:cubicBezTo>
                      <a:pt x="1123" y="299"/>
                      <a:pt x="1207" y="408"/>
                      <a:pt x="1291" y="518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-33480" y="1192320"/>
                <a:ext cx="5199120" cy="2719440"/>
              </a:xfrm>
              <a:custGeom>
                <a:avLst/>
                <a:gdLst/>
                <a:ahLst/>
                <a:rect l="l" t="t" r="r" b="b"/>
                <a:pathLst>
                  <a:path w="3275" h="1713">
                    <a:moveTo>
                      <a:pt x="357" y="1713"/>
                    </a:moveTo>
                    <a:cubicBezTo>
                      <a:pt x="270" y="1676"/>
                      <a:pt x="184" y="1640"/>
                      <a:pt x="139" y="1449"/>
                    </a:cubicBezTo>
                    <a:cubicBezTo>
                      <a:pt x="94" y="1258"/>
                      <a:pt x="0" y="796"/>
                      <a:pt x="85" y="567"/>
                    </a:cubicBezTo>
                    <a:cubicBezTo>
                      <a:pt x="170" y="338"/>
                      <a:pt x="310" y="152"/>
                      <a:pt x="648" y="76"/>
                    </a:cubicBezTo>
                    <a:cubicBezTo>
                      <a:pt x="986" y="0"/>
                      <a:pt x="1674" y="33"/>
                      <a:pt x="2112" y="113"/>
                    </a:cubicBezTo>
                    <a:cubicBezTo>
                      <a:pt x="2550" y="193"/>
                      <a:pt x="2912" y="375"/>
                      <a:pt x="3275" y="558"/>
                    </a:cubicBezTo>
                  </a:path>
                </a:pathLst>
              </a:custGeom>
              <a:noFill/>
              <a:ln w="28440">
                <a:solidFill>
                  <a:srgbClr val="3333ff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" name=""/>
          <p:cNvGrpSpPr/>
          <p:nvPr/>
        </p:nvGrpSpPr>
        <p:grpSpPr>
          <a:xfrm>
            <a:off x="7983360" y="1282680"/>
            <a:ext cx="1068480" cy="4930920"/>
            <a:chOff x="7983360" y="1282680"/>
            <a:chExt cx="1068480" cy="4930920"/>
          </a:xfrm>
        </p:grpSpPr>
        <p:sp>
          <p:nvSpPr>
            <p:cNvPr id="383" name=""/>
            <p:cNvSpPr txBox="1"/>
            <p:nvPr/>
          </p:nvSpPr>
          <p:spPr>
            <a:xfrm rot="5400000">
              <a:off x="6641280" y="3521880"/>
              <a:ext cx="4449600" cy="3715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Transac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 rot="5400000">
              <a:off x="7089120" y="2274840"/>
              <a:ext cx="2355840" cy="37116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Search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 rot="5400000">
              <a:off x="7091280" y="4849920"/>
              <a:ext cx="2355840" cy="3715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Find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83360" y="3782880"/>
              <a:ext cx="5763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8567640" y="1481040"/>
              <a:ext cx="1440" cy="4546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081520" y="5068800"/>
            <a:ext cx="11804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EAA0-70CD-4C7D-A034-F40A4AFE93C0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Some Problems &amp; Issues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58560" y="149688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 fontScale="93000"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ty-centric modeling vs. process-cen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: sellable items, capital items vs. consumables (MRO: maintenance, repair, &amp; operation), properties/values, parametric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: hierarchic/com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5520" indent="-191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ervice support: UDDI, ebXML, DAML-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: buyer environment, process/workflow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(taxonomies, attributes, protocols,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al Standard Products and Services Class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NSPSC), NAICS, eClass, RosettaNe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, EDI, Semantic Web, Emerging Web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Knowledge + Ontology Engineering (Mode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ication &amp; Val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CBDB-8768-4D0B-8E2A-B02B999BBB0E}" type="slidenum">
              <a:t>8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Some Problems &amp; Issues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8560" y="1496880"/>
            <a:ext cx="8391240" cy="43372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1400" bIns="41400" anchor="t">
            <a:normAutofit/>
          </a:bodyPr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echnical notions of “ontolog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y as Namespace (unique concept naming standar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y as Theory (any node is a root subsuming a theory or subtheory/subont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ology as Work Module (for concurrent development, ownership, locking/unlocking, versio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Ontology/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ing to domains, UoM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Ontology (validation, to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-properties of taxonomic (subclass, instance-of) 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640" indent="-24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Guarino &amp; Welty (2000), IFF (Kent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67DA-B96D-4FE8-B260-CEB8296665D3}" type="slidenum">
              <a:t>9</a:t>
            </a:fld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6T12:35:09Z</dcterms:created>
  <dc:creator>Leo OBRST</dc:creator>
  <dc:description/>
  <cp:keywords>XML Registry</cp:keywords>
  <dc:language>en-US</dc:language>
  <cp:lastModifiedBy>The MITRE Corporation</cp:lastModifiedBy>
  <dcterms:modified xsi:type="dcterms:W3CDTF">2001-11-06T21:06:18Z</dcterms:modified>
  <cp:revision>371</cp:revision>
  <dc:subject>Presentation to Medical Community</dc:subject>
  <dc:title>XML Mgmt</dc:title>
</cp:coreProperties>
</file>